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:bfg_logo.jpg"/>
          <p:cNvPicPr/>
          <p:nvPr/>
        </p:nvPicPr>
        <p:blipFill>
          <a:blip r:embed="rId2"/>
          <a:stretch/>
        </p:blipFill>
        <p:spPr>
          <a:xfrm>
            <a:off x="7451640" y="163440"/>
            <a:ext cx="1360440" cy="466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Logo_transparent"/>
          <p:cNvPicPr/>
          <p:nvPr/>
        </p:nvPicPr>
        <p:blipFill>
          <a:blip r:embed="rId3"/>
          <a:stretch/>
        </p:blipFill>
        <p:spPr>
          <a:xfrm>
            <a:off x="309600" y="0"/>
            <a:ext cx="61596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7812000" y="6524640"/>
            <a:ext cx="924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B2ED6C8-603A-4484-B94E-C1885971393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181080" y="6526080"/>
            <a:ext cx="619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. Beratung der Ad-hoc-Expertengruppe Sedimentmanagement der IKSE. Prag, 05.-06.02.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700280"/>
            <a:ext cx="849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Beratung der Ad-hoc-Expertengruppe Sedimentmanagement der IK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g, 05.-06.02.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chluss des Vorhab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826920" y="126828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84360" y="1342080"/>
            <a:ext cx="764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plan für den Abschluss des Vorhab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dimentmanagementkonzept der IKS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4./05.02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KSE-Workshop „Sedimentmanagement“ in P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6./07.02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 EG-Sedimentmanagement (EG Sedi)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8./19.03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G WFD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8./09.04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. EG-Sedimentmanagement (EG Sedi)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14./15.05.2013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ratung der Delegationsleiter/innen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./04.09.20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atung der Arbeitsgruppe WFD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Oktober 2013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Tagung der I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6875640" y="4797360"/>
          <a:ext cx="914400" cy="74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5640" y="4797360"/>
                    <a:ext cx="9144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9640" y="1125360"/>
            <a:ext cx="813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edimentmanagementkonzept der IK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CZ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Schadstoffasp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Quantitativer/schifffahrtlicher Asp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 3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Arial"/>
              </a:rPr>
              <a:t>Hydromorphologischer Asp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92360" y="5564160"/>
            <a:ext cx="3959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0c33"/>
                </a:solidFill>
                <a:latin typeface="Arial"/>
              </a:rPr>
              <a:t>Aus überregionaler S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1197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eilensteine zum IKSE-Sedimentmanagement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7777080" cy="263196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7451640" y="3429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flipH="1" flipV="1" rot="10800000">
            <a:off x="8388360" y="3429000"/>
            <a:ext cx="287280" cy="504720"/>
          </a:xfrm>
          <a:prstGeom prst="triangle">
            <a:avLst>
              <a:gd name="adj" fmla="val 50000"/>
            </a:avLst>
          </a:prstGeom>
          <a:solidFill>
            <a:srgbClr val="f80c33"/>
          </a:solidFill>
          <a:ln w="9360">
            <a:solidFill>
              <a:srgbClr val="f8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 rot="16200000">
            <a:off x="8020080" y="28425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t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7596360" y="4365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853272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84360" y="5445000"/>
            <a:ext cx="7705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0c33"/>
                </a:solidFill>
                <a:latin typeface="Arial"/>
              </a:rPr>
              <a:t>Auf Grund der Komplexität und Kompliziertheit des Themas ist eine “lupenreine” Trennung zwischen den Meilensteinen nicht mö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178020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S 4: Beitrag zur Ausarbeitung des 2. BWPl. durch  “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Sediment-managementkonzept der IKSE – Vorschläge für eine gute Sedimentmanagementpraxis im Elbegebiet zur Erreichung überregionaler Handlungsziel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33915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icht Ziel: Aufstellung eines Maßnahmenprogra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9"/>
          <p:cNvSpPr/>
          <p:nvPr/>
        </p:nvSpPr>
        <p:spPr>
          <a:xfrm>
            <a:off x="615240" y="126792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Konzeptübers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916280"/>
          <a:ext cx="7750440" cy="3870000"/>
        </p:xfrm>
        <a:graphic>
          <a:graphicData uri="http://schemas.openxmlformats.org/drawingml/2006/table">
            <a:tbl>
              <a:tblPr/>
              <a:tblGrid>
                <a:gridCol w="3805200"/>
                <a:gridCol w="394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r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ösungsansat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und Systemgrenzen definie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amtes Flussgebi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Überregionale S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des Systems erfassen und klassifizie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kato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gestufte Anwendung der Indikato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ikoanalyse (Status vs. Zi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hropogene Ursachen/Quellen für Defizite (Status verfehlt Zi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ät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e und externe Quellen und Senken anthropogener Schadstof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ät/Schifffahrt und Hydromorpholog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e und indirekte Eingriffe in den Sedimenthaushalt/die Morpholog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sierung und Vorschläge für Maßnahmenplan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rstellung der  Ursache-Wirkungsbezieh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äumlich, ereignisbezog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rfachnutzen, technische Machbark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ßnahmenop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"/>
          <p:cNvSpPr/>
          <p:nvPr/>
        </p:nvSpPr>
        <p:spPr>
          <a:xfrm>
            <a:off x="2627280" y="3284640"/>
            <a:ext cx="3675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61928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9280" y="907920"/>
            <a:ext cx="8856720" cy="368280"/>
          </a:xfrm>
          <a:prstGeom prst="rect">
            <a:avLst/>
          </a:prstGeom>
          <a:solidFill>
            <a:srgbClr val="808000">
              <a:alpha val="40000"/>
            </a:srgbClr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8000"/>
                </a:solidFill>
                <a:latin typeface="Arial"/>
              </a:rPr>
              <a:t>Priorisierung &amp; Maßnahmenpla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9280" y="244440"/>
            <a:ext cx="885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sikoanalyse im Kontext des Sedimentmanagementkonzepts der FG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987640" y="494172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276720" y="692280"/>
            <a:ext cx="20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3708360" y="7635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300720" y="4508640"/>
            <a:ext cx="201636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492360" y="4508640"/>
            <a:ext cx="201636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45007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73087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161928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450072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 flipV="1">
            <a:off x="7308720" y="134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4500720" y="278136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2627280" y="3573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684360" y="3068640"/>
            <a:ext cx="1944720" cy="865080"/>
          </a:xfrm>
          <a:prstGeom prst="rect">
            <a:avLst/>
          </a:prstGeom>
          <a:solidFill>
            <a:srgbClr val="cccb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755640" y="32878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3"/>
          <p:cNvGrpSpPr/>
          <p:nvPr/>
        </p:nvGrpSpPr>
        <p:grpSpPr>
          <a:xfrm>
            <a:off x="6227640" y="3068640"/>
            <a:ext cx="2087640" cy="865080"/>
            <a:chOff x="6227640" y="3068640"/>
            <a:chExt cx="2087640" cy="865080"/>
          </a:xfrm>
        </p:grpSpPr>
        <p:sp>
          <p:nvSpPr>
            <p:cNvPr id="75" name="Rectangle 24"/>
            <p:cNvSpPr/>
            <p:nvPr/>
          </p:nvSpPr>
          <p:spPr>
            <a:xfrm>
              <a:off x="6300720" y="3068640"/>
              <a:ext cx="1944720" cy="865080"/>
            </a:xfrm>
            <a:prstGeom prst="rect">
              <a:avLst/>
            </a:prstGeom>
            <a:solidFill>
              <a:srgbClr val="cccbd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6227640" y="3192480"/>
              <a:ext cx="208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spek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Hydromorph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26"/>
          <p:cNvSpPr/>
          <p:nvPr/>
        </p:nvSpPr>
        <p:spPr>
          <a:xfrm>
            <a:off x="3492360" y="3068640"/>
            <a:ext cx="1944720" cy="865080"/>
          </a:xfrm>
          <a:prstGeom prst="rect">
            <a:avLst/>
          </a:prstGeom>
          <a:solidFill>
            <a:srgbClr val="cccb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565440" y="31399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t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ifffah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8"/>
          <p:cNvGrpSpPr/>
          <p:nvPr/>
        </p:nvGrpSpPr>
        <p:grpSpPr>
          <a:xfrm>
            <a:off x="324000" y="1844640"/>
            <a:ext cx="8351640" cy="649800"/>
            <a:chOff x="324000" y="1844640"/>
            <a:chExt cx="8351640" cy="649800"/>
          </a:xfrm>
        </p:grpSpPr>
        <p:grpSp>
          <p:nvGrpSpPr>
            <p:cNvPr id="80" name="Group 29"/>
            <p:cNvGrpSpPr/>
            <p:nvPr/>
          </p:nvGrpSpPr>
          <p:grpSpPr>
            <a:xfrm>
              <a:off x="3203640" y="1844640"/>
              <a:ext cx="2665440" cy="649800"/>
              <a:chOff x="3203640" y="1844640"/>
              <a:chExt cx="2665440" cy="649800"/>
            </a:xfrm>
          </p:grpSpPr>
          <p:sp>
            <p:nvSpPr>
              <p:cNvPr id="81" name="AutoShape 30"/>
              <p:cNvSpPr/>
              <p:nvPr/>
            </p:nvSpPr>
            <p:spPr>
              <a:xfrm>
                <a:off x="320364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1"/>
              <p:cNvSpPr/>
              <p:nvPr/>
            </p:nvSpPr>
            <p:spPr>
              <a:xfrm>
                <a:off x="334800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80c33"/>
                    </a:solidFill>
                    <a:latin typeface="Arial"/>
                  </a:rPr>
                  <a:t>Risikobewertu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2"/>
            <p:cNvGrpSpPr/>
            <p:nvPr/>
          </p:nvGrpSpPr>
          <p:grpSpPr>
            <a:xfrm>
              <a:off x="6010200" y="1844640"/>
              <a:ext cx="2665440" cy="649800"/>
              <a:chOff x="6010200" y="1844640"/>
              <a:chExt cx="2665440" cy="649800"/>
            </a:xfrm>
          </p:grpSpPr>
          <p:sp>
            <p:nvSpPr>
              <p:cNvPr id="84" name="AutoShape 33"/>
              <p:cNvSpPr/>
              <p:nvPr/>
            </p:nvSpPr>
            <p:spPr>
              <a:xfrm>
                <a:off x="601020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34"/>
              <p:cNvSpPr/>
              <p:nvPr/>
            </p:nvSpPr>
            <p:spPr>
              <a:xfrm>
                <a:off x="615456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80c33"/>
                    </a:solidFill>
                    <a:latin typeface="Arial"/>
                  </a:rPr>
                  <a:t>Risikobewertu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5"/>
            <p:cNvGrpSpPr/>
            <p:nvPr/>
          </p:nvGrpSpPr>
          <p:grpSpPr>
            <a:xfrm>
              <a:off x="324000" y="1844640"/>
              <a:ext cx="2665440" cy="649800"/>
              <a:chOff x="324000" y="1844640"/>
              <a:chExt cx="2665440" cy="649800"/>
            </a:xfrm>
          </p:grpSpPr>
          <p:sp>
            <p:nvSpPr>
              <p:cNvPr id="87" name="AutoShape 36"/>
              <p:cNvSpPr/>
              <p:nvPr/>
            </p:nvSpPr>
            <p:spPr>
              <a:xfrm>
                <a:off x="324000" y="1844640"/>
                <a:ext cx="266544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4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7"/>
              <p:cNvSpPr/>
              <p:nvPr/>
            </p:nvSpPr>
            <p:spPr>
              <a:xfrm>
                <a:off x="468360" y="2187360"/>
                <a:ext cx="23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80c33"/>
                    </a:solidFill>
                    <a:latin typeface="Arial"/>
                  </a:rPr>
                  <a:t>Risikobewertu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Line 38"/>
          <p:cNvSpPr/>
          <p:nvPr/>
        </p:nvSpPr>
        <p:spPr>
          <a:xfrm>
            <a:off x="1619280" y="2781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4500720" y="162864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>
            <a:off x="1619280" y="162864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5435640" y="3573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611280" y="4508640"/>
            <a:ext cx="2016000" cy="1584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684360" y="472428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3635280" y="472428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6443640" y="4724280"/>
            <a:ext cx="172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250920" y="981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kument “Bausteine” und Fr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95280" y="2565360"/>
            <a:ext cx="784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amtes System und Aspekte übergreifende Baus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sche Bausteine zum Aspekt Qu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sche Bausteine zum Aspekt Quantität und Schifffah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sche Bausteine zum Aspekt Hydromorph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aphische und kartographische Darstellung der Ergeb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afik 5" descr="Seiten aus Dokument in 11.Sedi_Abschluss_CZ.jpg"/>
          <p:cNvPicPr/>
          <p:nvPr/>
        </p:nvPicPr>
        <p:blipFill>
          <a:blip r:embed="rId1"/>
          <a:stretch/>
        </p:blipFill>
        <p:spPr>
          <a:xfrm>
            <a:off x="324000" y="1700280"/>
            <a:ext cx="84596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6"/>
          <p:cNvGraphicFramePr/>
          <p:nvPr/>
        </p:nvGraphicFramePr>
        <p:xfrm>
          <a:off x="6659640" y="5013360"/>
          <a:ext cx="914400" cy="74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013360"/>
                    <a:ext cx="9144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50920" y="981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gik” am Beispiel Aspekt Qu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3"/>
          <p:cNvSpPr/>
          <p:nvPr/>
        </p:nvSpPr>
        <p:spPr>
          <a:xfrm>
            <a:off x="5416560" y="2577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6"/>
          <p:cNvSpPr/>
          <p:nvPr/>
        </p:nvSpPr>
        <p:spPr>
          <a:xfrm>
            <a:off x="541656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7"/>
          <p:cNvSpPr/>
          <p:nvPr/>
        </p:nvSpPr>
        <p:spPr>
          <a:xfrm>
            <a:off x="638172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8"/>
          <p:cNvSpPr/>
          <p:nvPr/>
        </p:nvSpPr>
        <p:spPr>
          <a:xfrm>
            <a:off x="638172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9"/>
          <p:cNvSpPr/>
          <p:nvPr/>
        </p:nvSpPr>
        <p:spPr>
          <a:xfrm>
            <a:off x="7346880" y="394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60280" y="1711440"/>
          <a:ext cx="8623440" cy="3433680"/>
        </p:xfrm>
        <a:graphic>
          <a:graphicData uri="http://schemas.openxmlformats.org/drawingml/2006/table">
            <a:tbl>
              <a:tblPr/>
              <a:tblGrid>
                <a:gridCol w="1549440"/>
                <a:gridCol w="2158920"/>
                <a:gridCol w="1447920"/>
                <a:gridCol w="965160"/>
                <a:gridCol w="965160"/>
                <a:gridCol w="153684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ste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ss-folger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greifende Aussagen und Vorschläge für eine Maßnahmenprioris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n Bila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laussagen unterschiedlicher Komplexitä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0c33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;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: 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: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CZ: 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-bedingungen und Werkze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zept, Methodik, Techni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80c33"/>
                          </a:solidFill>
                          <a:latin typeface="Arial"/>
                        </a:rPr>
                        <a:t>3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16; 17; 18; 19; 20;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76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iederung: Sedimentmanagementkonzept der IK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484280"/>
            <a:ext cx="856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 und Arbeitspr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zeptionelles Vor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chselwirkung mit anderen Tätigkeits- und Regelungsbereichen der IKSE/im Elbegebiet (im Kontext Sedimentmanagemen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blick und Verste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ca. 50-seitiger Synthesebericht, daraus ca. 8-seitige Kurzfas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V.: Redaktionsgruppe (Leiter Ad hoc-AG, nationale Sprecher, 1-2 weitere Experten je Delegation, davon/zusätzlich Dr. Halirova und Dr. Schwan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Grundlage sind die Fachbeiträge zu den einzelnen Baust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0c33"/>
                </a:solidFill>
                <a:latin typeface="Arial"/>
              </a:rPr>
              <a:t>Vollständiger (umfangreicher) Fachbericht; Entscheidung, ob in deutsch und tschechisch von Fall zu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7740720" y="2924280"/>
          <a:ext cx="914400" cy="7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2924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7:36:57Z</dcterms:created>
  <dc:creator>Heininger</dc:creator>
  <dc:description/>
  <dc:language>en-US</dc:language>
  <cp:lastModifiedBy>ladislav</cp:lastModifiedBy>
  <dcterms:modified xsi:type="dcterms:W3CDTF">2013-02-25T06:50:34Z</dcterms:modified>
  <cp:revision>83</cp:revision>
  <dc:subject/>
  <dc:title>Folie 1</dc:title>
</cp:coreProperties>
</file>