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F850-EDA0-45C4-BF96-9500DB1E7A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ADDC-AA0D-449F-98FD-7673F3B9A0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0FB-59DB-41D8-AA7E-43E3BAD4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0B7-ED0B-4427-98EC-BB50486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483-874C-4BE3-9AB6-8DA0DCD1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2D0-AA08-41DF-B10F-A13C325C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5E5-7CF9-42F9-ADA4-99E40FB6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B02-2B15-46EF-B3CE-B8642589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BE5-25DA-4032-AD96-5ECA744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320-A468-4B01-B745-03B19ECE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25C-1857-40A2-AFCA-C9BA523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588-51E0-46B5-9B27-2F32AFC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3DF-47D0-4D79-B1EF-3FBB6F78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67C-7E9E-474E-9755-9C6E952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51E9-F91A-45B2-80A3-44D02ED62D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odra_head_logo"/>
          <p:cNvPicPr/>
          <p:nvPr/>
        </p:nvPicPr>
        <p:blipFill>
          <a:blip r:embed="rId1"/>
          <a:stretch/>
        </p:blipFill>
        <p:spPr>
          <a:xfrm>
            <a:off x="0" y="0"/>
            <a:ext cx="9144000" cy="200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85480" y="2571840"/>
            <a:ext cx="8318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5d0"/>
                </a:solidFill>
                <a:latin typeface="Arial"/>
              </a:rPr>
              <a:t>OPŽP – osa č. 4.2. a její využi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5d0"/>
                </a:solidFill>
                <a:latin typeface="Arial"/>
              </a:rPr>
              <a:t>v podmínkách Povodí Ohře, státní pod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56db3"/>
                </a:solidFill>
                <a:latin typeface="Arial"/>
              </a:rPr>
              <a:t>Operationsprogramm Umwelt – Achse 4.2 und ihr Einsatz in den Bedingungen des staatlichen Wasserwirtschaftsbetriebs für die Eger </a:t>
            </a:r>
            <a:br>
              <a:rPr sz="2800"/>
            </a:br>
            <a:r>
              <a:rPr b="1" lang="cs-CZ" sz="2800" spc="-1" strike="noStrike">
                <a:solidFill>
                  <a:srgbClr val="056db3"/>
                </a:solidFill>
                <a:latin typeface="Arial"/>
              </a:rPr>
              <a:t> – Povodí Oh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line_short"/>
          <p:cNvPicPr/>
          <p:nvPr/>
        </p:nvPicPr>
        <p:blipFill>
          <a:blip r:embed="rId2"/>
          <a:stretch/>
        </p:blipFill>
        <p:spPr>
          <a:xfrm>
            <a:off x="0" y="2179800"/>
            <a:ext cx="5400720" cy="106200"/>
          </a:xfrm>
          <a:prstGeom prst="rect">
            <a:avLst/>
          </a:prstGeom>
          <a:ln w="0">
            <a:noFill/>
          </a:ln>
        </p:spPr>
      </p:pic>
      <p:sp>
        <p:nvSpPr>
          <p:cNvPr id="51" name="Textfeld 6"/>
          <p:cNvSpPr/>
          <p:nvPr/>
        </p:nvSpPr>
        <p:spPr>
          <a:xfrm>
            <a:off x="142920" y="5929200"/>
            <a:ext cx="8786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95d0"/>
                </a:solidFill>
                <a:latin typeface="Arial"/>
              </a:rPr>
              <a:t>Příloha </a:t>
            </a:r>
            <a:r>
              <a:rPr b="1" i="1" lang="cs-CZ" sz="1400" spc="-1" strike="noStrike">
                <a:solidFill>
                  <a:srgbClr val="0095d0"/>
                </a:solidFill>
                <a:latin typeface="Arial"/>
              </a:rPr>
              <a:t>5</a:t>
            </a:r>
            <a:r>
              <a:rPr b="1" i="1" lang="de-DE" sz="1400" spc="-1" strike="noStrike">
                <a:solidFill>
                  <a:srgbClr val="0095d0"/>
                </a:solidFill>
                <a:latin typeface="Arial"/>
              </a:rPr>
              <a:t> k záznamu výsledků 6. porady ad-hoc skupiny expertů Management Sedimentů MK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52d9d"/>
                </a:solidFill>
                <a:latin typeface="Arial"/>
              </a:rPr>
              <a:t>Anlage </a:t>
            </a:r>
            <a:r>
              <a:rPr b="1" i="1" lang="cs-CZ" sz="1400" spc="-1" strike="noStrike">
                <a:solidFill>
                  <a:srgbClr val="052d9d"/>
                </a:solidFill>
                <a:latin typeface="Arial"/>
              </a:rPr>
              <a:t>5</a:t>
            </a:r>
            <a:r>
              <a:rPr b="1" i="1" lang="de-DE" sz="1400" spc="-1" strike="noStrike">
                <a:solidFill>
                  <a:srgbClr val="052d9d"/>
                </a:solidFill>
                <a:latin typeface="Arial"/>
              </a:rPr>
              <a:t> zum Ergebnisvermerk der 6. Beratung der Ad-hoc-EG „Sedimentmanagement“ der IK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waves_a4_back-down2"/>
          <p:cNvPicPr/>
          <p:nvPr/>
        </p:nvPicPr>
        <p:blipFill>
          <a:blip r:embed="rId1"/>
          <a:stretch/>
        </p:blipFill>
        <p:spPr>
          <a:xfrm>
            <a:off x="-21420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raw"/>
          <p:cNvPicPr/>
          <p:nvPr/>
        </p:nvPicPr>
        <p:blipFill>
          <a:blip r:embed="rId2"/>
          <a:stretch/>
        </p:blipFill>
        <p:spPr>
          <a:xfrm>
            <a:off x="442800" y="2565360"/>
            <a:ext cx="128880" cy="4292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534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42600" y="2499840"/>
            <a:ext cx="34290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ledky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de-DE" sz="1600" spc="-1" strike="noStrike">
                <a:solidFill>
                  <a:srgbClr val="052d9d"/>
                </a:solidFill>
                <a:latin typeface="Arial"/>
              </a:rPr>
              <a:t>Ergebnisse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28760" y="200016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Průzkum a analýza rizika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 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Untersuchung und Risikoanaly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642960" y="3071880"/>
            <a:ext cx="507204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imárním kontaminantem v území  byl zjištěn dehet pocházející z výrobny generátorového plynu v bývalých sklárnách KAVALIER. V ohnisku kontaminace je tato vrstva dehtu silná až 1,1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zjištěného rizika doporučuje studie zpracování  podrobného sanačního projektu a následnou těžbu sedimentů ze dna to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Als primärer Schadstoff im Untersuchungsgebiet wurde Teer aus der Generatorgas-Anlage in der ehemaligen Glasfabrik KAVALIER festgestellt. Im Kernbereich der Schadstoff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belastung 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ist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 die Teerschicht bis 1,1 m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dic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Auf Grund des festgestellten Risikos wird in der Studie empfohlen, ein detailliertes Sanierungsprojekt zu erarbeiten und anschließend die Sedimente aus dem Gewässer zu entneh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S25C-111060309510"/>
          <p:cNvPicPr/>
          <p:nvPr/>
        </p:nvPicPr>
        <p:blipFill>
          <a:blip r:embed="rId4"/>
          <a:stretch/>
        </p:blipFill>
        <p:spPr>
          <a:xfrm>
            <a:off x="5786280" y="2468520"/>
            <a:ext cx="2705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raw"/>
          <p:cNvPicPr/>
          <p:nvPr/>
        </p:nvPicPr>
        <p:blipFill>
          <a:blip r:embed="rId2"/>
          <a:stretch/>
        </p:blipFill>
        <p:spPr>
          <a:xfrm>
            <a:off x="3715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6058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říčních sedimentů v rámci těžby naplavenin a následné revitalizace toku Bíliny – Průzkum a analýza rizika – rok 2009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–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71680" y="5571720"/>
            <a:ext cx="810576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V rámci podané žádosti byl předložen prováděcí projekt průzkumu zpracovaný f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irmou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 Dekonta a.s. Stehelčeves v červnu 2009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m Rahmen des Förderungsantrags wurde im Juni 2009 ein Projekt für die durchzuführende Untersuchung der Firma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konta a.s. Stehelčeves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vor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5712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: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3 089 673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S25C-111060310110"/>
          <p:cNvPicPr/>
          <p:nvPr/>
        </p:nvPicPr>
        <p:blipFill>
          <a:blip r:embed="rId4"/>
          <a:stretch/>
        </p:blipFill>
        <p:spPr>
          <a:xfrm>
            <a:off x="5867280" y="2478240"/>
            <a:ext cx="1971720" cy="28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S25C-111060309541"/>
          <p:cNvPicPr/>
          <p:nvPr/>
        </p:nvPicPr>
        <p:blipFill>
          <a:blip r:embed="rId5"/>
          <a:stretch/>
        </p:blipFill>
        <p:spPr>
          <a:xfrm>
            <a:off x="1403280" y="2565360"/>
            <a:ext cx="418932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draw"/>
          <p:cNvPicPr/>
          <p:nvPr/>
        </p:nvPicPr>
        <p:blipFill>
          <a:blip r:embed="rId2"/>
          <a:stretch/>
        </p:blipFill>
        <p:spPr>
          <a:xfrm>
            <a:off x="50004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62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říčních sedimentů v rámci těžby naplavenin a následné revitalizace toku Bíliny – Průzkum a analýza rizika – rok 2009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–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13880" y="2643120"/>
            <a:ext cx="7891560" cy="3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ministrace projektu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verwaltun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500040" y="2060640"/>
            <a:ext cx="846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: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3 089 673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14240" y="3000240"/>
            <a:ext cx="814392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Č: 09046994 – Odstranění znečištění říčních sedimentů v rámci těžby naplavenin a následné revitalizace toku řeky Bíliny – průzkum a analýza riz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ID: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09046994 – Entsorgung der Flusssedimente im Rahmen der Baggerungen und anschlie</a:t>
            </a:r>
            <a:r>
              <a:rPr b="1" lang="de-DE" sz="16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ádost byla podána dne 29.9.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ceptace žádosti byla doručena dne 30.11.2009 a rozhodnutí o poskytnutí finanční dotace dne 11.5.2010. Následně bylo vypsáno VŘ a podepsána smlouva se zhotovitelem dne 4.10.2010. Akce je nyní v realizaci s termínem ukončení do 07/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r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ntrag wurde a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2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20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gestell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Die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Empfangsbestätigu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n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g des Antrags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wurde a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30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11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20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9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und d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e Entscheidung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über die Erteilung der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Förders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u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mm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e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11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5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2010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zugestellt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Anschlie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ßend erfolgte das Ausschreibungsverfahren und am 04.10.2010 wurde ein Vertrag mit dem Bearbeiter unterzeichnet. Die Umsetzung der Maßnahme soll bis Juli 2010 abgeschlossen sein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raw"/>
          <p:cNvPicPr/>
          <p:nvPr/>
        </p:nvPicPr>
        <p:blipFill>
          <a:blip r:embed="rId2"/>
          <a:stretch/>
        </p:blipFill>
        <p:spPr>
          <a:xfrm>
            <a:off x="50004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34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znečištění říčních sedimentů v rámci těžby naplavenin a následné revitalizace toku řeky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42960" y="5276520"/>
            <a:ext cx="80344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Lokalita se nachází na řece Bílině v úseku ř.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km. 46,54 (jez Chánov) a dále ř.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k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m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56,06 (jez Jiřetín).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Řeka Bílina protéká velmi silně průmyslově exponovaným územ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Der Standort befindet sich an der Bílina im Flussabschnitt zwischen km 46,54 (Wehr Chánov) und km 56,06 (Wehr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Jiřetín)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. Die Bílina fließt durch ein industriell sehr  stark beanspruchtes Gebi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428760" y="20606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Geografické vymezení území</a:t>
            </a:r>
            <a:r>
              <a:rPr b="0" lang="de-DE" sz="1800" spc="-1" strike="noStrike">
                <a:solidFill>
                  <a:srgbClr val="056db3"/>
                </a:solidFill>
                <a:latin typeface="Arial"/>
              </a:rPr>
              <a:t>: /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Untersuchungsgebiet – geographische Übersi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screenshoter"/>
          <p:cNvPicPr/>
          <p:nvPr/>
        </p:nvPicPr>
        <p:blipFill>
          <a:blip r:embed="rId4"/>
          <a:stretch/>
        </p:blipFill>
        <p:spPr>
          <a:xfrm>
            <a:off x="2556000" y="2565360"/>
            <a:ext cx="4680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raw"/>
          <p:cNvPicPr/>
          <p:nvPr/>
        </p:nvPicPr>
        <p:blipFill>
          <a:blip r:embed="rId2"/>
          <a:stretch/>
        </p:blipFill>
        <p:spPr>
          <a:xfrm>
            <a:off x="50004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34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znečištění říčních sedimentů v rámci těžby naplavenin a následné revitalizace toku řeky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71680" y="5143320"/>
            <a:ext cx="8286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86769"/>
                </a:solidFill>
                <a:latin typeface="Arial"/>
              </a:rPr>
              <a:t>Možnými  primárními zdroji znečištění jsou provozy chemické výroby v areálu České rafinérské a.s. (Unipetrol) a město Most (ČOV). Vzhledem k tomu,</a:t>
            </a:r>
            <a:r>
              <a:rPr b="0" lang="de-DE" sz="1400" spc="-1" strike="noStrike">
                <a:solidFill>
                  <a:srgbClr val="686769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686769"/>
                </a:solidFill>
                <a:latin typeface="Arial"/>
              </a:rPr>
              <a:t> že ve všech vzorcích jsou zvýšené koncentrace těžkých kovů, lze jako primární zdroj označit spalování hnědého uhlí a voda vytékající z výsyp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Zu den möglichen vorrangigen Schadtoffquellen gehören chemische Produktionsanlagen in der Raffinerie 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Čes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á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rafinérs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á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a.s. (Unipetrol) sowie die Stadt Most. Da in allen Proben erhöhte Schwermetall-Konzentrationen gemessen werden, können Verbrennung von Braunkohle sowie das Sickerwasser aus den Halden als Hauptursachen der  Schadstoffbelastungen betrachtet werden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428760" y="206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Kontaminace území:</a:t>
            </a:r>
            <a:r>
              <a:rPr b="0" lang="de-DE" sz="1800" spc="-1" strike="noStrike">
                <a:solidFill>
                  <a:srgbClr val="056db3"/>
                </a:solidFill>
                <a:latin typeface="Arial"/>
              </a:rPr>
              <a:t> /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Schadstoffbelastung des Gebi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screenshotercov"/>
          <p:cNvPicPr/>
          <p:nvPr/>
        </p:nvPicPr>
        <p:blipFill>
          <a:blip r:embed="rId4"/>
          <a:stretch/>
        </p:blipFill>
        <p:spPr>
          <a:xfrm>
            <a:off x="684360" y="3000240"/>
            <a:ext cx="3458880" cy="193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screenshoterrag"/>
          <p:cNvPicPr/>
          <p:nvPr/>
        </p:nvPicPr>
        <p:blipFill>
          <a:blip r:embed="rId5"/>
          <a:stretch/>
        </p:blipFill>
        <p:spPr>
          <a:xfrm>
            <a:off x="6281640" y="2071800"/>
            <a:ext cx="2291040" cy="28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2033"/>
          <p:cNvPicPr/>
          <p:nvPr/>
        </p:nvPicPr>
        <p:blipFill>
          <a:blip r:embed="rId6"/>
          <a:stretch/>
        </p:blipFill>
        <p:spPr>
          <a:xfrm>
            <a:off x="3754440" y="2695680"/>
            <a:ext cx="26035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draw"/>
          <p:cNvPicPr/>
          <p:nvPr/>
        </p:nvPicPr>
        <p:blipFill>
          <a:blip r:embed="rId2"/>
          <a:stretch/>
        </p:blipFill>
        <p:spPr>
          <a:xfrm>
            <a:off x="10429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991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znečištění říčních sedimentů v rámci těžby naplavenin a následné revitalizace toku řeky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Entsorgung der Flusssedimente im Rahmen der Baggerungen und anschli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– Untersuchungen und Risiko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852640"/>
            <a:ext cx="7490160" cy="3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ledk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9716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Průzkum a analýza rizika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 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Untersuchung und Risikoanaly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187280" y="3286080"/>
            <a:ext cx="73854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tento okamžik nemáme výsledky k dispozici, protože realizace průzkumu právě probíh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pokládáme po skončení průzkumu a analýzy rizika opět požádat o zpracování sanačního projektu s následnou realizací navržených opatře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Zu diesem Zeitpunkt liegen keine Ergebnisse vor, denn die Untersuchungen werden  derzeitig noch durchgefüh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Es wird vorgesehen, nach dem die Untersuchungen sowie die Risikoanalyse abgeschlossen sind, einen Antrag zur Erarbeitung eines Sanierungsprojektes inklusive anschließender Umsetzung der vorgeschlagenen Maßnahmen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draw"/>
          <p:cNvPicPr/>
          <p:nvPr/>
        </p:nvPicPr>
        <p:blipFill>
          <a:blip r:embed="rId2"/>
          <a:stretch/>
        </p:blipFill>
        <p:spPr>
          <a:xfrm>
            <a:off x="42876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6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6769"/>
                </a:solidFill>
                <a:latin typeface="Arial"/>
              </a:rPr>
              <a:t>Kontaminace říčních sedimentů</a:t>
            </a:r>
            <a:br>
              <a:rPr sz="2400"/>
            </a:br>
            <a:r>
              <a:rPr b="0" lang="de-DE" sz="2400" spc="-1" strike="noStrike">
                <a:solidFill>
                  <a:srgbClr val="052d9d"/>
                </a:solidFill>
                <a:latin typeface="Arial"/>
              </a:rPr>
              <a:t>Kontaminierung der Flusssedi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13880" y="2714400"/>
            <a:ext cx="7929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kty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ina – posledních cca 7 km (Koštov  přes Trmice po ústí do Labe) vč. lavic na soutoku. V tomto úseku lze předpokládat kontaminaci z chemického provozu, drážního tělesa a dalších průmyslových podniků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Bílina – die letzten ca. 7 km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(Koštov 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über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Trmice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bis Einmündung in die El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be)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, einschließlich Sandbänke in der Einmündung. In diesem Flussabschnitt sind Belastungen aus einer Chemiefabrik, vom Bahnkörper und weiteren Industrie-betrieben anzunehm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ina – lokal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elvěty – Zde opět předpokládáme kontaminaci pocházející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chemického provozu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Bílina – Standort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Velvěty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– Hier werden Belastungen aus einem Chemiebetrieb angenomm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line_short"/>
          <p:cNvPicPr/>
          <p:nvPr/>
        </p:nvPicPr>
        <p:blipFill>
          <a:blip r:embed="rId3"/>
          <a:stretch/>
        </p:blipFill>
        <p:spPr>
          <a:xfrm>
            <a:off x="4500720" y="1357200"/>
            <a:ext cx="5400360" cy="106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357120" y="1643040"/>
            <a:ext cx="80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56db3"/>
                </a:solidFill>
                <a:latin typeface="Arial"/>
              </a:rPr>
              <a:t>Náměty pro další řešení z pohledu státního podniku Povodí Ohře:</a:t>
            </a:r>
            <a:br>
              <a:rPr sz="2000"/>
            </a:b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Anregungen für künftige Vorhaben aus der Sicht von 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Povodí Ohře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modra_head_logo"/>
          <p:cNvPicPr/>
          <p:nvPr/>
        </p:nvPicPr>
        <p:blipFill>
          <a:blip r:embed="rId1"/>
          <a:stretch/>
        </p:blipFill>
        <p:spPr>
          <a:xfrm>
            <a:off x="0" y="0"/>
            <a:ext cx="9144000" cy="4154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26920" y="4221000"/>
            <a:ext cx="7777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95d0"/>
                </a:solidFill>
                <a:latin typeface="Arial"/>
              </a:rPr>
              <a:t>Děkuji Vám za pozornost</a:t>
            </a:r>
            <a:br>
              <a:rPr sz="3600"/>
            </a:br>
            <a:r>
              <a:rPr b="0" lang="de-DE" sz="3600" spc="-1" strike="noStrike">
                <a:solidFill>
                  <a:srgbClr val="052d9d"/>
                </a:solidFill>
                <a:latin typeface="Arial"/>
              </a:rPr>
              <a:t>Vielen Dank für Ihre Aufmerksamk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ine_short"/>
          <p:cNvPicPr/>
          <p:nvPr/>
        </p:nvPicPr>
        <p:blipFill>
          <a:blip r:embed="rId2"/>
          <a:stretch/>
        </p:blipFill>
        <p:spPr>
          <a:xfrm>
            <a:off x="-541440" y="4394160"/>
            <a:ext cx="5400720" cy="1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waves_a4_back"/>
          <p:cNvPicPr/>
          <p:nvPr/>
        </p:nvPicPr>
        <p:blipFill>
          <a:blip r:embed="rId1"/>
          <a:stretch/>
        </p:blipFill>
        <p:spPr>
          <a:xfrm>
            <a:off x="-216000" y="1868400"/>
            <a:ext cx="9360000" cy="498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dra_head"/>
          <p:cNvPicPr/>
          <p:nvPr/>
        </p:nvPicPr>
        <p:blipFill>
          <a:blip r:embed="rId2"/>
          <a:stretch/>
        </p:blipFill>
        <p:spPr>
          <a:xfrm>
            <a:off x="-214200" y="0"/>
            <a:ext cx="9359640" cy="2228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3480" y="232920"/>
            <a:ext cx="779616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PŽ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Operationsprogramm Umw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14200" y="2500200"/>
            <a:ext cx="850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sa č. 4 -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kvalitnění nakládání s odpady a odstraňování starých ekologických zátěží</a:t>
            </a:r>
            <a:br>
              <a:rPr sz="1800"/>
            </a:b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Achse 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– Verbesserung des Abfallmanagements und Altlastenentsorgu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poruje projekty, které se zaměřují na zkvalitnění nakládaní s odpady, snížení produkce odpadů nevhodných pro další zpracování a odstraňování starých ekologických zátě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Unterstützung von Projekten zur Verbesserung des Abfallmanagements, </a:t>
            </a:r>
            <a:br>
              <a:rPr sz="1800"/>
            </a:b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zur Verminderung des Anfalls der zur Wiederverwertung ungeeigneten Abfälle </a:t>
            </a:r>
            <a:br>
              <a:rPr sz="1800"/>
            </a:b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sowie zur Altlastenentsorgu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line_white_short"/>
          <p:cNvPicPr/>
          <p:nvPr/>
        </p:nvPicPr>
        <p:blipFill>
          <a:blip r:embed="rId3"/>
          <a:stretch/>
        </p:blipFill>
        <p:spPr>
          <a:xfrm>
            <a:off x="3643200" y="1844640"/>
            <a:ext cx="5513400" cy="1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waves_a4_back"/>
          <p:cNvPicPr/>
          <p:nvPr/>
        </p:nvPicPr>
        <p:blipFill>
          <a:blip r:embed="rId1"/>
          <a:stretch/>
        </p:blipFill>
        <p:spPr>
          <a:xfrm>
            <a:off x="-216000" y="1868400"/>
            <a:ext cx="9360000" cy="498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modra_head"/>
          <p:cNvPicPr/>
          <p:nvPr/>
        </p:nvPicPr>
        <p:blipFill>
          <a:blip r:embed="rId2"/>
          <a:stretch/>
        </p:blipFill>
        <p:spPr>
          <a:xfrm>
            <a:off x="-214200" y="0"/>
            <a:ext cx="9359640" cy="2228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63480" y="232920"/>
            <a:ext cx="779616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PŽ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"/>
              </a:rPr>
              <a:t>Operationsprogramm Umw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2500200"/>
            <a:ext cx="850104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sa č. 4 -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kvalitnění nakládání s odpady a odstraňování starých ekologických zátěží</a:t>
            </a:r>
            <a:br>
              <a:rPr sz="1800"/>
            </a:b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Achse 4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– Verbesserung des Abfallmanagements und Altlastenentsorgung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kapitola 4.2. -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straňování starých ekologických zátěž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ventarizace kontaminovaných a potenciálně kontaminovaných míst, kategorizace priori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pro výběr nejzávažněji kontaminovaných míst k sana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alizace průzkumných prací, analýz riz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nace vážně kontaminovaných loka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Abschnitt 4.2. - </a:t>
            </a:r>
            <a:r>
              <a:rPr b="1" lang="cs-CZ" sz="1600" spc="-1" strike="noStrike">
                <a:solidFill>
                  <a:srgbClr val="052d9d"/>
                </a:solidFill>
                <a:latin typeface="Arial"/>
              </a:rPr>
              <a:t>Altlastenentsorg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2d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Bestandsaufnahme schadstoffbelasteter und potenziell schadstoffbelasteter Standorte, </a:t>
            </a:r>
            <a:br>
              <a:rPr sz="1600"/>
            </a:b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 Festlegung von Prioritäten zur Auswahl der meistbelasteten Standorte  für San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2d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urchführung von Untersuchungen, Risikoanaly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2d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Sanierung hochbelasteter Stand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line_white_short"/>
          <p:cNvPicPr/>
          <p:nvPr/>
        </p:nvPicPr>
        <p:blipFill>
          <a:blip r:embed="rId3"/>
          <a:stretch/>
        </p:blipFill>
        <p:spPr>
          <a:xfrm>
            <a:off x="3643200" y="1844640"/>
            <a:ext cx="5513400" cy="1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1" descr="waves_a4_back-down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57477"/>
                </a:solidFill>
                <a:latin typeface="Arial"/>
              </a:rPr>
              <a:t>Podané žádosti o dotaci z OPŽP:</a:t>
            </a:r>
            <a:br>
              <a:rPr sz="3200"/>
            </a:br>
            <a:r>
              <a:rPr b="0" lang="cs-CZ" sz="3200" spc="-1" strike="noStrike">
                <a:solidFill>
                  <a:srgbClr val="052d9d"/>
                </a:solidFill>
                <a:latin typeface="Arial"/>
              </a:rPr>
              <a:t>Förderungsanträge an das OP Umwe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blue_square"/>
          <p:cNvPicPr/>
          <p:nvPr/>
        </p:nvPicPr>
        <p:blipFill>
          <a:blip r:embed="rId2"/>
          <a:stretch/>
        </p:blipFill>
        <p:spPr>
          <a:xfrm>
            <a:off x="1547640" y="199872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lue_square"/>
          <p:cNvPicPr/>
          <p:nvPr/>
        </p:nvPicPr>
        <p:blipFill>
          <a:blip r:embed="rId3"/>
          <a:stretch/>
        </p:blipFill>
        <p:spPr>
          <a:xfrm>
            <a:off x="1547640" y="285588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1908000" y="1916280"/>
            <a:ext cx="69501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  - rok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86769"/>
                </a:solidFill>
                <a:latin typeface="Arial"/>
              </a:rPr>
              <a:t>Odstranění říčních sedimentů v rámci těžby naplavenin a následné revitalizace toku Bíliny  - Průzkum a analýza rizika – rok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1800"/>
            </a:b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–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Entsorgung der Flusssedimente im Rahmen der Baggerungen und anschlie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ßender Renaturierung der Bílina </a:t>
            </a:r>
            <a:r>
              <a:rPr b="0" lang="cs-CZ" sz="1800" spc="-1" strike="noStrike">
                <a:solidFill>
                  <a:srgbClr val="052d9d"/>
                </a:solidFill>
                <a:latin typeface="Arial"/>
              </a:rPr>
              <a:t>– Untersuchungen und Risikoanalyse – 200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1403280" y="1413000"/>
            <a:ext cx="72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line_short2"/>
          <p:cNvPicPr/>
          <p:nvPr/>
        </p:nvPicPr>
        <p:blipFill>
          <a:blip r:embed="rId4"/>
          <a:stretch/>
        </p:blipFill>
        <p:spPr>
          <a:xfrm>
            <a:off x="-876240" y="1571760"/>
            <a:ext cx="2448000" cy="10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" descr=""/>
          <p:cNvPicPr/>
          <p:nvPr/>
        </p:nvPicPr>
        <p:blipFill>
          <a:blip r:embed="rId5"/>
          <a:srcRect l="209" t="7470" r="209" b="7470"/>
          <a:stretch/>
        </p:blipFill>
        <p:spPr>
          <a:xfrm>
            <a:off x="971640" y="5551560"/>
            <a:ext cx="7354800" cy="1020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blue_square"/>
          <p:cNvPicPr/>
          <p:nvPr/>
        </p:nvPicPr>
        <p:blipFill>
          <a:blip r:embed="rId6"/>
          <a:stretch/>
        </p:blipFill>
        <p:spPr>
          <a:xfrm>
            <a:off x="1547640" y="352728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lue_square"/>
          <p:cNvPicPr/>
          <p:nvPr/>
        </p:nvPicPr>
        <p:blipFill>
          <a:blip r:embed="rId7"/>
          <a:stretch/>
        </p:blipFill>
        <p:spPr>
          <a:xfrm>
            <a:off x="1547640" y="4392720"/>
            <a:ext cx="14472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1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9" descr="draw"/>
          <p:cNvPicPr/>
          <p:nvPr/>
        </p:nvPicPr>
        <p:blipFill>
          <a:blip r:embed="rId2"/>
          <a:stretch/>
        </p:blipFill>
        <p:spPr>
          <a:xfrm>
            <a:off x="10429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136080"/>
            <a:ext cx="88200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187280" y="5419440"/>
            <a:ext cx="7490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V rámci podané žádosti byl předložen prováděcí projekt průzkumu zpracovaný </a:t>
            </a:r>
            <a:br>
              <a:rPr sz="1600"/>
            </a:b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686769"/>
                </a:solidFill>
                <a:latin typeface="Arial"/>
              </a:rPr>
              <a:t>irmou</a:t>
            </a: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 Dekonta a.s. Stehelče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m Rahmen des Förderungsantrags wurde ein Projekt für die durchzuführende Untersuchung der Firma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konta a.s. Stehelčeves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vor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5"/>
          <p:cNvSpPr/>
          <p:nvPr/>
        </p:nvSpPr>
        <p:spPr>
          <a:xfrm>
            <a:off x="9716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: 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</a:t>
            </a:r>
            <a:r>
              <a:rPr b="0" lang="cs-CZ" sz="2200" spc="-1" strike="noStrike">
                <a:solidFill>
                  <a:srgbClr val="052d9d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2 376 728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4" descr="S25C-111060311460"/>
          <p:cNvPicPr/>
          <p:nvPr/>
        </p:nvPicPr>
        <p:blipFill>
          <a:blip r:embed="rId4"/>
          <a:stretch/>
        </p:blipFill>
        <p:spPr>
          <a:xfrm>
            <a:off x="2340000" y="2565360"/>
            <a:ext cx="4811760" cy="2552760"/>
          </a:xfrm>
          <a:prstGeom prst="rect">
            <a:avLst/>
          </a:prstGeom>
          <a:ln w="0">
            <a:noFill/>
          </a:ln>
        </p:spPr>
      </p:pic>
      <p:sp>
        <p:nvSpPr>
          <p:cNvPr id="79" name="Textfeld 10"/>
          <p:cNvSpPr/>
          <p:nvPr/>
        </p:nvSpPr>
        <p:spPr>
          <a:xfrm>
            <a:off x="5072040" y="4929120"/>
            <a:ext cx="264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Sachlage im Bearbeitungsgeb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raw"/>
          <p:cNvPicPr/>
          <p:nvPr/>
        </p:nvPicPr>
        <p:blipFill>
          <a:blip r:embed="rId2"/>
          <a:stretch/>
        </p:blipFill>
        <p:spPr>
          <a:xfrm>
            <a:off x="10429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62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490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ministrace projektu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verwaltun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line_short"/>
          <p:cNvPicPr/>
          <p:nvPr/>
        </p:nvPicPr>
        <p:blipFill>
          <a:blip r:embed="rId3"/>
          <a:stretch/>
        </p:blipFill>
        <p:spPr>
          <a:xfrm>
            <a:off x="4500720" y="1822320"/>
            <a:ext cx="5400360" cy="10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9716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2 376 728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187280" y="3213000"/>
            <a:ext cx="705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Č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8019854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ranění antropogenního znečištění říčních sedimentů v rámci sanace Bouřlivého potoka a Bílin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ůzkum a analýza riz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52d9d"/>
                </a:solidFill>
                <a:latin typeface="Arial"/>
              </a:rPr>
              <a:t>ID: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08019854</a:t>
            </a:r>
            <a:r>
              <a:rPr b="1" lang="de-DE" sz="1800" spc="-1" strike="noStrike">
                <a:solidFill>
                  <a:srgbClr val="052d9d"/>
                </a:solidFill>
                <a:latin typeface="Arial"/>
              </a:rPr>
              <a:t> - 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1" lang="de-DE" sz="18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1" lang="cs-CZ" sz="1800" spc="-1" strike="noStrike">
                <a:solidFill>
                  <a:srgbClr val="052d9d"/>
                </a:solidFill>
                <a:latin typeface="Arial"/>
              </a:rPr>
              <a:t> Flusssediment im Rahmen der Gewässersanierung von Bouřlivý potok und Bílina – Untersuchungen und Risikoanaly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raw"/>
          <p:cNvPicPr/>
          <p:nvPr/>
        </p:nvPicPr>
        <p:blipFill>
          <a:blip r:embed="rId2"/>
          <a:stretch/>
        </p:blipFill>
        <p:spPr>
          <a:xfrm>
            <a:off x="78588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628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9720" y="2571840"/>
            <a:ext cx="74898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ministrace projektu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Projektverwaltun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line_short"/>
          <p:cNvPicPr/>
          <p:nvPr/>
        </p:nvPicPr>
        <p:blipFill>
          <a:blip r:embed="rId3"/>
          <a:stretch/>
        </p:blipFill>
        <p:spPr>
          <a:xfrm>
            <a:off x="4500720" y="1822320"/>
            <a:ext cx="5400360" cy="106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714240" y="2060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Finanční požadavek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56db3"/>
                </a:solidFill>
                <a:latin typeface="Arial"/>
              </a:rPr>
              <a:t>/ </a:t>
            </a:r>
            <a:r>
              <a:rPr b="0" lang="de-DE" sz="2200" spc="-1" strike="noStrike">
                <a:solidFill>
                  <a:srgbClr val="052d9d"/>
                </a:solidFill>
                <a:latin typeface="Arial"/>
              </a:rPr>
              <a:t>Beantragte Fördersumme:</a:t>
            </a:r>
            <a:r>
              <a:rPr b="0" lang="cs-CZ" sz="2200" spc="-1" strike="noStrike">
                <a:solidFill>
                  <a:srgbClr val="056db3"/>
                </a:solidFill>
                <a:latin typeface="Arial"/>
              </a:rPr>
              <a:t> 2 376 728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1000080" y="2857680"/>
            <a:ext cx="70563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ádost byla podána 8.října 2008. Rozhodnutí bylo vydáno 26.4.2010. Realizace průzkumu a zpracování analýzy rizika probíhala v období 02-07 2010. Realizační firma Ekomonitor spol. s.r.o. Chrud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Der 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ntrag wurde am 08.10.2008 gestellt. Die Entscheidung wurde am 26.04.2010 erteilt. Die Untersuchungen und Bearbeitung der Risikoanalyse erfolgten im Zeitraum Febr./Juli 2010 durch die Firma Ekomonitor Chrud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ne 30.9.2010 bylo ZVA doplněno do Benefillu a přílohy odeslány na SFZP do Prahy. Dne 25.10.2010 bylo vyúčtování ze strany SFZP v programu Benefillu uzav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Am 30.09.2010 wurde die Abschlussbewertung der Maßnahme ins Informationssystem Benefill eingetragen und Anlagen an den Staatlichen Umweltfonds (SFZP) in Prag gesendet. Am 25.10.2010 wurde die Abrechnung durch den SFZP im Benefill-Programm abgeschloss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draw"/>
          <p:cNvPicPr/>
          <p:nvPr/>
        </p:nvPicPr>
        <p:blipFill>
          <a:blip r:embed="rId2"/>
          <a:stretch/>
        </p:blipFill>
        <p:spPr>
          <a:xfrm>
            <a:off x="57168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6058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85520" y="534816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Lokalita se nachází v městysu Hostomice  cca 6 km jižně od města Teplice v Čech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Území je rozděleno na dvě části : řeka Bílina a dále Bouřlivý po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Der Standort befindet sich in der Gemeinde Hostomice, ca. 6 km südlich von der Stadt Teplice. Das Untersuchungsgebiet besteht aus zwei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Teil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en: de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r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Bílina und ihr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em</a:t>
            </a: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 Nebenfluss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Bouřlivý po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28760" y="192888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Geografické vymezení území</a:t>
            </a:r>
            <a:r>
              <a:rPr b="0" lang="de-DE" sz="1800" spc="-1" strike="noStrike">
                <a:solidFill>
                  <a:srgbClr val="056db3"/>
                </a:solidFill>
                <a:latin typeface="Arial"/>
              </a:rPr>
              <a:t>: / </a:t>
            </a: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Untersuchungsgebiet – geographische Übersi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S25C-111060309540"/>
          <p:cNvPicPr/>
          <p:nvPr/>
        </p:nvPicPr>
        <p:blipFill>
          <a:blip r:embed="rId4"/>
          <a:stretch/>
        </p:blipFill>
        <p:spPr>
          <a:xfrm>
            <a:off x="1071720" y="2421000"/>
            <a:ext cx="2808000" cy="273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S25C-111060309530"/>
          <p:cNvPicPr/>
          <p:nvPr/>
        </p:nvPicPr>
        <p:blipFill>
          <a:blip r:embed="rId5"/>
          <a:stretch/>
        </p:blipFill>
        <p:spPr>
          <a:xfrm>
            <a:off x="4429080" y="2319480"/>
            <a:ext cx="345780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waves_a4_back-down2"/>
          <p:cNvPicPr/>
          <p:nvPr/>
        </p:nvPicPr>
        <p:blipFill>
          <a:blip r:embed="rId1"/>
          <a:stretch/>
        </p:blipFill>
        <p:spPr>
          <a:xfrm>
            <a:off x="0" y="2233440"/>
            <a:ext cx="9144000" cy="462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raw"/>
          <p:cNvPicPr/>
          <p:nvPr/>
        </p:nvPicPr>
        <p:blipFill>
          <a:blip r:embed="rId2"/>
          <a:stretch/>
        </p:blipFill>
        <p:spPr>
          <a:xfrm>
            <a:off x="357120" y="2565360"/>
            <a:ext cx="128520" cy="4292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605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86769"/>
                </a:solidFill>
                <a:latin typeface="Arial"/>
              </a:rPr>
              <a:t>Odstranění antropogenního znečištění říčních sedimentů v rámci sanace Bouřlivého potoka a Bíliny – Průzkum a analýza rizika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Beseitigung der anthropogenen Belastungen </a:t>
            </a:r>
            <a:r>
              <a:rPr b="0" lang="de-DE" sz="2000" spc="-1" strike="noStrike">
                <a:solidFill>
                  <a:srgbClr val="052d9d"/>
                </a:solidFill>
                <a:latin typeface="Arial"/>
              </a:rPr>
              <a:t>im</a:t>
            </a: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 Flusssediment </a:t>
            </a:r>
            <a:br>
              <a:rPr sz="2000"/>
            </a:br>
            <a:r>
              <a:rPr b="0" lang="cs-CZ" sz="2000" spc="-1" strike="noStrike">
                <a:solidFill>
                  <a:srgbClr val="052d9d"/>
                </a:solidFill>
                <a:latin typeface="Arial"/>
              </a:rPr>
              <a:t>im Rahmen der Gewässersanierung von Bouřlivý potok und Bílina – Untersuchungen und Risiko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99680" y="4929120"/>
            <a:ext cx="8358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86769"/>
                </a:solidFill>
                <a:latin typeface="Arial"/>
              </a:rPr>
              <a:t>Ve zkoumaném území se nachází majoritní znečišťovatel toku  - areál bývalého průmyslového závodu Sklárny KAVAL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52d9d"/>
                </a:solidFill>
                <a:latin typeface="Arial"/>
              </a:rPr>
              <a:t>Im Untersuchungsgebiet befindet sich der größte Einleiter – Betriebsgelände der ehemaligen Glasfabrik KAVALIER. </a:t>
            </a:r>
            <a:r>
              <a:rPr b="0" lang="cs-CZ" sz="16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období 50-70 let  byla v areálu generátorovna na výrobu generátorového plynu – odpadní vody byly vypouštěny do Bouřlivého potoka v ř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m 0,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In den 1950-1970 war  in der Glasfabrik eine Generatorgas-Anlage in Betrieb – Abwasser wurde in den Bach 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Bouřliv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ý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potok</a:t>
            </a:r>
            <a:r>
              <a:rPr b="0" lang="de-DE" sz="1400" spc="-1" strike="noStrike">
                <a:solidFill>
                  <a:srgbClr val="052d9d"/>
                </a:solidFill>
                <a:latin typeface="Arial"/>
              </a:rPr>
              <a:t> im Fluss-km 0,250 eingeleitet.</a:t>
            </a:r>
            <a:r>
              <a:rPr b="0" lang="cs-CZ" sz="1400" spc="-1" strike="noStrike">
                <a:solidFill>
                  <a:srgbClr val="052d9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line_short"/>
          <p:cNvPicPr/>
          <p:nvPr/>
        </p:nvPicPr>
        <p:blipFill>
          <a:blip r:embed="rId3"/>
          <a:stretch/>
        </p:blipFill>
        <p:spPr>
          <a:xfrm>
            <a:off x="4500720" y="1773360"/>
            <a:ext cx="5400360" cy="106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285840" y="1928880"/>
            <a:ext cx="86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56db3"/>
                </a:solidFill>
                <a:latin typeface="Arial"/>
              </a:rPr>
              <a:t>Kontaminace území:</a:t>
            </a:r>
            <a:br>
              <a:rPr sz="1800"/>
            </a:br>
            <a:r>
              <a:rPr b="0" lang="de-DE" sz="1800" spc="-1" strike="noStrike">
                <a:solidFill>
                  <a:srgbClr val="052d9d"/>
                </a:solidFill>
                <a:latin typeface="Arial"/>
              </a:rPr>
              <a:t>Schadstoffbelastung des Gebi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S25C-111060309541"/>
          <p:cNvPicPr/>
          <p:nvPr/>
        </p:nvPicPr>
        <p:blipFill>
          <a:blip r:embed="rId4"/>
          <a:stretch/>
        </p:blipFill>
        <p:spPr>
          <a:xfrm>
            <a:off x="4065480" y="2000160"/>
            <a:ext cx="4649760" cy="2887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S25C-111060309542"/>
          <p:cNvPicPr/>
          <p:nvPr/>
        </p:nvPicPr>
        <p:blipFill>
          <a:blip r:embed="rId5"/>
          <a:stretch/>
        </p:blipFill>
        <p:spPr>
          <a:xfrm>
            <a:off x="590400" y="2643120"/>
            <a:ext cx="35528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8:15:47Z</dcterms:created>
  <dc:creator>Motlik</dc:creator>
  <dc:description/>
  <dc:language>en-US</dc:language>
  <cp:lastModifiedBy>ladislav</cp:lastModifiedBy>
  <dcterms:modified xsi:type="dcterms:W3CDTF">2011-08-04T11:31:02Z</dcterms:modified>
  <cp:revision>112</cp:revision>
  <dc:subject/>
  <dc:title>Snímek 1</dc:title>
</cp:coreProperties>
</file>