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6FB7-AC23-4552-A1D4-13C6B7F8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52BC-4DA9-45F6-ACE8-988BAB4F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EA65-9417-4E76-B8FB-D7111BBC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D85B-F5B1-4B81-88A6-1A305C99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C023-13B7-4E69-BAB1-3FABF0B4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B3F6-A2DB-4227-829A-B369AFE5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EED5-C633-46C6-9DD1-32030F19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CEE3-3B56-46D8-B242-C865FA0D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583F-AD18-4248-AD74-3973631A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0297-328B-4A63-AD2E-C297FBD8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99F-2472-41A9-9FFE-60722DA6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CE78-2B77-425C-804F-E1BE85DC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fc3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8E35-EADD-445D-8650-6377E7A5E75E}" type="slidenum"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4508640"/>
            <a:ext cx="6400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99"/>
                </a:solidFill>
                <a:latin typeface="Arial"/>
              </a:rPr>
              <a:t>Ing. Jan Plechatý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99"/>
                </a:solidFill>
                <a:latin typeface="Arial"/>
              </a:rPr>
              <a:t>Ing. František Smrčk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Expertengruppe ECO der IKSE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POTSDAM, 12/2007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755640" y="907920"/>
            <a:ext cx="792000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Bewirtschaftungsplanung – Wirtschaftliche Analyse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43" name="Picture 24" descr="vrv"/>
          <p:cNvPicPr/>
          <p:nvPr/>
        </p:nvPicPr>
        <p:blipFill>
          <a:blip r:embed="rId1"/>
          <a:stretch/>
        </p:blipFill>
        <p:spPr>
          <a:xfrm>
            <a:off x="8101080" y="6165720"/>
            <a:ext cx="792000" cy="470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5"/>
          <p:cNvSpPr/>
          <p:nvPr/>
        </p:nvSpPr>
        <p:spPr>
          <a:xfrm>
            <a:off x="593640" y="2852640"/>
            <a:ext cx="82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99"/>
                </a:solidFill>
                <a:uFillTx/>
                <a:latin typeface="Arial"/>
              </a:rPr>
              <a:t>Verfahrensweise in der Teilflussgebietseinhei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99"/>
                </a:solidFill>
                <a:uFillTx/>
                <a:latin typeface="Arial"/>
              </a:rPr>
              <a:t>„</a:t>
            </a:r>
            <a:r>
              <a:rPr b="1" lang="de-DE" sz="2400" spc="-1" strike="noStrike" u="sng">
                <a:solidFill>
                  <a:srgbClr val="000099"/>
                </a:solidFill>
                <a:uFillTx/>
                <a:latin typeface="Arial"/>
              </a:rPr>
              <a:t>Obere und Mittlere Elbe“ (Tschechische Republik</a:t>
            </a:r>
            <a:r>
              <a:rPr b="1" lang="cs-CZ" sz="2400" spc="-1" strike="noStrike" u="sng">
                <a:solidFill>
                  <a:srgbClr val="000099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Zum Schwerpunkt „C“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8920" y="1904760"/>
            <a:ext cx="8231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marL="289080" indent="-289080" algn="just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Analyse der Kost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9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9080" indent="-289080" algn="just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Analyse der Einnahm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9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Beurteilung und Bewertung </a:t>
            </a:r>
            <a:br>
              <a:rPr sz="3200"/>
            </a:b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  der Kostendecku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Line 4"/>
          <p:cNvSpPr/>
          <p:nvPr/>
        </p:nvSpPr>
        <p:spPr>
          <a:xfrm>
            <a:off x="0" y="1628640"/>
            <a:ext cx="9144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7" name="Picture 5" descr="vrv"/>
          <p:cNvPicPr/>
          <p:nvPr/>
        </p:nvPicPr>
        <p:blipFill>
          <a:blip r:embed="rId1"/>
          <a:stretch/>
        </p:blipFill>
        <p:spPr>
          <a:xfrm>
            <a:off x="8172360" y="6237360"/>
            <a:ext cx="79236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99"/>
                </a:solidFill>
                <a:latin typeface="Arial"/>
              </a:rPr>
              <a:t>Zum Schwerpunkt „C“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 algn="just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cc"/>
              </a:solidFill>
              <a:latin typeface="Times New Roman"/>
            </a:endParaRPr>
          </a:p>
          <a:p>
            <a:pPr marL="289080" indent="0" algn="just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Line 4"/>
          <p:cNvSpPr/>
          <p:nvPr/>
        </p:nvSpPr>
        <p:spPr>
          <a:xfrm>
            <a:off x="0" y="1628640"/>
            <a:ext cx="9144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Picture 5" descr="vrv"/>
          <p:cNvPicPr/>
          <p:nvPr/>
        </p:nvPicPr>
        <p:blipFill>
          <a:blip r:embed="rId1"/>
          <a:stretch/>
        </p:blipFill>
        <p:spPr>
          <a:xfrm>
            <a:off x="8172360" y="6237360"/>
            <a:ext cx="792360" cy="46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611280" y="1981080"/>
          <a:ext cx="7846920" cy="4019760"/>
        </p:xfrm>
        <a:graphic>
          <a:graphicData uri="http://schemas.openxmlformats.org/drawingml/2006/table">
            <a:tbl>
              <a:tblPr/>
              <a:tblGrid>
                <a:gridCol w="2736720"/>
                <a:gridCol w="5110200"/>
              </a:tblGrid>
              <a:tr h="798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ektor der Fließgewässer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taatliche Wasserwirtschaftsbetriebe Povodí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andwirtschaftliche Wasserwirtschaftsverwaltung (ZVS)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98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ektor Wasserversorgungs- und Abwasserent-</a:t>
                      </a:r>
                      <a:br>
                        <a:rPr sz="2000"/>
                      </a:br>
                      <a:r>
                        <a:rPr b="1" lang="de-DE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orgungsbetrieb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orstbetriebe der Tschechischen Republik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0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rinkwasserversorgung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9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bwasserableitung und -behandlung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Beurteilung der Kostendeckung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108000" y="1341000"/>
            <a:ext cx="9252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marL="289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285840" y="1071720"/>
            <a:ext cx="8567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6" name="Picture 5" descr="vrv"/>
          <p:cNvPicPr/>
          <p:nvPr/>
        </p:nvPicPr>
        <p:blipFill>
          <a:blip r:embed="rId1"/>
          <a:stretch/>
        </p:blipFill>
        <p:spPr>
          <a:xfrm>
            <a:off x="8172360" y="6237360"/>
            <a:ext cx="792360" cy="469800"/>
          </a:xfrm>
          <a:prstGeom prst="rect">
            <a:avLst/>
          </a:prstGeom>
          <a:ln w="0">
            <a:noFill/>
          </a:ln>
        </p:spPr>
      </p:pic>
      <p:pic>
        <p:nvPicPr>
          <p:cNvPr id="97" name="Tabelle 6" descr=""/>
          <p:cNvPicPr/>
          <p:nvPr/>
        </p:nvPicPr>
        <p:blipFill>
          <a:blip r:embed="rId2"/>
          <a:stretch/>
        </p:blipFill>
        <p:spPr>
          <a:xfrm>
            <a:off x="212760" y="1139760"/>
            <a:ext cx="86454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523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Gulim"/>
              </a:rPr>
              <a:t>Vielen Dank für Ihre Aufmerksamkeit </a:t>
            </a:r>
            <a:r>
              <a:rPr b="1" lang="cs-CZ" sz="3600" spc="-1" strike="noStrike">
                <a:solidFill>
                  <a:srgbClr val="000099"/>
                </a:solidFill>
                <a:latin typeface="Gulim"/>
              </a:rPr>
              <a:t>...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99" name="Picture 13" descr="vrv"/>
          <p:cNvPicPr/>
          <p:nvPr/>
        </p:nvPicPr>
        <p:blipFill>
          <a:blip r:embed="rId1"/>
          <a:stretch/>
        </p:blipFill>
        <p:spPr>
          <a:xfrm>
            <a:off x="3995640" y="4365720"/>
            <a:ext cx="792360" cy="4698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2411280" y="5084280"/>
            <a:ext cx="43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Arial"/>
              </a:rPr>
              <a:t>Vodohospodářský rozvoj a výstavba, a. s.</a:t>
            </a: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197000"/>
            <a:ext cx="3681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99"/>
                </a:solidFill>
                <a:latin typeface="Arial"/>
              </a:rPr>
              <a:t>Teilflussgebiets-einheiten in der Tschechischen Republik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46" name="Picture 3" descr="umori"/>
          <p:cNvPicPr/>
          <p:nvPr/>
        </p:nvPicPr>
        <p:blipFill>
          <a:blip r:embed="rId1"/>
          <a:stretch/>
        </p:blipFill>
        <p:spPr>
          <a:xfrm>
            <a:off x="4067280" y="115920"/>
            <a:ext cx="4968720" cy="2881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108000" y="3141720"/>
            <a:ext cx="5616360" cy="3605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8" name="Text Box 5"/>
          <p:cNvSpPr/>
          <p:nvPr/>
        </p:nvSpPr>
        <p:spPr>
          <a:xfrm>
            <a:off x="4673880" y="1500120"/>
            <a:ext cx="20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9933"/>
                </a:solidFill>
                <a:latin typeface="Arial Black"/>
              </a:rPr>
              <a:t>Einzugsgebiet der Elbe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7308720" y="48420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c0066"/>
                </a:solidFill>
                <a:latin typeface="Arial Black"/>
              </a:rPr>
              <a:t>Einzugsgebiet der Oder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6572880" y="2211480"/>
            <a:ext cx="140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9900"/>
                </a:solidFill>
                <a:latin typeface="Arial Black"/>
              </a:rPr>
              <a:t>Einzugsgebiet </a:t>
            </a:r>
            <a:br>
              <a:rPr sz="1400"/>
            </a:br>
            <a:r>
              <a:rPr b="0" lang="cs-CZ" sz="1400" spc="-1" strike="noStrike">
                <a:solidFill>
                  <a:srgbClr val="009900"/>
                </a:solidFill>
                <a:latin typeface="Arial Black"/>
              </a:rPr>
              <a:t>der Donau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2000" y="609480"/>
            <a:ext cx="68212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Wirtschaftliche Analyse – Schwerpunkte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2349000"/>
            <a:ext cx="7215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Wirtschaftliche Bedeutung der Wassernutzungen (Ausgangssituat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Entwicklungsprognose für Menge, Preise und Kosten im Zusammenhang mit Wassernutzung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Ermittlung der Kostendeckung für Wasser-</a:t>
            </a:r>
            <a:br>
              <a:rPr sz="2400"/>
            </a:b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nutzungen und Wasserdienstleistung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8000"/>
                </a:solidFill>
                <a:latin typeface="Arial"/>
              </a:rPr>
              <a:t>Beurteilung der Kosteneffizienz der einzelnen Maßnahmen einschließlich </a:t>
            </a:r>
            <a:br>
              <a:rPr sz="2400"/>
            </a:br>
            <a:r>
              <a:rPr b="1" lang="de-DE" sz="2400" spc="-1" strike="noStrike">
                <a:solidFill>
                  <a:srgbClr val="008000"/>
                </a:solidFill>
                <a:latin typeface="Arial"/>
              </a:rPr>
              <a:t>ihrer ökonomischen Auswirkung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Picture 11" descr="vrv"/>
          <p:cNvPicPr/>
          <p:nvPr/>
        </p:nvPicPr>
        <p:blipFill>
          <a:blip r:embed="rId1"/>
          <a:stretch/>
        </p:blipFill>
        <p:spPr>
          <a:xfrm>
            <a:off x="8172360" y="6237360"/>
            <a:ext cx="79236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Zum Schwerpunkt „A“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9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9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Line 9"/>
          <p:cNvSpPr/>
          <p:nvPr/>
        </p:nvSpPr>
        <p:spPr>
          <a:xfrm>
            <a:off x="0" y="1125360"/>
            <a:ext cx="9036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8" name="Picture 12" descr="vrv"/>
          <p:cNvPicPr/>
          <p:nvPr/>
        </p:nvPicPr>
        <p:blipFill>
          <a:blip r:embed="rId1"/>
          <a:stretch/>
        </p:blipFill>
        <p:spPr>
          <a:xfrm>
            <a:off x="8172360" y="6237360"/>
            <a:ext cx="792360" cy="46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357120" y="1285920"/>
          <a:ext cx="8393040" cy="5132520"/>
        </p:xfrm>
        <a:graphic>
          <a:graphicData uri="http://schemas.openxmlformats.org/drawingml/2006/table">
            <a:tbl>
              <a:tblPr/>
              <a:tblGrid>
                <a:gridCol w="4035600"/>
                <a:gridCol w="1487520"/>
                <a:gridCol w="2869920"/>
              </a:tblGrid>
              <a:tr h="509400"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Wassernutzunge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echnische Date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Wirtschaftliche und sozioökonomische Date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rinkwasserversorgung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bwasserableitung und -behandlung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Wassernutzungen in der Landwirtschaft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Energiewirtschaft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Wasserkraft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Wassernutzungen in der Industri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chifffahrt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ischwirtschaft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ortangler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Erholung am Wasser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Hochwasserschutz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>
                      <a:noFill/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99"/>
                </a:solidFill>
                <a:latin typeface="Arial"/>
              </a:rPr>
              <a:t>Wassernutzungen in der tschechischen Teilflussgebietseinheit „Obere und Mittlere Elbe“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08000" y="1341000"/>
            <a:ext cx="9252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marL="289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-181080" y="1052640"/>
            <a:ext cx="9144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" name="Picture 5" descr="vrv"/>
          <p:cNvPicPr/>
          <p:nvPr/>
        </p:nvPicPr>
        <p:blipFill>
          <a:blip r:embed="rId1"/>
          <a:stretch/>
        </p:blipFill>
        <p:spPr>
          <a:xfrm>
            <a:off x="8172360" y="6237360"/>
            <a:ext cx="792360" cy="46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B"/>
          <p:cNvPicPr/>
          <p:nvPr/>
        </p:nvPicPr>
        <p:blipFill>
          <a:blip r:embed="rId2"/>
          <a:stretch/>
        </p:blipFill>
        <p:spPr>
          <a:xfrm>
            <a:off x="-324000" y="-71280"/>
            <a:ext cx="9792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99"/>
                </a:solidFill>
                <a:latin typeface="Arial"/>
              </a:rPr>
              <a:t>Wassernutzungen in der tschechischen Teilflussgebietseinheit „Obere und Mittlere Elbe“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108000" y="1341000"/>
            <a:ext cx="9252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marL="289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Line 4"/>
          <p:cNvSpPr/>
          <p:nvPr/>
        </p:nvSpPr>
        <p:spPr>
          <a:xfrm>
            <a:off x="-181080" y="1052640"/>
            <a:ext cx="9144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8" name="Picture 5" descr="vrv"/>
          <p:cNvPicPr/>
          <p:nvPr/>
        </p:nvPicPr>
        <p:blipFill>
          <a:blip r:embed="rId1"/>
          <a:stretch/>
        </p:blipFill>
        <p:spPr>
          <a:xfrm>
            <a:off x="8172360" y="6237360"/>
            <a:ext cx="792360" cy="469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B"/>
          <p:cNvPicPr/>
          <p:nvPr/>
        </p:nvPicPr>
        <p:blipFill>
          <a:blip r:embed="rId2"/>
          <a:stretch/>
        </p:blipFill>
        <p:spPr>
          <a:xfrm>
            <a:off x="-612720" y="-46080"/>
            <a:ext cx="9864720" cy="69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7120" y="64296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99"/>
                </a:solidFill>
                <a:latin typeface="Arial"/>
              </a:rPr>
              <a:t>Unterlagen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920" y="1904760"/>
            <a:ext cx="8231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marL="289080" indent="-289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Statistische Dat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9080" indent="-289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Unterlagen der Ministeri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Unterlagen der Gewässerunterhaltungspflichtig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9080" indent="-289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Wasserwirtschaftliche Bilan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9080" indent="-289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Spezifische Erhebungen</a:t>
            </a:r>
            <a:r>
              <a:rPr b="0" lang="de-DE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Vermögens- und Betriebsinventar </a:t>
            </a:r>
            <a:br>
              <a:rPr sz="2400"/>
            </a:b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der Wasserversorgungs- und Abwasserentsorgungsbetriebe (VaK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Line 4"/>
          <p:cNvSpPr/>
          <p:nvPr/>
        </p:nvSpPr>
        <p:spPr>
          <a:xfrm>
            <a:off x="0" y="1628640"/>
            <a:ext cx="9144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3" name="Picture 5" descr="vrv"/>
          <p:cNvPicPr/>
          <p:nvPr/>
        </p:nvPicPr>
        <p:blipFill>
          <a:blip r:embed="rId1"/>
          <a:stretch/>
        </p:blipFill>
        <p:spPr>
          <a:xfrm>
            <a:off x="8172360" y="6237360"/>
            <a:ext cx="79236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Parameter – wirtschaftliche und sozioökonomische Bewertung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5" name="Line 4"/>
          <p:cNvSpPr/>
          <p:nvPr/>
        </p:nvSpPr>
        <p:spPr>
          <a:xfrm>
            <a:off x="-181080" y="1052640"/>
            <a:ext cx="9144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6" name="Picture 5" descr="vrv"/>
          <p:cNvPicPr/>
          <p:nvPr/>
        </p:nvPicPr>
        <p:blipFill>
          <a:blip r:embed="rId1"/>
          <a:stretch/>
        </p:blipFill>
        <p:spPr>
          <a:xfrm>
            <a:off x="8172360" y="6237360"/>
            <a:ext cx="792360" cy="4698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920" y="5500800"/>
            <a:ext cx="862668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 baseline="30000">
                <a:solidFill>
                  <a:srgbClr val="000099"/>
                </a:solidFill>
                <a:latin typeface="Arial"/>
                <a:ea typeface="Times New Roman"/>
              </a:rPr>
              <a:t>1  </a:t>
            </a:r>
            <a:r>
              <a:rPr b="0" lang="de-DE" sz="1100" spc="-1" strike="noStrike">
                <a:solidFill>
                  <a:srgbClr val="000099"/>
                </a:solidFill>
                <a:latin typeface="Arial"/>
                <a:ea typeface="Times New Roman"/>
              </a:rPr>
              <a:t>einschließlich Ableitung von Niederschlagswasser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 baseline="30000">
                <a:solidFill>
                  <a:srgbClr val="000099"/>
                </a:solidFill>
                <a:latin typeface="Arial"/>
                <a:ea typeface="Times New Roman"/>
              </a:rPr>
              <a:t>2  </a:t>
            </a:r>
            <a:r>
              <a:rPr b="0" lang="de-DE" sz="1100" spc="-1" strike="noStrike">
                <a:solidFill>
                  <a:srgbClr val="000099"/>
                </a:solidFill>
                <a:latin typeface="Arial"/>
                <a:ea typeface="Times New Roman"/>
              </a:rPr>
              <a:t>Angegeben sind die Erlöse für Wasserdienstleistungen im Sektor Wasserver- und Abwasserentsorgungsbetriebe für Haushalte, </a:t>
            </a:r>
            <a:br>
              <a:rPr sz="1100"/>
            </a:br>
            <a:r>
              <a:rPr b="0" lang="de-DE" sz="1100" spc="-1" strike="noStrike">
                <a:solidFill>
                  <a:srgbClr val="000099"/>
                </a:solidFill>
                <a:latin typeface="Arial"/>
                <a:ea typeface="Times New Roman"/>
              </a:rPr>
              <a:t>            ggf. Verkauf von Strom.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 baseline="30000">
                <a:solidFill>
                  <a:srgbClr val="000099"/>
                </a:solidFill>
                <a:latin typeface="Arial"/>
                <a:ea typeface="Times New Roman"/>
              </a:rPr>
              <a:t>3  </a:t>
            </a:r>
            <a:r>
              <a:rPr b="0" lang="de-DE" sz="1100" spc="-1" strike="noStrike">
                <a:solidFill>
                  <a:srgbClr val="000099"/>
                </a:solidFill>
                <a:latin typeface="Arial"/>
                <a:ea typeface="Times New Roman"/>
              </a:rPr>
              <a:t>Mitarbeiter im Bereich Wasserbereitstellung und Abwasserableitung für Haushalte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85840" y="1214280"/>
          <a:ext cx="8501040" cy="4286520"/>
        </p:xfrm>
        <a:graphic>
          <a:graphicData uri="http://schemas.openxmlformats.org/drawingml/2006/table">
            <a:tbl>
              <a:tblPr/>
              <a:tblGrid>
                <a:gridCol w="1184040"/>
                <a:gridCol w="1011240"/>
                <a:gridCol w="1011240"/>
                <a:gridCol w="1081080"/>
                <a:gridCol w="1082880"/>
                <a:gridCol w="1184040"/>
                <a:gridCol w="935280"/>
                <a:gridCol w="1011240"/>
              </a:tblGrid>
              <a:tr h="57960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93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 gridSpan="2"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Signifikante Belastungen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Wirtschaftliche Daten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Wirtschaftliche und sozioökonomische Daten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080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Sektor der Wassernutzung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93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Wasser-entnahmen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(Mio. m</a:t>
                      </a:r>
                      <a:r>
                        <a:rPr b="0" lang="de-DE" sz="1200" spc="-1" strike="noStrike" baseline="30000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/Jahr)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Wasser-einleitungen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(Mio. m</a:t>
                      </a:r>
                      <a:r>
                        <a:rPr b="0" lang="de-DE" sz="1200" spc="-1" strike="noStrike" baseline="30000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/Jahr)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Brutto- produktion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(Mio. CZK/Jahr)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Zahlungen für Wasser-nutzungen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(Mio. CZK/Jahr)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Anteil der Zahlungen an der Brutto-produktion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(den Erlösen)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(%)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Anzahl der Beschäftig-ten in der Teilflussge-bietseinheit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Anteil an der Beschäfti-gungsquote in der Teil-flussgebiets-einheit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Haushalte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93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dec" pos="411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64,2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86,7 </a:t>
                      </a:r>
                      <a:r>
                        <a:rPr b="0" lang="de-DE" sz="1200" spc="-1" strike="noStrike" baseline="30000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795 </a:t>
                      </a:r>
                      <a:r>
                        <a:rPr b="0" lang="de-DE" sz="1200" spc="-1" strike="noStrike" baseline="30000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dec" pos="61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27,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dec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8,6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 200 </a:t>
                      </a:r>
                      <a:r>
                        <a:rPr b="0" lang="de-DE" sz="1200" spc="-1" strike="noStrike" baseline="30000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dec" pos="480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Landwirtschaft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93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dec" pos="411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0,02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6 14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dec" pos="61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dec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0,02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2 767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dec" pos="480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Industrie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93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dec" pos="411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86,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79,1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94 76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dec" pos="61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39,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dec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0,08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10 723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dec" pos="480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0,6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Energiewirt-schaft ohne Wasserkraft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93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dec" pos="411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9,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,7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8 74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dec" pos="61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2,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dec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0,12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7 66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dec" pos="480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Wasserkraft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93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12 </a:t>
                      </a:r>
                      <a:r>
                        <a:rPr b="0" lang="de-DE" sz="1200" spc="-1" strike="noStrike" baseline="30000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dec" pos="611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dec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8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dec" pos="480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0,0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2060"/>
                      </a:solidFill>
                    </a:lnL>
                    <a:lnR w="93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9360">
                      <a:solidFill>
                        <a:srgbClr val="00206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99"/>
                </a:solidFill>
                <a:latin typeface="Arial"/>
              </a:rPr>
              <a:t>Zum Schwerpunkt „B“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9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9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0" y="1125360"/>
            <a:ext cx="9036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2" name="Picture 5" descr="vrv"/>
          <p:cNvPicPr/>
          <p:nvPr/>
        </p:nvPicPr>
        <p:blipFill>
          <a:blip r:embed="rId1"/>
          <a:stretch/>
        </p:blipFill>
        <p:spPr>
          <a:xfrm>
            <a:off x="8172360" y="6237360"/>
            <a:ext cx="792360" cy="46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357120" y="1268280"/>
          <a:ext cx="8497800" cy="5175360"/>
        </p:xfrm>
        <a:graphic>
          <a:graphicData uri="http://schemas.openxmlformats.org/drawingml/2006/table">
            <a:tbl>
              <a:tblPr/>
              <a:tblGrid>
                <a:gridCol w="2693880"/>
                <a:gridCol w="1866960"/>
                <a:gridCol w="1865520"/>
                <a:gridCol w="1036440"/>
                <a:gridCol w="1035000"/>
              </a:tblGrid>
              <a:tr h="98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Wassernutzungen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</a:rPr>
                        <a:t>Daten: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echnische Wirtschaftlich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ozioökonomisch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Wahrscheinlich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</a:t>
                      </a:r>
                      <a:r>
                        <a:rPr b="1" lang="de-DE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riant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Minimal-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ariant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Maximal-variant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rinkwasserversorgung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bwasserableitung und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-behandlung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Wassernutzungen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in der Landwirtschaft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Energiewirtschaft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Wasserkraft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Wassernutzungen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in der Industri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chifffahrt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Fischwirtschaft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ortangle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Erholung am Wasse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Hochwasserschutz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>
                      <a:noFill/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KSE</cp:lastModifiedBy>
  <dcterms:modified xsi:type="dcterms:W3CDTF">2007-12-18T12:22:21Z</dcterms:modified>
  <cp:revision>34</cp:revision>
  <dc:subject/>
  <dc:title>Bewirtschaftungsplanung – Wirtschaftiche Analyse</dc:title>
</cp:coreProperties>
</file>