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91813" cy="7559675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684360" y="763200"/>
            <a:ext cx="527976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669fd1"/>
                </a:solidFill>
                <a:latin typeface="Times New Roman"/>
              </a:rPr>
              <a:t>Click to move the slide</a:t>
            </a: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EE6D789-5F13-459C-8F31-B9EB09B7D9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BC890CC-778C-411B-BB4D-05E6F661C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458640" y="574560"/>
            <a:ext cx="5743800" cy="4060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87040" y="4718160"/>
            <a:ext cx="4886280" cy="41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er your Login you see some more icons on the top of the map. Click on the right button to see more buttons for digitizing fun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C04F7FD-8B23-4118-9A99-26ED147A6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458640" y="574560"/>
            <a:ext cx="5743800" cy="4060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87040" y="4718160"/>
            <a:ext cx="4886280" cy="41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y using the different button you can digitize some features on the map and chare these information with your te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9840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y clicking the SendEmail Button a new window appears where you have to fill in the shown fields for your email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the top you see the different flags. Currently the german language is implemented and if you select another one the english language app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t if you like to generate a map for printing you will see the title of the map in your language which you have choos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example: Select „Areas of operation“ as thematic map and then „Map load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e the title of the map which is in english language. Not all languages have been implemented so far but in future they will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other example is the Sediment management plan for the R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oom into an area and use the feature info button and click on a yellow number. Now you can select a pdf-document in different langu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you have seen so far is available for the external world what means that every user can see this inform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w we switch into our internal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You see the LOGIN-Button on the right top of the page. Select the button and use wasserblick/wasserblick as Lo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88600" y="7238880"/>
            <a:ext cx="107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0C8DA1C3-CF0C-4D2D-9749-654E63A4B6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126280" y="289080"/>
            <a:ext cx="2313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669fd1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9960" indent="-6699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1360" indent="-4809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996920" indent="-46512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5080" indent="-3873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139920" indent="-37440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3139920" indent="-374400">
              <a:spcBef>
                <a:spcPts val="374"/>
              </a:spcBef>
              <a:buClr>
                <a:srgbClr val="0000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3139920" indent="-374400">
              <a:spcBef>
                <a:spcPts val="374"/>
              </a:spcBef>
              <a:buClr>
                <a:srgbClr val="0000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ps.wasserblick.net/mapnavigator/mapnavigator.jsp?thematicGroup=IKSR&amp;action=setLanguage&amp;lang=de&amp;thematicGroup=IKS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0000" y="3995640"/>
            <a:ext cx="84726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monstration MapCli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5760" y="304920"/>
            <a:ext cx="73166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54000" y="25560"/>
            <a:ext cx="9737640" cy="753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89640" y="1116000"/>
            <a:ext cx="129708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0920" y="0"/>
            <a:ext cx="9810720" cy="75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8729640" cy="75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9680"/>
            <a:ext cx="10058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. Sven-Henrik Kleb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partment Geoinformation and Remote Sensing, GRDC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deral Institute of Hydrology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Mainzer Tor 1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6068 Koblenz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ail: kleber@bafg.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one: 0049 (0)261 1306-5995</a:t>
            </a:r>
            <a:endParaRPr b="1" lang="en-US" sz="2000" spc="-1" strike="noStrike">
              <a:solidFill>
                <a:srgbClr val="669f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8000" y="1547640"/>
            <a:ext cx="97437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33360" indent="-333360">
              <a:lnSpc>
                <a:spcPct val="125000"/>
              </a:lnSpc>
              <a:spcBef>
                <a:spcPts val="1125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following link shows the map client where the map products of the IKSR / ICPR are preselect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25000"/>
              </a:lnSpc>
              <a:spcBef>
                <a:spcPts val="1125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25000"/>
              </a:lnSpc>
              <a:spcBef>
                <a:spcPts val="751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r>
              <a:rPr b="0" lang="es-ES" sz="1200" spc="-1" strike="noStrike" u="sng">
                <a:solidFill>
                  <a:srgbClr val="948580"/>
                </a:solidFill>
                <a:uFillTx/>
                <a:latin typeface="Times New Roman"/>
                <a:hlinkClick r:id="rId1"/>
              </a:rPr>
              <a:t>http://maps.wasserblick.net/mapnavigator/mapnavigator.jsp?thematicGroup=IKSR&amp;action=setLanguage&amp;lang=de&amp;thematicGroup=IK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280" y="1413000"/>
            <a:ext cx="74883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3280" y="1258920"/>
            <a:ext cx="68407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540"/>
          <a:stretch/>
        </p:blipFill>
        <p:spPr>
          <a:xfrm>
            <a:off x="1025640" y="23760"/>
            <a:ext cx="966600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757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289"/>
          <a:stretch/>
        </p:blipFill>
        <p:spPr>
          <a:xfrm>
            <a:off x="954000" y="0"/>
            <a:ext cx="9737640" cy="75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750"/>
          <a:stretch/>
        </p:blipFill>
        <p:spPr>
          <a:xfrm>
            <a:off x="-774720" y="0"/>
            <a:ext cx="12192120" cy="948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87440" y="2484360"/>
            <a:ext cx="43531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289"/>
          <a:stretch/>
        </p:blipFill>
        <p:spPr>
          <a:xfrm>
            <a:off x="954000" y="0"/>
            <a:ext cx="9737640" cy="753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802720" y="1042920"/>
            <a:ext cx="79200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3:01:48Z</dcterms:created>
  <dc:creator/>
  <dc:description/>
  <cp:keywords>Informationsaustausch Flussgebietseinheiten</cp:keywords>
  <dc:language>en-US</dc:language>
  <cp:lastModifiedBy>Dr. Sven-Henrik Kleber</cp:lastModifiedBy>
  <cp:lastPrinted>2005-02-22T15:46:12Z</cp:lastPrinted>
  <dcterms:modified xsi:type="dcterms:W3CDTF">2010-11-26T12:41:17Z</dcterms:modified>
  <cp:revision>193</cp:revision>
  <dc:subject>Informationsaustauch zur WRRL</dc:subject>
  <dc:title>Herzlich Willkommen Dr. Birgit Esser Abteilung U, Referat U1 Bundesanstalt für Gewässerkunde, Kobl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3327942</vt:r8>
  </property>
  <property fmtid="{D5CDD505-2E9C-101B-9397-08002B2CF9AE}" pid="3" name="_AuthorEmail">
    <vt:lpwstr>Kleber@bafg.de</vt:lpwstr>
  </property>
  <property fmtid="{D5CDD505-2E9C-101B-9397-08002B2CF9AE}" pid="4" name="_AuthorEmailDisplayName">
    <vt:lpwstr>Kleber, Sven-Henrik, M4, MT</vt:lpwstr>
  </property>
  <property fmtid="{D5CDD505-2E9C-101B-9397-08002B2CF9AE}" pid="5" name="_EmailSubject">
    <vt:lpwstr>IKSE / DATA - Vorlagen zur 14. Beratung der EG DATA</vt:lpwstr>
  </property>
  <property fmtid="{D5CDD505-2E9C-101B-9397-08002B2CF9AE}" pid="6" name="_NewReviewCycle">
    <vt:lpwstr/>
  </property>
</Properties>
</file>