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F85-2B05-4C36-9272-4BD952CFC7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4723-8BEC-4709-80B6-85926A8484B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6F1-B148-4B2C-BA4B-73670865E4C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F13-E54C-40C4-A244-D177B9702E5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F7E-AEC8-4DC2-8F01-4B7DD79F768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520-AD53-4D5B-AC8E-32897CC04D6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1374-C144-4521-BCF3-E95C48B838C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C0B0-3971-4A5A-BE23-80997CD9E5E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7977-F7C3-4508-9E0F-AD26D4389C2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5A7-E8E1-4D60-B0B5-7AD674B2B4F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00E-571E-460F-9463-0B1A547C78F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E34-5EF2-47B5-B03C-C37A8664C87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A18-B4CE-42B1-A799-710341B3D56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FE2-8727-413C-938D-22516F5B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BA9-6718-4F8A-B688-EF41FFC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C2E-1AE0-4D3D-8FEB-CA1BD23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0F4-BC0D-4E78-8C6A-72BC6DC6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9ADF9-F6AF-454C-A2F2-C2E0EE00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EDDCE-DC20-4D1A-8779-3261C5E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64ABB-DF16-407C-BBF0-54FA2E7A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6D19E-2696-4C60-BB96-B8584E53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EFF24-0D62-45EE-99BE-655240C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2119-02FC-4CEE-8C92-88C41E52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1F6AC-4880-4A51-938D-4A143F2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353-F994-4957-96B5-891D531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E11C-5216-4A70-B68E-43ED236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ECE28-6AE2-413A-92D9-9A0830B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51DA6-B273-483C-BB0B-0C7DBF2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54F2-A8F7-4C60-A166-7379CD8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84B3-C5B0-4541-A9EC-2B475E52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D4A-7A7B-411B-967F-68CB68E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60E-256F-4057-9B94-555BB399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FAC-CC9B-48B2-9987-30686C8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A62-03E5-4E4D-8122-1862C07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FC4-5D4B-4B5B-8AB3-2198895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602-3D41-4CC1-AB26-4C08D91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00F-3A12-4C04-B377-2FE5A4EB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BBE-6031-491C-9854-11BAA99FCEC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CCD-E4D2-4A95-B91C-94B594C1EC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BBE-8F06-4506-BD8C-CF64C41F405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FE3-B3B5-44C4-8285-10FFEA82F234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F7D-1663-45BE-9632-569CBD7976B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 9 N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ue Elbe</a:t>
            </a: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kilometr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erung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nforma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ion über die Einführung in die Prax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g. Staněk P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3809880" y="5105520"/>
          <a:ext cx="1533600" cy="10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105520"/>
                    <a:ext cx="15336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umsplatzhalt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Fußzeilenplatzhalt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EB4D-61E6-4D2F-A75D-835B3E5635A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 der Markierung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er Elbewasserstraße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9" descr="818_Steti"/>
          <p:cNvPicPr/>
          <p:nvPr/>
        </p:nvPicPr>
        <p:blipFill>
          <a:blip r:embed="rId1"/>
          <a:stretch/>
        </p:blipFill>
        <p:spPr>
          <a:xfrm>
            <a:off x="457200" y="2438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843_Obristvi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umsplatzhalt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Fußzeilenplatzhalt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F32-8C95-4E58-A732-E129B01507E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 der Markierung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er Elbewasserstraße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850_Lobkovice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857_Kostelec"/>
          <p:cNvPicPr/>
          <p:nvPr/>
        </p:nvPicPr>
        <p:blipFill>
          <a:blip r:embed="rId2"/>
          <a:stretch/>
        </p:blipFill>
        <p:spPr>
          <a:xfrm>
            <a:off x="4724280" y="243828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8DD-B07A-4E3E-A4FA-CD6CC1B742B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9692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Vielen Dank für Ihre Aufmerksamkeit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g. Staněk P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3809880" y="5105520"/>
          <a:ext cx="1533600" cy="10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105520"/>
                    <a:ext cx="15336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072-9720-4751-900E-2391DCDF4D5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Zusammenfassung der Vorberei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415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/2006 …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ATA –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estlegung der Regeln und Schritte zur Vorbereitung auf eine einheitliche Elb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ilometr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erung in Tschech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007 …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Vereinbarung zwischen Vertretern der  Wasserstraßendirektion (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ŘVC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, der Staatlichen Schifffahrtsverwaltung (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PS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 und von Povodí Labe über die Nutzung einer einheitlichen K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lometr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erung mit de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0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n der Nords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008 …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vel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ierung des Gesetze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114/1995 Sb.,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über die Binnenschifffahrt,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309/2008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it Wirksamkeit ab dem 0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2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785-D920-4789-9240-7B518E2D164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7/2008 Povodí La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rv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 der ursprünglichen Elb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ilomet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 als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istori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che Kilometrier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B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Umschreibung der 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lomet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swerte an allen 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bjek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n an der Elbe in die neu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p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äische 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lomet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(GIS, ISyPo, 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ntwicklung einer Internetanwendung zur Umrechnung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r ursprünglichen 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lomet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 in die neue und umgekehrt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pla.cz/planet/projects/akmekmLabe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ä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nta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ion einer Tabelle der Wehre und Brücken an der Elbe mit der neuen und den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istori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en 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lomet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ierung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inschließlich Schifffahrtskilometrierung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http://www.pla.cz/planet/projects/akmekmLabe/vybraneobjekty.ht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1ECD-5AA0-4E59-8DC4-7195B7209769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B849-3DB5-4A47-BC6E-F91E46D4291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lConvert"/>
          <p:cNvPicPr/>
          <p:nvPr/>
        </p:nvPicPr>
        <p:blipFill>
          <a:blip r:embed="rId1"/>
          <a:stretch/>
        </p:blipFill>
        <p:spPr>
          <a:xfrm>
            <a:off x="380880" y="0"/>
            <a:ext cx="844236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EAD-75AC-43C2-8607-0DDDF153396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Old_PlavMapa"/>
          <p:cNvPicPr/>
          <p:nvPr/>
        </p:nvPicPr>
        <p:blipFill>
          <a:blip r:embed="rId1"/>
          <a:stretch/>
        </p:blipFill>
        <p:spPr>
          <a:xfrm>
            <a:off x="3200400" y="152280"/>
            <a:ext cx="5754600" cy="6232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52280" y="144792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09 St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aat-liche Schiff-fahrtsver-waltung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S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Änderung in de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git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chifffahrts-karten</a:t>
            </a:r>
            <a:br>
              <a:rPr sz="2800"/>
            </a:b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http://www.lavdis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4952880" y="152280"/>
            <a:ext cx="274320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96080" y="152280"/>
            <a:ext cx="609840" cy="5639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umsplatzhalt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6DE5-7D8A-400E-9CE4-F905956F5DE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6520" y="7632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mapy.spspraha.cz/public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2" descr="MapySPS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353200"/>
          </a:xfrm>
          <a:prstGeom prst="rect">
            <a:avLst/>
          </a:prstGeom>
          <a:ln w="0">
            <a:noFill/>
          </a:ln>
        </p:spPr>
      </p:pic>
      <p:sp>
        <p:nvSpPr>
          <p:cNvPr id="124" name="Line 24"/>
          <p:cNvSpPr/>
          <p:nvPr/>
        </p:nvSpPr>
        <p:spPr>
          <a:xfrm flipH="1">
            <a:off x="5562720" y="152280"/>
            <a:ext cx="213336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F3D2-DD65-45C6-9E68-438555DABD9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 der Markierung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er Elbewasserstraße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auherr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serstraßendirektion CZ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ŘV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auaufsich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vodí Labe, státní podn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jektant:  PÖYRY Enviro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nt, a.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uftragnehmer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Labská strojní a stavební, s.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.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is Ende dieses Jahres wird die Maßnahm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is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nětice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abgeschlosse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. h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m gesamten Abschnitt der bedeutsamen genutzten Wasserstraß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ußzeilenplatzhalt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48C-5269-447E-9179-6C1FD38FD10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Umsetzung der Markierung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Tahoma"/>
              </a:rPr>
              <a:t>der Elbewasserstraße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001_StarePryc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100_Nove2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24.06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ußzeilenplatzhalt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vodí Labe, státní podni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FFD-2A00-42A0-8A5C-F6B9C69AE13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Umsetzung der Markierung</a:t>
            </a: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der Elbewasserstraße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100_Nove3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744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ronika</cp:lastModifiedBy>
  <dcterms:modified xsi:type="dcterms:W3CDTF">2010-07-07T06:52:0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3</vt:r8>
  </property>
</Properties>
</file>