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36F-76B9-48FC-86E3-ECD32F60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80F-BF93-405D-B9EA-67C7D77E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8D3-B23B-4D9D-B73E-81052ED1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5A1-84CF-48E3-B1A2-F0F4E43E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7D1-E98E-41C7-B1F8-120E5CA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ABC-11E2-4DEE-AC00-1790BFC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768-C7DA-474B-887F-606C408A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8E0-437B-4780-894A-EB127210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829-C86D-4616-B24E-43D60436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B96-5900-45E0-B3E0-3F2C1F18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618-FCEC-4DE5-A74F-251C287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A9B-C916-401B-A452-7583142E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6A36-B6D4-4834-8BFA-04F9803D30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ußzeilenplatzhalt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:\Documents and Settings\user\Dokumenty\Dokumenty\GIS\Labe\11data_03_09\P10004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400" spc="-1" strike="noStrike">
                <a:solidFill>
                  <a:srgbClr val="3333cc"/>
                </a:solidFill>
                <a:latin typeface="Times New Roman"/>
              </a:rPr>
              <a:t>WFD Geoportal</a:t>
            </a:r>
            <a:br>
              <a:rPr sz="4400"/>
            </a:br>
            <a:r>
              <a:rPr b="1" lang="en-PH" sz="4400" spc="-1" strike="noStrike">
                <a:solidFill>
                  <a:srgbClr val="3333cc"/>
                </a:solidFill>
                <a:latin typeface="Times New Roman"/>
              </a:rPr>
              <a:t>of the Czech Repub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Preliminary report concerning the technological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ality under solu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ata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data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esentation on nation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esentation on international and European level (WISE uplo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ta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3200" spc="-1" strike="noStrike">
                <a:solidFill>
                  <a:srgbClr val="3333cc"/>
                </a:solidFill>
                <a:latin typeface="Times New Roman"/>
              </a:rPr>
              <a:t>XML plat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02XML Forms  -&gt;  602XML Server  -&gt;  DBM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ew!!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>
                <a:solidFill>
                  <a:srgbClr val="000000"/>
                </a:solidFill>
                <a:latin typeface="Times New Roman"/>
              </a:rPr>
              <a:t>Valid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200" spc="-1" strike="noStrike">
                <a:solidFill>
                  <a:srgbClr val="000000"/>
                </a:solidFill>
                <a:latin typeface="Times New Roman"/>
              </a:rPr>
              <a:t>Overlapping, composition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tribu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Postgre, MS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  <a:ea typeface="Calibri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atial data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Opensource, Intergraph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  <a:ea typeface="Calibri"/>
              </a:rPr>
              <a:t>ESRI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ArcG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ta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ttribu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(rec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Database 11g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XML Developer 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Developer Tools for Visual Studio .NE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VB, C++,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#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JDeveloper (JAVA  J2SE, JD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Zend Core for Oracle (PH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APPEX (Oracle Application Exp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DF expor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ada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XMP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patial data/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rcGI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esentation on national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  <a:ea typeface="Calibri"/>
              </a:rPr>
              <a:t>WEB Services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  <a:ea typeface="Calibri"/>
              </a:rPr>
              <a:t> WEB Map Servic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ternatives of localization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WS + W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WS) / Cenia (W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Cenia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WS + WMS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ußzeilenplatzhalt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4400" spc="-1" strike="noStrike">
                <a:solidFill>
                  <a:srgbClr val="3333cc"/>
                </a:solidFill>
                <a:latin typeface="Times New Roman"/>
              </a:rPr>
              <a:t>Data processing – atribute data,     </a:t>
            </a:r>
            <a:br>
              <a:rPr sz="4400"/>
            </a:br>
            <a:r>
              <a:rPr b="1" lang="en-BZ" sz="4400" spc="-1" strike="noStrike">
                <a:solidFill>
                  <a:srgbClr val="3333cc"/>
                </a:solidFill>
                <a:latin typeface="Times New Roman"/>
              </a:rPr>
              <a:t>                     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Light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We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ynami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 view into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Oracl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unctionali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ußzeilenplatzhalt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cc"/>
                </a:solidFill>
                <a:latin typeface="Times New Roman"/>
              </a:rPr>
              <a:t>Data processing -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977400" y="273384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rcGIS Deskto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49760" y="207648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Times New Roman"/>
              </a:rPr>
              <a:t>Heavy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ußzeilenplatzhalt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1th meeting DATA ICPER,                      Magdeburg,5.-6.3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80880" y="1166760"/>
            <a:ext cx="84344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cs-CZ" sz="4400" spc="-1" strike="noStrike">
                <a:solidFill>
                  <a:srgbClr val="3333cc"/>
                </a:solidFill>
                <a:latin typeface="Times New Roman"/>
                <a:ea typeface="Calibri"/>
              </a:rPr>
              <a:t>E</a:t>
            </a:r>
            <a:r>
              <a:rPr b="1" lang="cs-CZ" sz="4400" spc="-1" strike="noStrike">
                <a:solidFill>
                  <a:srgbClr val="3333cc"/>
                </a:solidFill>
                <a:latin typeface="Times New Roman"/>
              </a:rPr>
              <a:t>C - WISE re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XML platform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ASSERB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ata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atial data/Graphics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*.shp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5:08:58Z</dcterms:created>
  <dc:creator>user</dc:creator>
  <dc:description/>
  <dc:language>en-US</dc:language>
  <cp:lastModifiedBy>IKSE</cp:lastModifiedBy>
  <dcterms:modified xsi:type="dcterms:W3CDTF">2009-03-25T15:13:27Z</dcterms:modified>
  <cp:revision>5</cp:revision>
  <dc:subject/>
  <dc:title>WFD Geoportal of the Czech Republic</dc:title>
</cp:coreProperties>
</file>