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20B0-16AD-4882-9A61-D3EB9EF4C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AC06-FF1D-4A35-AE20-0E7973BA3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8882-2DF3-47EC-B9C9-7089F6F79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672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028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672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028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A8F3-DA3C-4D65-81E8-40B9743C3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A42BF-6938-4DC8-B596-A81DE821F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CFB8F-A29D-4BED-A349-E67D17B61B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ED50-D0EB-4111-BF85-D652694776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DC6F2-9E2D-4D34-A0AF-9928BCA9AA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7F55F-CCEA-431A-8D63-D15A1B975B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81D26-A6A5-4D93-B327-4A1D37B1B8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41C4E-300E-4AE1-AE25-6A9CD99F97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EEF0-846D-49AC-A46F-DAB54084B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09DF0-EE58-4FC1-A52B-150AA7E287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992D8-672A-4AC6-9B3D-68556120E5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32D62-4546-4235-BB9B-A367DAE26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15555-8F6A-4A44-BF90-ECE318342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672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4028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672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4028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2DBCE-69C4-4341-BB38-83C0CEA73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934C-A7D1-4B50-917D-83675D145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E174-F54C-4F4E-A060-7F6DCAF6F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2C6D-A4D2-4D5E-8E38-84929E1CA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1155-BD75-4395-B99F-AFE995D84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9424-D7E7-46B8-8025-979D62A56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BC0D-42E9-4015-9EA4-101AE6642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34FC-7152-4007-BBE3-96D0949FA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535960" y="235080"/>
            <a:ext cx="609480" cy="488880"/>
            <a:chOff x="8535960" y="235080"/>
            <a:chExt cx="609480" cy="488880"/>
          </a:xfrm>
        </p:grpSpPr>
        <p:sp>
          <p:nvSpPr>
            <p:cNvPr id="1" name=""/>
            <p:cNvSpPr/>
            <p:nvPr/>
          </p:nvSpPr>
          <p:spPr>
            <a:xfrm>
              <a:off x="8535960" y="519120"/>
              <a:ext cx="609480" cy="20484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97" y="128"/>
                  </a:lnTo>
                  <a:lnTo>
                    <a:pt x="110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147" y="0"/>
                  </a:lnTo>
                  <a:lnTo>
                    <a:pt x="135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35960" y="235080"/>
              <a:ext cx="609480" cy="20448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168" y="128"/>
                  </a:lnTo>
                  <a:lnTo>
                    <a:pt x="181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218" y="0"/>
                  </a:lnTo>
                  <a:lnTo>
                    <a:pt x="206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851040"/>
            <a:ext cx="896328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972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10360" y="666864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gelika Steingräber -  LANU 42IZ, 16.05.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333-818A-4AE1-B1EB-469D42B8923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259200"/>
            <a:ext cx="1562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35960" y="519120"/>
            <a:ext cx="609480" cy="20484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97" y="128"/>
                </a:lnTo>
                <a:lnTo>
                  <a:pt x="110" y="96"/>
                </a:lnTo>
                <a:lnTo>
                  <a:pt x="383" y="96"/>
                </a:lnTo>
                <a:lnTo>
                  <a:pt x="383" y="0"/>
                </a:lnTo>
                <a:lnTo>
                  <a:pt x="147" y="0"/>
                </a:lnTo>
                <a:lnTo>
                  <a:pt x="135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35960" y="235080"/>
            <a:ext cx="609480" cy="20448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168" y="128"/>
                </a:lnTo>
                <a:lnTo>
                  <a:pt x="181" y="96"/>
                </a:lnTo>
                <a:lnTo>
                  <a:pt x="383" y="96"/>
                </a:lnTo>
                <a:lnTo>
                  <a:pt x="383" y="0"/>
                </a:lnTo>
                <a:lnTo>
                  <a:pt x="218" y="0"/>
                </a:lnTo>
                <a:lnTo>
                  <a:pt x="206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11760" y="259200"/>
            <a:ext cx="1808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5310360" y="665280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E8B1-6D9A-4EF4-8DAD-85BDDE36C22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371600"/>
            <a:ext cx="7850160" cy="40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Dokumentation der Maßnahm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zur Aufstellung der WRRL-Bewirtschaftungsplä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n Schleswig-Hol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Angelika Steingrä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GIS-Koordinatorin im LANU-Dez. 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. Beratung der Expertengruppe „Datenmanagement“ (DATA) der Internationalen Kommission zum Schutz der Elbe (IKSE) vom 15.05. bis 16.05.2007 in Glücksta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LANU - Abteilung „Gewässer“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2B5D-1F9C-403B-B45C-48F29572441E}" type="slidenum">
              <a:t>1</a:t>
            </a:fld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Grundlage des Basislayout </a:t>
            </a:r>
            <a:br>
              <a:rPr sz="1800"/>
            </a:b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Entwurf  des TP Schlei/Trave als Serie für Schritt 7.1, 8.5</a:t>
            </a:r>
            <a:endParaRPr b="1" i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02000" y="1771560"/>
            <a:ext cx="6413040" cy="4628880"/>
            <a:chOff x="2502000" y="1771560"/>
            <a:chExt cx="6413040" cy="4628880"/>
          </a:xfrm>
        </p:grpSpPr>
        <p:graphicFrame>
          <p:nvGraphicFramePr>
            <p:cNvPr id="191" name=""/>
            <p:cNvGraphicFramePr/>
            <p:nvPr/>
          </p:nvGraphicFramePr>
          <p:xfrm>
            <a:off x="2502000" y="1771560"/>
            <a:ext cx="6413040" cy="462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2000" y="1771560"/>
                      <a:ext cx="6413040" cy="4628880"/>
                    </a:xfrm>
                    <a:prstGeom prst="rect">
                      <a:avLst/>
                    </a:prstGeom>
                    <a:ln w="50760">
                      <a:solidFill>
                        <a:srgbClr val="0099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6922440" y="1852200"/>
              <a:ext cx="1900800" cy="94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chritt 7.1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Zur Zielerreichung notwendige Verbesserungs-maßnah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0920" y="1125360"/>
            <a:ext cx="6759000" cy="4817880"/>
            <a:chOff x="250920" y="1125360"/>
            <a:chExt cx="6759000" cy="4817880"/>
          </a:xfrm>
        </p:grpSpPr>
        <p:graphicFrame>
          <p:nvGraphicFramePr>
            <p:cNvPr id="195" name=""/>
            <p:cNvGraphicFramePr/>
            <p:nvPr/>
          </p:nvGraphicFramePr>
          <p:xfrm>
            <a:off x="250920" y="1125360"/>
            <a:ext cx="6759000" cy="481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1125360"/>
                      <a:ext cx="6759000" cy="4817880"/>
                    </a:xfrm>
                    <a:prstGeom prst="rect">
                      <a:avLst/>
                    </a:prstGeom>
                    <a:ln w="507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431240" y="1207800"/>
              <a:ext cx="2490480" cy="11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scheidungsgrundlage für Schritt 8.5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rd mit den verbleibenden ‚anderen Möglichkeiten‘ ein guter ökologischer Zustand erreich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E239-A878-4857-B1DA-F9FEC6070D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70488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Eingabeformular im GIS für die Kartenausgabe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914400"/>
          <a:ext cx="88930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8930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28600" y="4343400"/>
          <a:ext cx="8915400" cy="20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891540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762120" y="990720"/>
          <a:ext cx="6723000" cy="533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990720"/>
                    <a:ext cx="6723000" cy="5333760"/>
                  </a:xfrm>
                  <a:prstGeom prst="rect">
                    <a:avLst/>
                  </a:prstGeom>
                  <a:ln w="889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EE92-10ED-4ED9-9C16-925BAE066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70488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Maßnahmen-Legende für Schritt 7.1 und 8.5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00200" y="914400"/>
          <a:ext cx="560088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600880" cy="5616720"/>
                  </a:xfrm>
                  <a:prstGeom prst="rect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B59D-811D-4645-8482-D39E69A7B9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Kartendarstellung für Schritt 8.5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4360" y="907920"/>
            <a:ext cx="7773480" cy="5616720"/>
            <a:chOff x="684360" y="907920"/>
            <a:chExt cx="7773480" cy="5616720"/>
          </a:xfrm>
        </p:grpSpPr>
        <p:graphicFrame>
          <p:nvGraphicFramePr>
            <p:cNvPr id="210" name=""/>
            <p:cNvGraphicFramePr/>
            <p:nvPr/>
          </p:nvGraphicFramePr>
          <p:xfrm>
            <a:off x="684360" y="907920"/>
            <a:ext cx="7764120" cy="560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907920"/>
                      <a:ext cx="7764120" cy="56008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6734160" y="5229360"/>
            <a:ext cx="1723680" cy="12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34160" y="5229360"/>
                      <a:ext cx="17236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9B4D-0CF1-49D9-8D39-C096DA8799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Einstufungsprozess bis Ende 2007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981000"/>
            <a:ext cx="868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entral in 34 Bearbeitungsgebieten mit Karten und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e Bearbeitung von 500 bis 600 Wasserkörpern in 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be von 1.500 bis 2.000 Karten im Maßstab 1: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lierte Dokumentation des Einstufungsprozess und der Maßnahmenplanung gegenüber der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ierte Moderation der Diskussion unter allen Beteilig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vollziehbare Präsentation der Arbeits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C880-CB37-4261-8570-F450B283B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Zukünftige Maßnahmen-Datenbank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99"/>
                </a:solidFill>
                <a:latin typeface="Arial"/>
              </a:rPr>
              <a:t>Inha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ung der 1. Ausbaustufe für den Bewirtschaftungsplan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ppelung der Informationen zum Wasserkörper und zu Maßna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ießgewässer, Seen, Küstengewässer, Grundwas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bildung aller Phasen und Aspekte einer Maßnahm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dee, Planung, Finanzierung, Wechselwirkungen, Ausführung, Erfolgskontrolle, Abnahme ..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ichtserstellung in unterschiedlichen Raumebe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99"/>
                </a:solidFill>
                <a:latin typeface="Arial"/>
              </a:rPr>
              <a:t>Strukt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 ab Juni 2007, Einsatz ab August in den StU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von K3-Umwelt, landesweite Systemarchitektur für Umweltanwen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r Datenbestand auf Landesserver unter 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griff durch: MLUR, LANU, TP, StUÄ, Kommunen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-Anwendung mit GIS-Anbindung (&gt;&gt;&gt; DA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ittstelle zum Umweltat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1E99-6DAE-4B3F-BC24-FF90D666D6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70516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MDB Fließgewässer - Konzept</a:t>
            </a:r>
            <a:endParaRPr b="1" i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976320"/>
            <a:ext cx="7983360" cy="549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120800" y="2503800"/>
            <a:ext cx="10263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f Qualitätskomponent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990720"/>
            <a:ext cx="25146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990720"/>
            <a:ext cx="266688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1523880"/>
            <a:ext cx="7621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ct val="3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_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78200" y="4437360"/>
            <a:ext cx="6436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gt; 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4419720"/>
            <a:ext cx="121896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7C1B-5020-4E8F-9F4D-023F32B37338}" type="slidenum">
              <a:t>16</a:t>
            </a:fld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igitale Informationsebenen für Maßnahmen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186840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weisung erheblich veränderter Gewässer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t September 2005 für über 500 Wasserkörper in 34 Bearbeitungsgebie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tützung durch die dezentra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enbank-Anwend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tatistischer Auswertung d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n Anlagenverzeichnis (GIS/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4606920"/>
            <a:ext cx="8640720" cy="1676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ßnahmen-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Juni 2007 landesweit zentrale Datenhaltung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ORACLE-Datenbank als Web-Anwend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GIS-Anbindung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aller vorliegenden Maßnahmeninform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ssung von der Planungsidee bis zur Abnahme und Erfolgskontro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048120"/>
            <a:ext cx="8640720" cy="1384920"/>
          </a:xfrm>
          <a:prstGeom prst="rect">
            <a:avLst/>
          </a:prstGeom>
          <a:solidFill>
            <a:srgbClr val="99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igitale Kartenerstellung für Maßna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 Juni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der Schritte 7.1 und 8.5 des Einstufungsproz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IS-Anwend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 Datenerfassung und Kar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BA14-79F9-4E5C-BA48-6AC2E77017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1371600"/>
            <a:ext cx="7850160" cy="43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99"/>
                </a:solidFill>
                <a:latin typeface="Arial"/>
              </a:rPr>
              <a:t>Vielen Dank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Dokumentation der Maßnahmen</a:t>
            </a: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zur Aufstellung der WRRL-Bewirtschaftungsplä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in Schleswig-Ho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Angelika Steingrä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GIS-Koordinatorin im LANU-Dez.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. Beratung der Expertengruppe „Datenmanagement“ (DATA) der Internationalen Kommission zum Schutz der Elbe (IKSE) vom 15.05. bis 16.05.2007in Glücksta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LANU - Abteilung „Gewässer“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D588-CB1F-4182-8D8A-A2D49997F2B8}" type="slidenum">
              <a:t>18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igitale Informationsebenen für Maßnahmen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186840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weisung erheblich veränderter Gewässer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t September 2005 für über 500 Wasserkörper in 34 Bearbeitungsgebie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tützung durch die dezentra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enbank-Anwend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tatistischer Auswertung d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n Anlagenverzeichnis (GIS/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606920"/>
            <a:ext cx="8640720" cy="1676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ßnahmen-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Juni 2007 landesweit zentrale Datenhaltung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ORACLE-Datenbank als Web-Anwend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GIS-Anbindung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aller vorliegenden Maßnahmeninform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ssung von der Planungsidee bis zur Abnahme und Erfolgskontro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048120"/>
            <a:ext cx="8640720" cy="1384920"/>
          </a:xfrm>
          <a:prstGeom prst="rect">
            <a:avLst/>
          </a:prstGeom>
          <a:solidFill>
            <a:srgbClr val="99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igitale Kartenerstellung für Maßna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 Juni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der Schritte 7.1 und 8.5 des Einstufungsproz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IS-Anwend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 Datenerfassung und Kar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E926-3815-4402-BF0A-464B66DDB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200" y="333360"/>
            <a:ext cx="70516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Ausweisung erheblich veränderter u. künstlicher Wasserkörper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052640"/>
          <a:ext cx="445284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4528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818240" y="1052640"/>
          <a:ext cx="423216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8240" y="1052640"/>
                    <a:ext cx="42321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-15480" y="6308640"/>
            <a:ext cx="84038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us: Leitfaden zur Identifizierung und Ausweisung erheblich veränderter und künstlicher Wasserkörper, CIS-Arbeitsgruppe 2.2, Nov.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971800"/>
            <a:ext cx="3505320" cy="4572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048120"/>
            <a:ext cx="3124080" cy="4572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505320"/>
            <a:ext cx="350532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3124080" cy="838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CCFC-B94D-4857-92AE-14E2611A3E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676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atenbestand „Digitales Anlagenverzeichnis“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457200"/>
            <a:ext cx="9144000" cy="6172200"/>
            <a:chOff x="0" y="457200"/>
            <a:chExt cx="9144000" cy="6172200"/>
          </a:xfrm>
        </p:grpSpPr>
        <p:grpSp>
          <p:nvGrpSpPr>
            <p:cNvPr id="109" name=""/>
            <p:cNvGrpSpPr/>
            <p:nvPr/>
          </p:nvGrpSpPr>
          <p:grpSpPr>
            <a:xfrm>
              <a:off x="295200" y="1116720"/>
              <a:ext cx="8813160" cy="5309280"/>
              <a:chOff x="295200" y="1116720"/>
              <a:chExt cx="8813160" cy="530928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95200" y="1116720"/>
              <a:ext cx="6305040" cy="5309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95200" y="1116720"/>
                        <a:ext cx="6305040" cy="5309280"/>
                      </a:xfrm>
                      <a:prstGeom prst="rect">
                        <a:avLst/>
                      </a:prstGeom>
                      <a:ln w="25560">
                        <a:solidFill>
                          <a:srgbClr val="00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6636600" y="1186560"/>
                <a:ext cx="2471760" cy="12038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Reduziertes Gewässernetz bis März 20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über 7.000 km mit ca. 13.500 Bauwerken erfaßt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(Länge 2006 ca. 6300 k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0" y="457200"/>
              <a:ext cx="9144000" cy="617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228600" y="914400"/>
            <a:ext cx="8915040" cy="5562360"/>
            <a:chOff x="228600" y="914400"/>
            <a:chExt cx="8915040" cy="5562360"/>
          </a:xfrm>
        </p:grpSpPr>
        <p:sp>
          <p:nvSpPr>
            <p:cNvPr id="115" name=""/>
            <p:cNvSpPr/>
            <p:nvPr/>
          </p:nvSpPr>
          <p:spPr>
            <a:xfrm>
              <a:off x="6629400" y="4572360"/>
              <a:ext cx="2209680" cy="182772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28600" y="914400"/>
              <a:ext cx="8915040" cy="5562360"/>
              <a:chOff x="228600" y="914400"/>
              <a:chExt cx="8915040" cy="5562360"/>
            </a:xfrm>
          </p:grpSpPr>
          <p:sp>
            <p:nvSpPr>
              <p:cNvPr id="117" name=""/>
              <p:cNvSpPr/>
              <p:nvPr/>
            </p:nvSpPr>
            <p:spPr>
              <a:xfrm>
                <a:off x="6643440" y="2579400"/>
                <a:ext cx="2500200" cy="10350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Gesamtes Gewässernetz Juli 2004/ Mai 20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über 32.000 km mit ca. 140.000 Bauwerken erfaß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914400"/>
                <a:ext cx="6377760" cy="5562360"/>
              </a:xfrm>
              <a:prstGeom prst="rect">
                <a:avLst/>
              </a:prstGeom>
              <a:ln w="25560">
                <a:solidFill>
                  <a:srgbClr val="3366ff"/>
                </a:solidFill>
                <a:miter/>
              </a:ln>
            </p:spPr>
          </p:pic>
        </p:grpSp>
      </p:grpSp>
      <p:grpSp>
        <p:nvGrpSpPr>
          <p:cNvPr id="119" name=""/>
          <p:cNvGrpSpPr/>
          <p:nvPr/>
        </p:nvGrpSpPr>
        <p:grpSpPr>
          <a:xfrm>
            <a:off x="228600" y="914400"/>
            <a:ext cx="8915040" cy="5714640"/>
            <a:chOff x="228600" y="914400"/>
            <a:chExt cx="8915040" cy="5714640"/>
          </a:xfrm>
        </p:grpSpPr>
        <p:sp>
          <p:nvSpPr>
            <p:cNvPr id="120" name=""/>
            <p:cNvSpPr/>
            <p:nvPr/>
          </p:nvSpPr>
          <p:spPr>
            <a:xfrm>
              <a:off x="6653160" y="4126680"/>
              <a:ext cx="2490480" cy="1035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kturgüte-Kartierung DSV, Stand bis Ende 20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. 2.900km des red. Gewässerne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228600" y="914400"/>
              <a:ext cx="6378480" cy="57146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228600" y="914400"/>
            <a:ext cx="8915040" cy="5714640"/>
            <a:chOff x="228600" y="914400"/>
            <a:chExt cx="8915040" cy="5714640"/>
          </a:xfrm>
        </p:grpSpPr>
        <p:sp>
          <p:nvSpPr>
            <p:cNvPr id="123" name=""/>
            <p:cNvSpPr/>
            <p:nvPr/>
          </p:nvSpPr>
          <p:spPr>
            <a:xfrm>
              <a:off x="6653160" y="5605920"/>
              <a:ext cx="2490480" cy="99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fassung zum Digitalen Deichverzeichnis (DD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s Oktober 20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. 1.300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228600" y="914400"/>
            <a:ext cx="6352920" cy="57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914400"/>
                      <a:ext cx="6352920" cy="5714640"/>
                    </a:xfrm>
                    <a:prstGeom prst="rect">
                      <a:avLst/>
                    </a:prstGeom>
                    <a:ln w="25560">
                      <a:solidFill>
                        <a:srgbClr val="ff99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E4F1-CD49-49CD-8003-382B891B36E8}" type="slidenum">
              <a:t>4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igitaler Beurteilungsbogen“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90680" y="907920"/>
            <a:ext cx="2209680" cy="2133720"/>
            <a:chOff x="490680" y="907920"/>
            <a:chExt cx="2209680" cy="2133720"/>
          </a:xfrm>
        </p:grpSpPr>
        <p:sp>
          <p:nvSpPr>
            <p:cNvPr id="128" name=""/>
            <p:cNvSpPr/>
            <p:nvPr/>
          </p:nvSpPr>
          <p:spPr>
            <a:xfrm>
              <a:off x="490680" y="907920"/>
              <a:ext cx="2209680" cy="2133720"/>
            </a:xfrm>
            <a:prstGeom prst="flowChartMagneticDisk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git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lagenverzeich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wässerne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uwerke an Gewäss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984240"/>
              <a:ext cx="1143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3117960" y="1052640"/>
          <a:ext cx="2246040" cy="15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1052640"/>
                    <a:ext cx="2246040" cy="159696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797440" y="1052640"/>
          <a:ext cx="3167280" cy="15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1052640"/>
                    <a:ext cx="3167280" cy="158904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55640" y="3573360"/>
            <a:ext cx="7993080" cy="259884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3581280"/>
            <a:ext cx="403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511520"/>
            <a:ext cx="2159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chritt 4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.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edeute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morphologis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ränderung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4522680"/>
            <a:ext cx="39607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  </a:t>
            </a:r>
            <a:r>
              <a:rPr b="1" lang="en-US" sz="1600" spc="-1" strike="noStrike" u="sng">
                <a:solidFill>
                  <a:srgbClr val="336600"/>
                </a:solidFill>
                <a:uFillTx/>
                <a:latin typeface="Arial"/>
              </a:rPr>
              <a:t>Schritt 7.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Zur Zielerreich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notwendi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Verbesserungsmaßna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502160"/>
            <a:ext cx="23050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  </a:t>
            </a:r>
            <a:r>
              <a:rPr b="1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Schritt 8.5: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Verbleibe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ndere 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= „umsetzb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Maßnahme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1700280"/>
            <a:ext cx="216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1700280"/>
            <a:ext cx="142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62080" y="1974960"/>
            <a:ext cx="3446280" cy="2899080"/>
            <a:chOff x="262080" y="1974960"/>
            <a:chExt cx="3446280" cy="2899080"/>
          </a:xfrm>
        </p:grpSpPr>
        <p:cxnSp>
          <p:nvCxnSpPr>
            <p:cNvPr id="142" name=""/>
            <p:cNvCxnSpPr>
              <a:stCxn id="128" idx="2"/>
              <a:endCxn id="134" idx="2"/>
            </p:cNvCxnSpPr>
            <p:nvPr/>
          </p:nvCxnSpPr>
          <p:spPr>
            <a:xfrm flipH="1" flipV="1" rot="10800000">
              <a:off x="490320" y="1974600"/>
              <a:ext cx="265680" cy="2899440"/>
            </a:xfrm>
            <a:prstGeom prst="bentConnector3">
              <a:avLst>
                <a:gd name="adj1" fmla="val -86160"/>
              </a:avLst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43" name=""/>
            <p:cNvSpPr/>
            <p:nvPr/>
          </p:nvSpPr>
          <p:spPr>
            <a:xfrm>
              <a:off x="324000" y="3141720"/>
              <a:ext cx="338436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marL="355680" indent="-355680">
                <a:lnSpc>
                  <a:spcPct val="8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tatistische Auswert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24360" y="2637000"/>
            <a:ext cx="647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2610000"/>
            <a:ext cx="648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6172200"/>
            <a:ext cx="648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66EF-9F25-4A2E-A2C4-2F458908F4EB}" type="slidenum">
              <a:t>5</a:t>
            </a:fld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Datenbank-Anwendung „Digitaler Beurteilungsbogen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907920"/>
          <a:ext cx="4680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680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116000" y="1557360"/>
          <a:ext cx="7848720" cy="483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557360"/>
                    <a:ext cx="784872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724360" y="981000"/>
            <a:ext cx="1440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72A5-2840-44C2-86BC-388282037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Datenbank-Anwendung „Digitaler Beurteilungsbogen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907920"/>
          <a:ext cx="4680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680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332000" y="1557360"/>
          <a:ext cx="7488000" cy="49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557360"/>
                    <a:ext cx="74880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724360" y="981000"/>
            <a:ext cx="1440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24AB-113B-4557-8218-55DF5BF7EF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Datenbank-Anwendung „Digitaler Beurteilungsbogen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907920"/>
          <a:ext cx="4680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680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58920" y="1538280"/>
          <a:ext cx="7848720" cy="491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38280"/>
                    <a:ext cx="78487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724360" y="981000"/>
            <a:ext cx="1440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1A5B-D373-4BF2-8889-4222697DA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Eingangsdaten „Digitales Anlagenverzeichnis“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0680" y="907920"/>
            <a:ext cx="2209680" cy="2133720"/>
            <a:chOff x="490680" y="907920"/>
            <a:chExt cx="2209680" cy="2133720"/>
          </a:xfrm>
        </p:grpSpPr>
        <p:sp>
          <p:nvSpPr>
            <p:cNvPr id="167" name=""/>
            <p:cNvSpPr/>
            <p:nvPr/>
          </p:nvSpPr>
          <p:spPr>
            <a:xfrm>
              <a:off x="490680" y="907920"/>
              <a:ext cx="2209680" cy="2133720"/>
            </a:xfrm>
            <a:prstGeom prst="flowChartMagneticDisk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git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lagenverzeich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wässerne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uwerke an Gewäss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984240"/>
              <a:ext cx="1143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3117960" y="1052640"/>
          <a:ext cx="2246040" cy="15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1052640"/>
                    <a:ext cx="2246040" cy="159696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797440" y="1052640"/>
          <a:ext cx="3167280" cy="15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1052640"/>
                    <a:ext cx="3167280" cy="158904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55640" y="3573360"/>
            <a:ext cx="7993080" cy="1727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3500280"/>
            <a:ext cx="403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221000"/>
            <a:ext cx="21592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ritt 4: Bedeute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morphologis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änderung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98920" y="4221000"/>
            <a:ext cx="39607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ritt 7.1: Zur Zielerreich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wendi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esserungsmaßna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4221000"/>
            <a:ext cx="2305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ritt 8.5: Verbleibe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ere Möglichkei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setzbare Maßnahmen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67" idx="2"/>
            <a:endCxn id="173" idx="2"/>
          </p:cNvCxnSpPr>
          <p:nvPr/>
        </p:nvCxnSpPr>
        <p:spPr>
          <a:xfrm flipH="1" flipV="1" rot="10800000">
            <a:off x="490320" y="1973880"/>
            <a:ext cx="265680" cy="2462760"/>
          </a:xfrm>
          <a:prstGeom prst="bentConnector3">
            <a:avLst>
              <a:gd name="adj1" fmla="val -86160"/>
            </a:avLst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179" name=""/>
          <p:cNvSpPr/>
          <p:nvPr/>
        </p:nvSpPr>
        <p:spPr>
          <a:xfrm>
            <a:off x="2771640" y="1700280"/>
            <a:ext cx="216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1700280"/>
            <a:ext cx="142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141720"/>
            <a:ext cx="33843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atistische Aus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52720" y="5062680"/>
          <a:ext cx="1511280" cy="13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2720" y="5062680"/>
                    <a:ext cx="1511280" cy="1390680"/>
                  </a:xfrm>
                  <a:prstGeom prst="rect">
                    <a:avLst/>
                  </a:prstGeom>
                  <a:ln w="507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659640" y="5159520"/>
          <a:ext cx="1657440" cy="12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5159520"/>
                    <a:ext cx="1657440" cy="1293840"/>
                  </a:xfrm>
                  <a:prstGeom prst="rect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24360" y="2637000"/>
            <a:ext cx="647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2610000"/>
            <a:ext cx="648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9773-FE44-4267-A34B-98647C4C1886}" type="slidenum">
              <a:t>9</a:t>
            </a:fld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1:00:26Z</dcterms:created>
  <dc:creator>Uwe Rammert</dc:creator>
  <dc:description/>
  <dc:language>en-US</dc:language>
  <cp:lastModifiedBy>asteingr</cp:lastModifiedBy>
  <cp:lastPrinted>2005-01-21T17:00:05Z</cp:lastPrinted>
  <dcterms:modified xsi:type="dcterms:W3CDTF">2007-05-15T19:28:25Z</dcterms:modified>
  <cp:revision>953</cp:revision>
  <dc:subject/>
  <dc:title>Kein Folientitel</dc:title>
</cp:coreProperties>
</file>