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CA2-F639-44C9-8952-702A3D82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34D-F3BA-4551-87A3-4036AB58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A47-0077-4041-9B12-DA1EDF67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BD4-C07A-4B95-B3BF-923610FF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111-BA7A-4BEE-B0E9-A61C5574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0F5-885B-4DF4-8A97-4DC0D80B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5DE-1B1C-4FFC-9022-9863960F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3DD-88CD-4C00-A858-279E4738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C03-483D-4D35-9A93-5DC8F0EC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84B1-7478-422B-A821-86342DD6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CE4-D789-491C-8871-FFB6F3A7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273-84D7-4879-BCA4-341A465D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C600-470E-4CE5-95D2-3B9FA523B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970" t="2352" r="4395" b="4661"/>
          <a:stretch/>
        </p:blipFill>
        <p:spPr>
          <a:xfrm>
            <a:off x="257040" y="593640"/>
            <a:ext cx="8605800" cy="6112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8320" y="152280"/>
            <a:ext cx="58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ispiel für die tschechisch-österreichische Grenz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6799320" y="3268800"/>
            <a:ext cx="76320" cy="62532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28640" y="337824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cca 60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25932" t="17757" r="3476" b="4661"/>
          <a:stretch/>
        </p:blipFill>
        <p:spPr>
          <a:xfrm>
            <a:off x="685800" y="990720"/>
            <a:ext cx="7545240" cy="5867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4572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zugsgebiet der Elb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schechisch-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ische Gr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3:19:20Z</dcterms:created>
  <dc:creator>Eva Sovjáková</dc:creator>
  <dc:description/>
  <dc:language>en-US</dc:language>
  <cp:lastModifiedBy>Bekele</cp:lastModifiedBy>
  <dcterms:modified xsi:type="dcterms:W3CDTF">2006-09-21T13:25:15Z</dcterms:modified>
  <cp:revision>5</cp:revision>
  <dc:subject/>
  <dc:title>Snímek 1</dc:title>
</cp:coreProperties>
</file>