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E891-BAB2-4E86-AF4B-FF9C8D22E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FBF8-60B9-4EA5-98B4-95E568CD4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F6AD-6936-451B-9A4D-7630ADAA8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F982-C481-42E3-901E-7B4B22764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0962-A388-44C5-9EEB-253C64AEF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B53EE-EBDC-4E9D-AD9E-BE372B244C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38600-80D4-4B22-AA35-9FE06AEDB2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71D4-7DF6-4D62-BA97-EC7A1F4E7B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E1BD1-0373-4FCE-A56C-1BA3155A5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34493-F5CC-4C9F-9660-ACEA45F102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583B4-B480-4235-AE28-1C2142B77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519C-E74B-461F-B800-0483DB264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BA5F3-5D0B-412D-A3D1-D274334BF9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D8205-9E2E-4D97-9EE1-DE9815BBB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60CAA-31BB-4DAC-99C8-6E2078FC33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76C84-A9C9-4625-A228-3EB12009C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B345A-5EAD-46FA-A795-9C6CC0C3C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3FA2-6015-49D2-8460-F6C086F90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142D-E43F-4945-918E-93F378DF3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55C0-7E1F-4646-BDF2-AC5EF6583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4A66-81C4-4E81-A05F-EB08BC9A7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EA2A-1497-42F6-96F0-BE6F73E5B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3AE0-65B6-4EC6-9397-3A926D7D3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3FAC-D2AE-450C-92AC-285AFC146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35960" y="235080"/>
            <a:ext cx="609480" cy="488880"/>
            <a:chOff x="8535960" y="235080"/>
            <a:chExt cx="609480" cy="488880"/>
          </a:xfrm>
        </p:grpSpPr>
        <p:sp>
          <p:nvSpPr>
            <p:cNvPr id="1" name=""/>
            <p:cNvSpPr/>
            <p:nvPr/>
          </p:nvSpPr>
          <p:spPr>
            <a:xfrm>
              <a:off x="8535960" y="519120"/>
              <a:ext cx="609480" cy="20484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97" y="128"/>
                  </a:lnTo>
                  <a:lnTo>
                    <a:pt x="110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147" y="0"/>
                  </a:lnTo>
                  <a:lnTo>
                    <a:pt x="135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35960" y="235080"/>
              <a:ext cx="609480" cy="20448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168" y="128"/>
                  </a:lnTo>
                  <a:lnTo>
                    <a:pt x="181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218" y="0"/>
                  </a:lnTo>
                  <a:lnTo>
                    <a:pt x="206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10360" y="666864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1B38-E19C-484E-83C5-D8ECB683380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AF6B-5726-4CC0-8788-66D71AABF00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399"/>
                </a:solidFill>
                <a:latin typeface="Arial"/>
              </a:rPr>
              <a:t>Monitoring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399"/>
                </a:solidFill>
                <a:latin typeface="Arial"/>
              </a:rPr>
              <a:t>Datenschablone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399"/>
                </a:solidFill>
                <a:latin typeface="Arial"/>
              </a:rPr>
              <a:t>Reporting Shee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4A73-3661-49E7-98DE-6BE191621C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995400"/>
            <a:ext cx="86342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Art.5-Datenschablonen und Art.8-Datenschablonen stehen        miteinander in Beziehung (Verlinkung über die Wasserkörper-ID‘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t. 8 - Berichterstattung setzt auf Art. 5 - Berichten/ - Daten au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Änderungen an Wasserkörperzuschnitten bedingen Überprüfung bzw. Überarbeitung der zugeordneten Wasserkörper für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lagerungen von MS bedingen Überprüfung bzw. Überarbeitung der zugeordneten Wasserkörper für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 MS kann auf alle Datenschabloneninfos des/der zugehörigen Wasserkörper „zugegriffen“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ttribute für Einträge aggregierter Bewertungsergebnisse aus Monitoring sind in den Schablonen zu den Wasserkörpern (Art. 5) bereits vorh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200" y="376200"/>
            <a:ext cx="7243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rbindung Art.5 und Art.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3049-C4F4-4799-8AA8-C7214D760EA0}" type="slidenum">
              <a:t>10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71160" y="27144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Datenschablon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12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0520" y="6218280"/>
            <a:ext cx="5351400" cy="30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oundWaterMonitoringStation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= Grundwasser-Monitoringmessstel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60520" y="5923080"/>
            <a:ext cx="5351400" cy="295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rfaceWaterMonitoringStation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= Oberfl.wasser-Monitoringmessstel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0520" y="5627520"/>
            <a:ext cx="4817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terLevelAlteratio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Wasserentnahm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60520" y="5330880"/>
            <a:ext cx="481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rfaceWaterEmissions/Chem.Par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(= Punktquellen 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0520" y="5035680"/>
            <a:ext cx="5338800" cy="295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Recreat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Erholungs- und Badegewäs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0520" y="4740120"/>
            <a:ext cx="5364000" cy="29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Nutri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Nährstoffsensible Gebi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0520" y="4444920"/>
            <a:ext cx="5364000" cy="295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Habita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FFH-Gebi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0520" y="4148280"/>
            <a:ext cx="5351400" cy="29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Economic Spec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wirtschaftlich bedeutende A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60520" y="3852720"/>
            <a:ext cx="5364000" cy="29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Drink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Wasserschutzgebi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60520" y="3557520"/>
            <a:ext cx="5351400" cy="295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Area Bir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Vogelschutzgebi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0520" y="3262320"/>
            <a:ext cx="5338800" cy="295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oundwaterBod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Grundwasserkörper und -grupp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0520" y="2965320"/>
            <a:ext cx="5364000" cy="297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astalWate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Küstengewäs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0520" y="2670120"/>
            <a:ext cx="5364000" cy="295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alWate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Übergangsgewäs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0520" y="2374920"/>
            <a:ext cx="5376960" cy="295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keSeg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WRRL-S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60520" y="2068560"/>
            <a:ext cx="5351400" cy="306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verSeg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WRRL-Fließgewässernet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60520" y="1773360"/>
            <a:ext cx="4817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verBas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EZG und Teil-EZG nach Flächenverzeich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60520" y="1477800"/>
            <a:ext cx="4817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entAuthorit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zuständige Behör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0520" y="1181160"/>
            <a:ext cx="52880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rkingAre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= Grenzen von Bundesländern, FGE und K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60520" y="885960"/>
            <a:ext cx="5364000" cy="295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ab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0520" y="6524640"/>
            <a:ext cx="5283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60520" y="88596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60520" y="1181160"/>
            <a:ext cx="53211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88596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60520" y="147780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60520" y="1773360"/>
            <a:ext cx="53593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0520" y="2068560"/>
            <a:ext cx="53593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60520" y="237492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0520" y="267012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2965320"/>
            <a:ext cx="5384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60520" y="3262320"/>
            <a:ext cx="53593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0520" y="355752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60520" y="385272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414828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0520" y="4444920"/>
            <a:ext cx="53593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0520" y="474012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60520" y="503568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60520" y="5330880"/>
            <a:ext cx="53593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0520" y="562752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60520" y="592308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60520" y="6218280"/>
            <a:ext cx="52959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0520" y="885960"/>
            <a:ext cx="5346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932E-63B4-47DB-873D-0CF0001C89D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Artikel 8: Summary of Mon.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344760"/>
            <a:ext cx="876312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ph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ür jede Meßstel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ndeutige ID der Meß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yp der Meßstelle (Brunnen oder Quelle, quant. u./o. chem.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D des zugehörigen Wasserkörpers / der –gruppe (vgl. Art.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, y Koordinaten der Meßst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t MS Teil eines existierenden Überwachungsnetzes (z.B. EIONE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)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5680" y="1003320"/>
          <a:ext cx="7611840" cy="2293920"/>
        </p:xfrm>
        <a:graphic>
          <a:graphicData uri="http://schemas.openxmlformats.org/drawingml/2006/table">
            <a:tbl>
              <a:tblPr/>
              <a:tblGrid>
                <a:gridCol w="2754720"/>
                <a:gridCol w="4857120"/>
              </a:tblGrid>
              <a:tr h="46368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ing Sheet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W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9760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ing Shee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of Monitoring Programme for Groundwater (Quantitative and Chemical Status)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 DG En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rre Hecq/Joachim D’Eugenio/Philippe Quevauvi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 W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32760" bIns="32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e Gendeb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A689-E051-455C-B00B-82BA1FA14F1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927000"/>
            <a:ext cx="8763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ph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gabe zur Tiefe der Probenahme (MS für Proben aus der oberen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ttleren oder tieferen Schicht des Grundwasserkörpers od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mischte Probenahm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ameter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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Artikel 8: Summary of Mon.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E6C8-87C3-4F9B-8867-546BAFF2AE63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09760" y="858960"/>
          <a:ext cx="8045280" cy="57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858960"/>
                    <a:ext cx="804528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rtikel 8: Datenschablone GWST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6040" y="1805040"/>
            <a:ext cx="2005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indeutige ID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2360" y="1116000"/>
            <a:ext cx="30193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indeutige 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sserkörper Art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4A9B-2798-4231-9A4E-04E3CD793AC1}" type="slidenum">
              <a:t>4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rtikel 8: Datenschablone SWST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2760" y="857160"/>
            <a:ext cx="7756200" cy="5676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2360" y="1925640"/>
            <a:ext cx="30193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indeutige 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sserkörper Art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040" y="2852640"/>
            <a:ext cx="2005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indeutige ID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2520" y="1173240"/>
            <a:ext cx="200484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rt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7143-979C-4BA3-8FBC-6C3C4897FD3C}" type="slidenum">
              <a:t>5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2720" y="858960"/>
            <a:ext cx="6405480" cy="56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rtikel 8: Datenschablone SWST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9160" y="2963880"/>
            <a:ext cx="75744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rt.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9200" y="1771560"/>
            <a:ext cx="2200320" cy="2276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A5B2-9677-4973-9597-69A48CD68C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rbindung Art.5 und Art. 8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1025" r="0" b="5906"/>
          <a:stretch/>
        </p:blipFill>
        <p:spPr>
          <a:xfrm>
            <a:off x="165240" y="949320"/>
            <a:ext cx="8978760" cy="5591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76400" y="3809880"/>
            <a:ext cx="8668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1320" y="1054080"/>
            <a:ext cx="8668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27840" y="1036800"/>
            <a:ext cx="2216160" cy="147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76880" y="3990960"/>
            <a:ext cx="276120" cy="95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DF33-6DDF-46F0-B91A-BB59FBCD0F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rbindung Art.5 und Art. 8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0632" r="0" b="5906"/>
          <a:stretch/>
        </p:blipFill>
        <p:spPr>
          <a:xfrm>
            <a:off x="162000" y="912960"/>
            <a:ext cx="8982000" cy="5622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51720" y="1017720"/>
            <a:ext cx="2492280" cy="147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2560" y="3990960"/>
            <a:ext cx="276120" cy="95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E0C8-5B36-42EE-885F-69945149EC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10238" r="0" b="5906"/>
          <a:stretch/>
        </p:blipFill>
        <p:spPr>
          <a:xfrm>
            <a:off x="216000" y="941400"/>
            <a:ext cx="8928000" cy="561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06360" y="3882960"/>
            <a:ext cx="3029040" cy="114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7880" y="4267080"/>
            <a:ext cx="4514760" cy="21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Protected Are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b = Bathing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c = Birds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d = Drinking Water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f =  Fish Water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g = Shellfish Water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h = Habitats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m = Nitrates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u = Urban Waste Water Treatment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 4 Datenmanagement WAF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638E-4AE6-4F2F-8CF8-132E134AFD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09:44:05Z</dcterms:created>
  <dc:creator>Dirk-Christian Elsner</dc:creator>
  <dc:description/>
  <dc:language>en-US</dc:language>
  <cp:lastModifiedBy>mpfpeiffe</cp:lastModifiedBy>
  <cp:lastPrinted>2003-11-27T12:00:32Z</cp:lastPrinted>
  <dcterms:modified xsi:type="dcterms:W3CDTF">2006-08-21T13:40:11Z</dcterms:modified>
  <cp:revision>496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8796347</vt:r8>
  </property>
  <property fmtid="{D5CDD505-2E9C-101B-9397-08002B2CF9AE}" pid="3" name="_AuthorEmail">
    <vt:lpwstr>MPfeiffe@lanu.landsh.de</vt:lpwstr>
  </property>
  <property fmtid="{D5CDD505-2E9C-101B-9397-08002B2CF9AE}" pid="4" name="_AuthorEmailDisplayName">
    <vt:lpwstr>Pfeiffer, Manuela</vt:lpwstr>
  </property>
  <property fmtid="{D5CDD505-2E9C-101B-9397-08002B2CF9AE}" pid="5" name="_EmailSubject">
    <vt:lpwstr>Präsentation zu Datenschablonen/Reporting Sheets</vt:lpwstr>
  </property>
</Properties>
</file>