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691813" cy="7559675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31560" y="1155240"/>
            <a:ext cx="8064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879640"/>
            <a:ext cx="80769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569480"/>
            <a:ext cx="80769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31560" y="1155240"/>
            <a:ext cx="8064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879640"/>
            <a:ext cx="394128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7880" y="2879640"/>
            <a:ext cx="394128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569480"/>
            <a:ext cx="394128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7880" y="4569480"/>
            <a:ext cx="394128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1560" y="1155240"/>
            <a:ext cx="8064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879640"/>
            <a:ext cx="260064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50280" y="2879640"/>
            <a:ext cx="260064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1600" y="2879640"/>
            <a:ext cx="260064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569480"/>
            <a:ext cx="260064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50280" y="4569480"/>
            <a:ext cx="260064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1600" y="4569480"/>
            <a:ext cx="260064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31560" y="1155240"/>
            <a:ext cx="8064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879640"/>
            <a:ext cx="807696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31560" y="1155240"/>
            <a:ext cx="8064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879640"/>
            <a:ext cx="80769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31560" y="1155240"/>
            <a:ext cx="8064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879640"/>
            <a:ext cx="3941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7880" y="2879640"/>
            <a:ext cx="3941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1560" y="1155240"/>
            <a:ext cx="8064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31560" y="1155240"/>
            <a:ext cx="806436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1560" y="1155240"/>
            <a:ext cx="8064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879640"/>
            <a:ext cx="394128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7880" y="2879640"/>
            <a:ext cx="3941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569480"/>
            <a:ext cx="394128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1560" y="1155240"/>
            <a:ext cx="8064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879640"/>
            <a:ext cx="3941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7880" y="2879640"/>
            <a:ext cx="394128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7880" y="4569480"/>
            <a:ext cx="394128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31560" y="1155240"/>
            <a:ext cx="8064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879640"/>
            <a:ext cx="394128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7880" y="2879640"/>
            <a:ext cx="394128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569480"/>
            <a:ext cx="80769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9344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208160" y="7238880"/>
            <a:ext cx="7238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richterstattung: WRRL nach Artikel 8, Monitoring Teil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9283680" y="7238880"/>
            <a:ext cx="1079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8DA56115-7E70-413B-9C53-E62F5D4C58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31560" y="1155240"/>
            <a:ext cx="8064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219320" y="2879640"/>
            <a:ext cx="80769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5716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76212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76212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76212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127160" y="1076040"/>
            <a:ext cx="8610480" cy="565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spcBef>
                <a:spcPts val="601"/>
              </a:spcBef>
              <a:buClr>
                <a:srgbClr val="000000"/>
              </a:buClr>
              <a:buFont typeface="Arial"/>
              <a:buChar char="&gt;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Die Monitoring-Datenschablonen „SWstn“ und „GWstn“ wurden im WasserBLIcK mit Erläuterungen zur Verfügung gestellt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000000"/>
              </a:buClr>
              <a:buFont typeface="Arial"/>
              <a:buChar char="&gt;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Diese beiden Datenschablonen bilden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Teil 1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 der Datenschablonen zum Monitoring ab, i.e. Lage und berichtspflichtige Angaben zu den Monitoring-Stellen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000000"/>
              </a:buClr>
              <a:buFont typeface="Arial"/>
              <a:buChar char="&gt;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Teil 2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 der Datenschablonen zum Monitoring bildet insbesondere die Verbindung zwischen Wasserkörpern und Messstellen sowie die Qualitätskomponenten und Parameter ab (analog zu den WISE-Anforderunge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000000"/>
              </a:buClr>
              <a:buFont typeface="Arial"/>
              <a:buChar char="&gt;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Das Review-Verfahren zu diesem Thema bei der Kommission wird voraussichtlich Ende September abgeschlossen. Danach wird die Schablone „Q_Element“ im WasserBLIcK zur Verfügung gestell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063800" y="323640"/>
            <a:ext cx="86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s ist Monitoring, Teil 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09640" y="1332000"/>
            <a:ext cx="8426520" cy="56926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241280" y="3708360"/>
            <a:ext cx="8975880" cy="863640"/>
            <a:chOff x="1241280" y="3708360"/>
            <a:chExt cx="8975880" cy="863640"/>
          </a:xfrm>
        </p:grpSpPr>
        <p:sp>
          <p:nvSpPr>
            <p:cNvPr id="45" name=""/>
            <p:cNvSpPr/>
            <p:nvPr/>
          </p:nvSpPr>
          <p:spPr>
            <a:xfrm>
              <a:off x="1457280" y="3708360"/>
              <a:ext cx="3745080" cy="2160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1241280" y="3941640"/>
              <a:ext cx="8975880" cy="6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"/>
          <p:cNvGrpSpPr/>
          <p:nvPr/>
        </p:nvGrpSpPr>
        <p:grpSpPr>
          <a:xfrm>
            <a:off x="1312920" y="5003640"/>
            <a:ext cx="9396360" cy="1297080"/>
            <a:chOff x="1312920" y="5003640"/>
            <a:chExt cx="9396360" cy="1297080"/>
          </a:xfrm>
        </p:grpSpPr>
        <p:sp>
          <p:nvSpPr>
            <p:cNvPr id="48" name=""/>
            <p:cNvSpPr/>
            <p:nvPr/>
          </p:nvSpPr>
          <p:spPr>
            <a:xfrm>
              <a:off x="1457280" y="6084720"/>
              <a:ext cx="3745080" cy="2160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1312920" y="5003640"/>
              <a:ext cx="9396360" cy="104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"/>
          <p:cNvGrpSpPr/>
          <p:nvPr/>
        </p:nvGrpSpPr>
        <p:grpSpPr>
          <a:xfrm>
            <a:off x="378000" y="3946680"/>
            <a:ext cx="10225080" cy="3433680"/>
            <a:chOff x="378000" y="3946680"/>
            <a:chExt cx="10225080" cy="3433680"/>
          </a:xfrm>
        </p:grpSpPr>
        <p:pic>
          <p:nvPicPr>
            <p:cNvPr id="51" name="" descr=""/>
            <p:cNvPicPr/>
            <p:nvPr/>
          </p:nvPicPr>
          <p:blipFill>
            <a:blip r:embed="rId4"/>
            <a:stretch/>
          </p:blipFill>
          <p:spPr>
            <a:xfrm>
              <a:off x="378000" y="3946680"/>
              <a:ext cx="10175760" cy="33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929800" y="4211640"/>
              <a:ext cx="1673280" cy="316872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3800" y="323640"/>
            <a:ext cx="86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s ist Monitoring, Teil 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69640" y="323640"/>
            <a:ext cx="806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onitoring: Surfac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05480" y="1295280"/>
            <a:ext cx="1749240" cy="1557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SWS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EU_CD_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SW_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05360" y="1295280"/>
            <a:ext cx="2558160" cy="33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QE_SWS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EU_CD_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MS_CD_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urier New"/>
              </a:rPr>
              <a:t>QE_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16880" y="1989000"/>
            <a:ext cx="2558160" cy="3020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RWS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MS_CD_R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LWS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MS_CD_L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TW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MS_CD_T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CW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MS_CD_C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3840" y="4932360"/>
            <a:ext cx="4340160" cy="1557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Courier New"/>
              </a:rPr>
              <a:t>WFD_CODE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ff00"/>
                </a:solidFill>
                <a:latin typeface="Courier New"/>
              </a:rPr>
              <a:t>Quality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cc3300"/>
                </a:solidFill>
                <a:latin typeface="Courier New"/>
              </a:rPr>
              <a:t>WaterBodyTyp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190800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62440" y="3708360"/>
            <a:ext cx="2806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85840" y="15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06360" y="3298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n: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69640" y="323640"/>
            <a:ext cx="806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itoring: Ground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05480" y="1295280"/>
            <a:ext cx="174924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Courier New"/>
              </a:rPr>
              <a:t>GWS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9900"/>
                </a:solidFill>
                <a:latin typeface="Courier New"/>
              </a:rPr>
              <a:t>EU_CD_G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05360" y="1295280"/>
            <a:ext cx="2558160" cy="33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QE_GWS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EU_CD_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MS_CD_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urier New"/>
              </a:rPr>
              <a:t>QE_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16880" y="3298680"/>
            <a:ext cx="255816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GW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MS_CD_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3840" y="4932360"/>
            <a:ext cx="434016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Courier New"/>
              </a:rPr>
              <a:t>WFD_CODE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ff00"/>
                </a:solidFill>
                <a:latin typeface="Courier New"/>
              </a:rPr>
              <a:t>Quality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190800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62440" y="3708360"/>
            <a:ext cx="2806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5840" y="15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06360" y="3298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n: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14:39:37Z</dcterms:created>
  <dc:creator>morkvomork</dc:creator>
  <dc:description/>
  <dc:language>en-US</dc:language>
  <cp:lastModifiedBy>Fretter</cp:lastModifiedBy>
  <cp:lastPrinted>2003-08-12T09:28:58Z</cp:lastPrinted>
  <dcterms:modified xsi:type="dcterms:W3CDTF">2006-09-11T17:13:05Z</dcterms:modified>
  <cp:revision>325</cp:revision>
  <dc:subject/>
  <dc:title>PowerPoint-Präsentation</dc:title>
</cp:coreProperties>
</file>