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784836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3852360"/>
            <a:ext cx="784836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2880" y="10663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385236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92880" y="385236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4880" y="106632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78440" y="106632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385236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24880" y="385236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78440" y="385236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C9462-3524-468E-919F-FB591668F2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71320" y="106632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30E96-2D5A-451E-8435-2B52B2491E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AA8BD-83A2-4A1E-B5C7-571FD3072B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38296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92880" y="1066320"/>
            <a:ext cx="38296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D8B82-3F29-4AD1-B906-D0EF8F3335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7D26B-8BD6-41E5-88F4-8323AEABE9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87200" y="376200"/>
            <a:ext cx="6594480" cy="17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2C0F8-4948-47CB-8723-2ADF4BDCE9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2880" y="1066320"/>
            <a:ext cx="38296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71320" y="385236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EC459-7969-4114-9256-BFFDFC74FE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106632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38296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880" y="10663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92880" y="385236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1B523-8A96-4AE1-A566-961C685C94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880" y="10663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71320" y="3852360"/>
            <a:ext cx="784836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2562B-9172-4AFF-9611-740F9436D6F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784836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1320" y="3852360"/>
            <a:ext cx="784836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F1262-0345-4E18-BEFB-414F599091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92880" y="10663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1320" y="385236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92880" y="385236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57A16-140B-40F1-8EA2-D4E20EBBDC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4880" y="106632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78440" y="106632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71320" y="385236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4880" y="385236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78440" y="385236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21E7B-3399-46E9-8FB2-23F67542F5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38296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92880" y="1066320"/>
            <a:ext cx="38296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87200" y="376200"/>
            <a:ext cx="6594480" cy="17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2880" y="1066320"/>
            <a:ext cx="38296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385236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38296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2880" y="10663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92880" y="385236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2880" y="10663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3852360"/>
            <a:ext cx="784836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81080" y="851040"/>
            <a:ext cx="8962920" cy="5702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71320" y="106632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19044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09720" indent="-19044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09720" indent="-1904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09720" indent="-1904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8535960" y="519120"/>
            <a:ext cx="609480" cy="204840"/>
          </a:xfrm>
          <a:custGeom>
            <a:avLst/>
            <a:gdLst/>
            <a:ahLst/>
            <a:rect l="l" t="t" r="r" b="b"/>
            <a:pathLst>
              <a:path w="384" h="129">
                <a:moveTo>
                  <a:pt x="0" y="128"/>
                </a:moveTo>
                <a:lnTo>
                  <a:pt x="97" y="128"/>
                </a:lnTo>
                <a:lnTo>
                  <a:pt x="110" y="96"/>
                </a:lnTo>
                <a:lnTo>
                  <a:pt x="383" y="96"/>
                </a:lnTo>
                <a:lnTo>
                  <a:pt x="383" y="0"/>
                </a:lnTo>
                <a:lnTo>
                  <a:pt x="147" y="0"/>
                </a:lnTo>
                <a:lnTo>
                  <a:pt x="135" y="30"/>
                </a:lnTo>
                <a:lnTo>
                  <a:pt x="0" y="30"/>
                </a:lnTo>
                <a:lnTo>
                  <a:pt x="0" y="128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8535960" y="235080"/>
            <a:ext cx="609480" cy="204480"/>
          </a:xfrm>
          <a:custGeom>
            <a:avLst/>
            <a:gdLst/>
            <a:ahLst/>
            <a:rect l="l" t="t" r="r" b="b"/>
            <a:pathLst>
              <a:path w="384" h="129">
                <a:moveTo>
                  <a:pt x="0" y="128"/>
                </a:moveTo>
                <a:lnTo>
                  <a:pt x="168" y="128"/>
                </a:lnTo>
                <a:lnTo>
                  <a:pt x="181" y="96"/>
                </a:lnTo>
                <a:lnTo>
                  <a:pt x="383" y="96"/>
                </a:lnTo>
                <a:lnTo>
                  <a:pt x="383" y="0"/>
                </a:lnTo>
                <a:lnTo>
                  <a:pt x="218" y="0"/>
                </a:lnTo>
                <a:lnTo>
                  <a:pt x="206" y="30"/>
                </a:lnTo>
                <a:lnTo>
                  <a:pt x="0" y="30"/>
                </a:lnTo>
                <a:lnTo>
                  <a:pt x="0" y="128"/>
                </a:lnTo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080" y="851040"/>
            <a:ext cx="8962920" cy="5702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16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11760" y="259200"/>
            <a:ext cx="18082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ndesamt für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ur und Umwe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 Land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hleswig-Holst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1"/>
          </p:nvPr>
        </p:nvSpPr>
        <p:spPr>
          <a:xfrm>
            <a:off x="5310360" y="6652800"/>
            <a:ext cx="3109680" cy="1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2"/>
          </p:nvPr>
        </p:nvSpPr>
        <p:spPr>
          <a:xfrm>
            <a:off x="8915400" y="6645240"/>
            <a:ext cx="18432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071F-0447-4164-81D8-DFB887BCE1C9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0"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62120" algn="ctr"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38400" algn="ctr">
              <a:spcBef>
                <a:spcPts val="3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619280" algn="ctr">
              <a:spcBef>
                <a:spcPts val="3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619280"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619280"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680" y="2141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de-DE" sz="3200" spc="-1" strike="noStrike">
                <a:solidFill>
                  <a:srgbClr val="003399"/>
                </a:solidFill>
                <a:latin typeface="Arial"/>
              </a:rPr>
              <a:t>Füllung der „Reporting Sheets“</a:t>
            </a:r>
            <a:br>
              <a:rPr sz="3200"/>
            </a:br>
            <a:r>
              <a:rPr b="1" i="1" lang="de-DE" sz="2800" spc="-1" strike="noStrike">
                <a:solidFill>
                  <a:srgbClr val="003399"/>
                </a:solidFill>
                <a:latin typeface="Arial"/>
              </a:rPr>
              <a:t>zur Bestandsaufnahme aus den </a:t>
            </a:r>
            <a:br>
              <a:rPr sz="2800"/>
            </a:br>
            <a:r>
              <a:rPr b="1" i="1" lang="de-DE" sz="2800" spc="-1" strike="noStrike">
                <a:solidFill>
                  <a:srgbClr val="003399"/>
                </a:solidFill>
                <a:latin typeface="Arial"/>
              </a:rPr>
              <a:t>WasserBLIcK-Datenschablonen</a:t>
            </a:r>
            <a:br>
              <a:rPr sz="2800"/>
            </a:br>
            <a:r>
              <a:rPr b="1" i="1" lang="de-DE" sz="2800" spc="-1" strike="noStrike">
                <a:solidFill>
                  <a:srgbClr val="003399"/>
                </a:solidFill>
                <a:latin typeface="Arial"/>
              </a:rPr>
              <a:t>-</a:t>
            </a:r>
            <a:br>
              <a:rPr sz="2800"/>
            </a:br>
            <a:r>
              <a:rPr b="1" i="1" lang="de-DE" sz="2800" spc="-1" strike="noStrike">
                <a:solidFill>
                  <a:srgbClr val="003399"/>
                </a:solidFill>
                <a:latin typeface="Arial"/>
              </a:rPr>
              <a:t>Vorgehensweise und Stand der Umsetzung</a:t>
            </a:r>
            <a:br>
              <a:rPr sz="2800"/>
            </a:br>
            <a:r>
              <a:rPr b="1" i="1" lang="de-DE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. Pfeif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C3C04-67EE-431E-8FC6-B88B0D38B22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87200" y="376200"/>
            <a:ext cx="8956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399"/>
                </a:solidFill>
                <a:latin typeface="Arial"/>
              </a:rPr>
              <a:t>Reporting Sheets – Umsetzung Bestandsaufnah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4560" y="990720"/>
            <a:ext cx="78487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184680" indent="-184680">
              <a:lnSpc>
                <a:spcPct val="125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s bestehen Unklarheiten, welche Angaben „mandatory“ und welche Angaben optional si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4680" indent="-184680">
              <a:lnSpc>
                <a:spcPct val="125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ach Auskunft von Herrn Bußkamp is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rücksichtigt das vom WRC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WaterResearchCenter)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llte Tool zur Erstellung der Reporting Sheets die deutschen Einwände bezüglich der in Block „Data“ geforderten Informationen nicht, ansonsten 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54400" indent="-185040">
              <a:lnSpc>
                <a:spcPct val="125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Lieferung von „Geographic Information“ unkritisch 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54400" indent="-185040">
              <a:lnSpc>
                <a:spcPct val="125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Forderungen für den Bereich „Data“ können zu 95% aus den vorhandenen Daten in den Datenschablonen bedient werde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54400" indent="-185040">
              <a:lnSpc>
                <a:spcPct val="125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Texte für die Summaries können in das Tool von WRC eingegeben bzw. reinkopiert werden (max. 2000 Zeichen), dieses wurde für die FGE Weser bereits erfolgreich getest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87200" y="376200"/>
            <a:ext cx="8956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399"/>
                </a:solidFill>
                <a:latin typeface="Arial"/>
              </a:rPr>
              <a:t>Reporting Sheets – Umsetzung Bestandsaufnah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4560" y="990720"/>
            <a:ext cx="78487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marL="188280" indent="-188280">
              <a:lnSpc>
                <a:spcPct val="125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Arbeitsaufwand für das Einfüllen der Summary-Texte für die FGE Weser hat nach Auskunft der Geschäftsstelle Weser ca. 1 Woche Arbeitszeit in Anspruch genomm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8280" indent="-188280">
              <a:lnSpc>
                <a:spcPct val="12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gt;&gt;&gt; jeweils 1 Person für Oberflächengewässer und 1 Person für Grundwasser haben 2,5 Tage gebraucht, um Textpassagen aus dem Berichtstext zu kopieren und - wo es erforderlich war -  auf 2000 Zeichen zu kürz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8280" indent="-188280">
              <a:lnSpc>
                <a:spcPct val="125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Summary-Texte werden für die Reporting Sheets zwar in englischer Sprache gefordert, da deutsch jedoch Amtssprache ist, werden die Texte auf deutsch eingefüllt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8280" indent="-188280">
              <a:lnSpc>
                <a:spcPct val="12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s soll zwischen dem Bund und der EU-Kommission abgestimmt werden, daß die englische Übersetzung solange entfällt bis die EU-Kommission um Hilfe bitt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87200" y="376200"/>
            <a:ext cx="8956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399"/>
                </a:solidFill>
                <a:latin typeface="Arial"/>
              </a:rPr>
              <a:t>Reporting Sheets – Umsetzung Bestandsaufnah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4560" y="990720"/>
            <a:ext cx="78487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ach Einschätzung von Herrn Bußkamp is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von auszuge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ß alle Felder, die mit roter Schrift bezeichnet sind,         zur Erstellung von Produkten (Statistiken, Karten etc.) genutzt werd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876920" y="2870280"/>
            <a:ext cx="3733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76920" y="3200400"/>
            <a:ext cx="3733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76920" y="3657600"/>
            <a:ext cx="3733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76920" y="4038480"/>
            <a:ext cx="3733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76920" y="4495680"/>
            <a:ext cx="3733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76920" y="4838760"/>
            <a:ext cx="3733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76920" y="5257800"/>
            <a:ext cx="3733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5638680"/>
            <a:ext cx="3733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62120" y="1828800"/>
            <a:ext cx="35049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31240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3886200"/>
            <a:ext cx="7696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76920" y="2590920"/>
            <a:ext cx="35049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00600" y="5765760"/>
            <a:ext cx="3505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91520" y="31240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19920" y="31240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029200" y="4457880"/>
            <a:ext cx="3200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90920" y="228600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90920" y="274320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342900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90920" y="411480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90920" y="4952880"/>
            <a:ext cx="1828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434340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90920" y="1752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915080" y="5575320"/>
            <a:ext cx="35049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5575320"/>
            <a:ext cx="3505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657600" y="187632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915320" y="186696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09480" y="3733920"/>
            <a:ext cx="3581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71680" y="990720"/>
            <a:ext cx="784836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10000"/>
              </a:lnSpc>
              <a:spcBef>
                <a:spcPts val="550"/>
              </a:spcBef>
              <a:spcAft>
                <a:spcPts val="550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and der Umsetzung WasserBLIcK / Reporting Sheets (WISE) - </a:t>
            </a:r>
            <a:r>
              <a:rPr b="1" lang="de-DE" sz="2200" spc="-1" strike="noStrike">
                <a:solidFill>
                  <a:srgbClr val="ff3300"/>
                </a:solidFill>
                <a:latin typeface="Arial"/>
              </a:rPr>
              <a:t>Bestandsaufnah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10000"/>
              </a:lnSpc>
              <a:spcBef>
                <a:spcPts val="550"/>
              </a:spcBef>
              <a:spcAft>
                <a:spcPts val="550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10000"/>
              </a:lnSpc>
              <a:spcBef>
                <a:spcPts val="550"/>
              </a:spcBef>
              <a:spcAft>
                <a:spcPts val="550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sbli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10000"/>
              </a:lnSpc>
              <a:spcBef>
                <a:spcPts val="550"/>
              </a:spcBef>
              <a:spcAft>
                <a:spcPts val="550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7200" y="376200"/>
            <a:ext cx="80424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Glied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876920" y="2209680"/>
            <a:ext cx="358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5638680"/>
            <a:ext cx="358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90920" y="14479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4038480"/>
            <a:ext cx="3352680" cy="1923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öglichkei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isk_chem + neues Attrib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ollution_rea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=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= diff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= point and diff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114800" y="1523520"/>
            <a:ext cx="175248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876920" y="2209680"/>
            <a:ext cx="3657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24280" y="5638680"/>
            <a:ext cx="3657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90920" y="144792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2120" y="4038480"/>
            <a:ext cx="3352680" cy="1923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öglichkei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isk_chem + neues Attrib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ollution_rea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=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= diff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= point and diff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114800" y="1523520"/>
            <a:ext cx="175248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800600" y="4902120"/>
            <a:ext cx="3657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90920" y="160020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75480" y="1260360"/>
            <a:ext cx="14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U_CD_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09480" y="4889520"/>
            <a:ext cx="3581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75080" y="133344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 Beric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15000" y="137160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 Beric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09480" y="4660920"/>
            <a:ext cx="3657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609480" y="4648320"/>
            <a:ext cx="3581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09480" y="4660920"/>
            <a:ext cx="3657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733920" y="1905120"/>
            <a:ext cx="533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724280"/>
            <a:ext cx="3581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2171880"/>
            <a:ext cx="533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33920" y="2362320"/>
            <a:ext cx="533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724280" y="5715000"/>
            <a:ext cx="3733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09480" y="3733920"/>
            <a:ext cx="3581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876920" y="914400"/>
            <a:ext cx="4114800" cy="5743800"/>
          </a:xfrm>
          <a:prstGeom prst="rect">
            <a:avLst/>
          </a:prstGeom>
          <a:solidFill>
            <a:srgbClr val="99ccff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24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24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914400"/>
            <a:ext cx="4114800" cy="57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eporting She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Geograph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ormation (x,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Summ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in technisch betrachtet kein abgeschlossener Beri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14400"/>
            <a:ext cx="4343400" cy="5734440"/>
          </a:xfrm>
          <a:prstGeom prst="rect">
            <a:avLst/>
          </a:prstGeom>
          <a:solidFill>
            <a:srgbClr val="ccffff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WasserB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Bf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7200" y="376200"/>
            <a:ext cx="80424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399"/>
                </a:solidFill>
                <a:latin typeface="Arial"/>
              </a:rPr>
              <a:t>WasserBLIcK / Reporting Sheets (WI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914400"/>
            <a:ext cx="4343400" cy="57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rich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Datenschabl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Shapefi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Tabe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Abbild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Kar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geschlossener Bericht für F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2100000">
            <a:off x="4190760" y="3733920"/>
            <a:ext cx="1371600" cy="30456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67080" y="3352680"/>
            <a:ext cx="1371600" cy="304920"/>
          </a:xfrm>
          <a:prstGeom prst="rightArrow">
            <a:avLst>
              <a:gd name="adj1" fmla="val 50000"/>
              <a:gd name="adj2" fmla="val 11245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80000" y="907920"/>
            <a:ext cx="2592360" cy="1584360"/>
          </a:xfrm>
          <a:prstGeom prst="rightArrow">
            <a:avLst>
              <a:gd name="adj1" fmla="val 50000"/>
              <a:gd name="adj2" fmla="val 40905"/>
            </a:avLst>
          </a:prstGeom>
          <a:gradFill rotWithShape="0">
            <a:gsLst>
              <a:gs pos="0">
                <a:srgbClr val="ff0000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876920" y="2057400"/>
            <a:ext cx="3504960" cy="1066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00600" y="5638680"/>
            <a:ext cx="358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2120" y="4038480"/>
            <a:ext cx="3352680" cy="1923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öglichkei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isk_chem + neues Attrib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ollution_rea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=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= diff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= point and diff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114800" y="1523520"/>
            <a:ext cx="175248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3200400"/>
            <a:ext cx="40384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eht so nicht im reporting she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362320" y="1523520"/>
            <a:ext cx="4572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029200" y="2209680"/>
            <a:ext cx="3429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00600" y="5638680"/>
            <a:ext cx="3505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2120" y="3657600"/>
            <a:ext cx="3352680" cy="1923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öglichkei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isk_chem + neues Attrib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ollution_rea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=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= diff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= point and diff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114800" y="1523520"/>
            <a:ext cx="167652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93800" y="1219320"/>
            <a:ext cx="9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ric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733920" y="220968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33920" y="243828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00600" y="4889520"/>
            <a:ext cx="3657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60020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4038480"/>
            <a:ext cx="3352680" cy="1618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öglichkei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isk_quant + neues Attrib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quant_rea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= abs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= re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4114800" y="1676160"/>
            <a:ext cx="18288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609480" y="2362320"/>
            <a:ext cx="3581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5562720"/>
            <a:ext cx="3657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62320" y="1523880"/>
            <a:ext cx="533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3352680"/>
            <a:ext cx="3352680" cy="1618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öglichkei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isk_quant + neues Attrib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quant_rea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= abs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= re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9200" y="1600200"/>
            <a:ext cx="22860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685800" y="4876920"/>
            <a:ext cx="3505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90920" y="137160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 Beric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609480" y="4660920"/>
            <a:ext cx="3581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09480" y="4660920"/>
            <a:ext cx="3581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609480" y="4660920"/>
            <a:ext cx="3657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267080" y="5486400"/>
            <a:ext cx="3962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19520" y="167652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 Beric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95480" y="198108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 Beric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95480" y="228600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 Beric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80880" y="4724280"/>
            <a:ext cx="38102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87200" y="376200"/>
            <a:ext cx="8956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399"/>
                </a:solidFill>
                <a:latin typeface="Arial"/>
              </a:rPr>
              <a:t>Reporting Sheets – Umsetzung Bestandsaufnah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4560" y="990720"/>
            <a:ext cx="78487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186480" indent="-186480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msetzung der Datenschablonen in Reporting Sheets für die Komponenten „Geographic Information“ und „Data“ läuft,      im WasserBLIcK kann das Umsetzungsergebnis für folgende Reporting Sheets abgerufen werd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18684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WB1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ypology of surface water bo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18684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WB2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dentification of surface water bo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18684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WB3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visional identification of Artificial and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eavily Modified Water Bo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18684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WB1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dentification/delineation of groundwater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o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6480" indent="-186480">
              <a:lnSpc>
                <a:spcPct val="11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ringfügige Nachbesserungen in Datenbestand werden erforder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6480" indent="-186480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87200" y="376200"/>
            <a:ext cx="80424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399"/>
                </a:solidFill>
                <a:latin typeface="Arial"/>
              </a:rPr>
              <a:t>Reporting Sheets – Umsetzu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87320" y="1282680"/>
            <a:ext cx="78487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71680" y="1066680"/>
            <a:ext cx="8572320" cy="550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125000"/>
              </a:lnSpc>
              <a:spcBef>
                <a:spcPts val="249"/>
              </a:spcBef>
              <a:spcAft>
                <a:spcPts val="24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porting Sheet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r Bestandsaufnahme enthalten zwei Datenabgabetermin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5000"/>
              </a:lnSpc>
              <a:spcBef>
                <a:spcPts val="249"/>
              </a:spcBef>
              <a:spcAft>
                <a:spcPts val="24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2006 (Bericht 2005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Vorgehen der BR Deutschla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125000"/>
              </a:lnSpc>
              <a:spcBef>
                <a:spcPts val="249"/>
              </a:spcBef>
              <a:spcAft>
                <a:spcPts val="249"/>
              </a:spcAft>
              <a:buClr>
                <a:srgbClr val="0033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as im Rahmen der Bestandsaufnahme mittels Datenschablonen erhoben wurde, wird 2006 gelief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125000"/>
              </a:lnSpc>
              <a:spcBef>
                <a:spcPts val="249"/>
              </a:spcBef>
              <a:spcAft>
                <a:spcPts val="249"/>
              </a:spcAft>
              <a:buClr>
                <a:srgbClr val="0033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FGG‘s nehmen bis zum …...2005 Stellung zu den Forderungen, die über GIS-GuiDoc und WRRL-Gesetzestext hinausge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125000"/>
              </a:lnSpc>
              <a:spcBef>
                <a:spcPts val="249"/>
              </a:spcBef>
              <a:spcAft>
                <a:spcPts val="249"/>
              </a:spcAft>
              <a:buClr>
                <a:srgbClr val="0033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mpfehlung für Summaries: Vorgehen analog zu We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125000"/>
              </a:lnSpc>
              <a:spcBef>
                <a:spcPts val="249"/>
              </a:spcBef>
              <a:spcAft>
                <a:spcPts val="249"/>
              </a:spcAft>
              <a:buClr>
                <a:srgbClr val="0033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ualitätssicherung der Daten bis 03/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125000"/>
              </a:lnSpc>
              <a:spcBef>
                <a:spcPts val="249"/>
              </a:spcBef>
              <a:spcAft>
                <a:spcPts val="249"/>
              </a:spcAft>
              <a:buClr>
                <a:srgbClr val="0033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füllen der Reporting Sheets bis 06/20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5000"/>
              </a:lnSpc>
              <a:spcBef>
                <a:spcPts val="249"/>
              </a:spcBef>
              <a:spcAft>
                <a:spcPts val="24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2010 bzw. 2008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Ergänzungen in Verbindung mit Berichtspflichten zum Monitoring bzw. Bewirtschaftungsplan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680" y="2141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de-DE" sz="3200" spc="-1" strike="noStrike">
                <a:solidFill>
                  <a:srgbClr val="003399"/>
                </a:solidFill>
                <a:latin typeface="Arial"/>
              </a:rPr>
              <a:t>„</a:t>
            </a:r>
            <a:r>
              <a:rPr b="1" i="1" lang="de-DE" sz="3200" spc="-1" strike="noStrike">
                <a:solidFill>
                  <a:srgbClr val="003399"/>
                </a:solidFill>
                <a:latin typeface="Arial"/>
              </a:rPr>
              <a:t>Reporting Sheets“</a:t>
            </a:r>
            <a:br>
              <a:rPr sz="3200"/>
            </a:br>
            <a:r>
              <a:rPr b="1" i="1" lang="de-DE" sz="3200" spc="-1" strike="noStrike">
                <a:solidFill>
                  <a:srgbClr val="003399"/>
                </a:solidFill>
                <a:latin typeface="Arial"/>
              </a:rPr>
              <a:t>zum Monitoring</a:t>
            </a:r>
            <a:br>
              <a:rPr sz="3200"/>
            </a:br>
            <a:r>
              <a:rPr b="1" i="1" lang="de-DE" sz="32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i="1" lang="de-DE" sz="28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2800"/>
            </a:br>
            <a:r>
              <a:rPr b="1" i="1" lang="de-DE" sz="2800" spc="-1" strike="noStrike">
                <a:solidFill>
                  <a:srgbClr val="003399"/>
                </a:solidFill>
                <a:latin typeface="Arial"/>
              </a:rPr>
              <a:t>Stand der Abstimmung auf der europäischen Ebene, </a:t>
            </a:r>
            <a:br>
              <a:rPr sz="2800"/>
            </a:br>
            <a:r>
              <a:rPr b="1" i="1" lang="de-DE" sz="2800" spc="-1" strike="noStrike">
                <a:solidFill>
                  <a:srgbClr val="003399"/>
                </a:solidFill>
                <a:latin typeface="Arial"/>
              </a:rPr>
              <a:t>Weiterentwicklung der WasserBLIcK-Datenschablonen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. Pfeif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EAC56-A9A8-469B-915C-9655460339B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399"/>
                </a:solidFill>
                <a:latin typeface="Arial"/>
              </a:rPr>
              <a:t>Reporting Sheets - Monitoring 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rcRect l="3543" t="37407" r="6200" b="20869"/>
          <a:stretch/>
        </p:blipFill>
        <p:spPr>
          <a:xfrm>
            <a:off x="195120" y="907920"/>
            <a:ext cx="8831520" cy="27766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79280" y="1916280"/>
            <a:ext cx="889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79280" y="2205000"/>
            <a:ext cx="889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1680" y="4560840"/>
            <a:ext cx="78483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eporting Sheet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um </a:t>
            </a: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Monitoring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Oberflächengewässer: SWM1 – SWM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rundwasser: GWM1 – GWM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87200" y="376200"/>
            <a:ext cx="80424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399"/>
                </a:solidFill>
                <a:latin typeface="Arial"/>
              </a:rPr>
              <a:t>Reporting Sheets - Monit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4560" y="990720"/>
            <a:ext cx="78487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WM1: Zusammenfassung der Monitoringprogramme für den ökologischen und chemischen Zust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90440">
              <a:lnSpc>
                <a:spcPct val="125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iele der Monitoring-Program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90440">
              <a:lnSpc>
                <a:spcPct val="125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schreibung der M.-Programme - Kategor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90440">
              <a:lnSpc>
                <a:spcPct val="125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zahl der Wasserkörper(-gruppen) - Kategor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90440">
              <a:lnSpc>
                <a:spcPct val="125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rt und Anzahl der Schutzgebiete, die durch das jeweilige M.-Programm erfaßt we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90440">
              <a:lnSpc>
                <a:spcPct val="125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gabe der einzelnen Qualitätskomponenten/ Liste der prioritären Substanz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90440">
              <a:lnSpc>
                <a:spcPct val="125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zahl der Messstellen für das jeweilige M.-Progra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90440">
              <a:lnSpc>
                <a:spcPct val="125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gabe zu Messfrequenz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87200" y="376200"/>
            <a:ext cx="80424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399"/>
                </a:solidFill>
                <a:latin typeface="Arial"/>
              </a:rPr>
              <a:t>Reporting Sheets - Monit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4560" y="990720"/>
            <a:ext cx="78487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182520" indent="-182520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WM2 - 4: Erfassung der Informationen zu den einzelnen Monitoringprogrammen/Messnetzen (Übersicht, operational, Ermittlung) und zwar für jede Messst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lnSpc>
                <a:spcPct val="125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gabe, um welchen Typ Wasserkörper es sich hande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lnSpc>
                <a:spcPct val="125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gaben zu Parametern für jede Qualitätskompon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lnSpc>
                <a:spcPct val="125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ssfrequen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lnSpc>
                <a:spcPct val="125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satzanforderungen an Messungen im Zusammenhang mit Prioritären Stoffen u.ä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lnSpc>
                <a:spcPct val="125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satzanforderungen an Messungen im Zusammenhang mit Schutzgebie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lnSpc>
                <a:spcPct val="125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itere Detailinformationen, falls von dem in der Zusammenfassung dargestellten Vorgehen abgewichen wi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87200" y="376200"/>
            <a:ext cx="80424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399"/>
                </a:solidFill>
                <a:latin typeface="Arial"/>
              </a:rPr>
              <a:t>Reporting Sheets - Monit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74560" y="990720"/>
            <a:ext cx="78487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5000"/>
          </a:bodyPr>
          <a:p>
            <a:pPr marL="180720" indent="-18072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WM1: Monitoringprogramm für den mengenmäßigen Zust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4680" indent="-18072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iele des Monitoring-Program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4680" indent="-18072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zahl der Grundwasserkörper(-gruppen) - RB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4680" indent="-18072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zahl der Messste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4680" indent="-18072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gabe zu Messfrequenz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4680" indent="-18072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zahl der Messstellen im Bereich von Grundwasserentnahmestellen für Trinkwasser, Anzahl der Trinkwasserschutzgebiete, für die Messstellen repräsentativ si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4680" indent="-18072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tailinformationen zu grenzüberschreitenden Grundwasserkörpern (Anzahl grenzüberschreitender GWB, wieviel Messstellen in welchem GW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4680" indent="-18072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blick zur Methodik und Kriterien zur Auswahl der Messste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87200" y="376200"/>
            <a:ext cx="80424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399"/>
                </a:solidFill>
                <a:latin typeface="Arial"/>
              </a:rPr>
              <a:t>Reporting Sheets - Monit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4560" y="990720"/>
            <a:ext cx="78487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WM2 : Zusammenfassung der chemischen Grundwasser-Monitoring-Program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90440">
              <a:lnSpc>
                <a:spcPct val="115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iele der Monitoring-Programme - Übersicht, op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90440">
              <a:lnSpc>
                <a:spcPct val="115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zahl der Grundwasserkörper(-gruppen) - RB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90440">
              <a:lnSpc>
                <a:spcPct val="115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gabe der einzelnen Qualitätskomponenten/ Liste der prioritären Substanz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90440">
              <a:lnSpc>
                <a:spcPct val="115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87200" y="376200"/>
            <a:ext cx="80424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399"/>
                </a:solidFill>
                <a:latin typeface="Arial"/>
              </a:rPr>
              <a:t>Reporting Sheets - Monit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4560" y="990720"/>
            <a:ext cx="78487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mmdaten für jede Messstell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90440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ssstellen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90440">
              <a:lnSpc>
                <a:spcPct val="125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ssstellen-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90440">
              <a:lnSpc>
                <a:spcPct val="125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sserkörper-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90440">
              <a:lnSpc>
                <a:spcPct val="125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-, Y-W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90440">
              <a:lnSpc>
                <a:spcPct val="125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gabe, ob Messstelle in Schutzgebiet lieg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87200" y="376200"/>
            <a:ext cx="80424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399"/>
                </a:solidFill>
                <a:latin typeface="Arial"/>
              </a:rPr>
              <a:t>Reporting Sheets - Ausb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74560" y="990720"/>
            <a:ext cx="78487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och in 2005: Beginn mit der Erarbeitung von Reporting Sheets für die Bewirtschaftungspla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2006: Einfüllen der Summary-Texte in die Reportings Sheets zur Bestandsaufnahme und damit Übergang vom „Papier-Berichtssystem“ auf ein web-basiertes Berichtssystem (WI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22. März 2007: Lieferung einer Zusammenfassung bezüglich der Monitoring-Programme an die EU-Kom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2007: Verabschiedung der Reporting Sheets für die Bewirtschaftungsplanung bis spätestens Mitte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0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5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87200" y="368280"/>
            <a:ext cx="6670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Entwicklungserfordern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57280" y="1092240"/>
            <a:ext cx="8281800" cy="52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2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porting Sheets - Monitor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7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stellung bzw. Ergänzung und Abstimmu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7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n einheitlichen Datenstruktu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ta-Scheme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 Basis der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Data-Template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7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gänzung und Abstimmung der Verschlüsselungsliste fü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7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Wertzuweisu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2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auf Basis der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FD-Codelis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mulierung von Anforderungen hinsichtlich der Daten-Visualisierbar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9844" r="23619" b="9844"/>
          <a:stretch/>
        </p:blipFill>
        <p:spPr>
          <a:xfrm>
            <a:off x="250920" y="765000"/>
            <a:ext cx="7383240" cy="5821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083280" y="2492280"/>
            <a:ext cx="129708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50920" y="5373720"/>
            <a:ext cx="93672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7200" y="376200"/>
            <a:ext cx="80424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399"/>
                </a:solidFill>
                <a:latin typeface="Arial"/>
              </a:rPr>
              <a:t>Reporting Sheets – WasserB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71680" y="3200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Vielen Dank </a:t>
            </a:r>
            <a:br>
              <a:rPr sz="3200"/>
            </a:b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für Ihre/Eure Aufmerksamkeit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399"/>
                </a:solidFill>
                <a:latin typeface="Arial"/>
              </a:rPr>
              <a:t>Reporting Sheets – WasserBLIcK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0" r="10924" b="24413"/>
          <a:stretch/>
        </p:blipFill>
        <p:spPr>
          <a:xfrm>
            <a:off x="163440" y="836640"/>
            <a:ext cx="8971200" cy="5708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771640" y="5877000"/>
            <a:ext cx="100836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59280" y="3718080"/>
            <a:ext cx="93672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0" t="0" r="8857" b="23626"/>
          <a:stretch/>
        </p:blipFill>
        <p:spPr>
          <a:xfrm>
            <a:off x="179280" y="892080"/>
            <a:ext cx="8964720" cy="5632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79280" y="5877000"/>
            <a:ext cx="108108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7200" y="376200"/>
            <a:ext cx="80424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399"/>
                </a:solidFill>
                <a:latin typeface="Arial"/>
              </a:rPr>
              <a:t>Reporting Sheets – WasserB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0" t="0" r="18305" b="23626"/>
          <a:stretch/>
        </p:blipFill>
        <p:spPr>
          <a:xfrm>
            <a:off x="179280" y="836640"/>
            <a:ext cx="8953560" cy="568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3573360"/>
            <a:ext cx="792000" cy="21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7200" y="376200"/>
            <a:ext cx="80424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399"/>
                </a:solidFill>
                <a:latin typeface="Arial"/>
              </a:rPr>
              <a:t>Reporting Sheets – WasserB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184680" indent="-184680">
              <a:lnSpc>
                <a:spcPct val="125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msetzung wird dadurch verzögert, daß die Reporting Sheets für die Bestandsaufnahme immer noch nicht endgültig si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185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19.10.05 SCG berät erneut über Reporting She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185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07.11.05 Deadline for Comments of WGD/SC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4680" indent="-184680">
              <a:lnSpc>
                <a:spcPct val="125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ellungnahme der Bundesrepublik zur Version 5.0 wurde nur unzureichend berücksichtig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4680" indent="-184680">
              <a:lnSpc>
                <a:spcPct val="125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27.09.2005   LAWA-Vollversammlung befaßte sich noch einmal mit den Reporting Sheets für die Bestandsaufnahm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185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schlag S-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3760" indent="-184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mal nur Daten aus Datenschablonen einfüllen (decken Anforderungen aus GIS GuidanceDocument a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3760" indent="-184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fG prüft, welche Forderungen darüber hinaus                                    beste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3760" indent="-184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änder prüfen, ob und bis wann nachlieferb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7200" y="376200"/>
            <a:ext cx="80424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399"/>
                </a:solidFill>
                <a:latin typeface="Arial"/>
              </a:rPr>
              <a:t>Reporting Sheets – Umsetzu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9T11:45:00Z</dcterms:created>
  <dc:creator>aries</dc:creator>
  <dc:description/>
  <dc:language>en-US</dc:language>
  <cp:lastModifiedBy>mpfpeiffe</cp:lastModifiedBy>
  <cp:lastPrinted>2005-06-03T14:27:07Z</cp:lastPrinted>
  <dcterms:modified xsi:type="dcterms:W3CDTF">2005-10-11T16:34:46Z</dcterms:modified>
  <cp:revision>294</cp:revision>
  <dc:subject/>
  <dc:title>Kein Folientitel</dc:title>
</cp:coreProperties>
</file>