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1280" y="-100080"/>
            <a:ext cx="9251640" cy="1557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1440" y="5084640"/>
            <a:ext cx="9146880" cy="19368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1798560" y="577800"/>
            <a:ext cx="2303640" cy="4381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08720" y="108000"/>
            <a:ext cx="273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ScalaSans-Regular"/>
              </a:rPr>
              <a:t>Ministerium für Landwirtschaf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ScalaSans-Regular"/>
              </a:rPr>
              <a:t>Forsten, Umwelt und Naturschut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3277" t="3919" r="4916" b="3919"/>
          <a:stretch/>
        </p:blipFill>
        <p:spPr>
          <a:xfrm>
            <a:off x="7308720" y="2637000"/>
            <a:ext cx="1659240" cy="2087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308720" y="1413000"/>
            <a:ext cx="1656000" cy="1247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1483920"/>
            <a:ext cx="73105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raft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erman Regulation:</a:t>
            </a:r>
            <a:br>
              <a:rPr sz="4000"/>
            </a:b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Verordnung zum Schutz des Grundwassers</a:t>
            </a:r>
            <a:br>
              <a:rPr sz="3200"/>
            </a:b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(Grundwasserverordnung – GrwV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76360" y="4653000"/>
            <a:ext cx="6120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f Budn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ML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308720" y="476280"/>
            <a:ext cx="1656000" cy="1111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308720" y="4653000"/>
            <a:ext cx="16750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532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Aim of Regulation:</a:t>
            </a:r>
            <a:br>
              <a:rPr sz="3200"/>
            </a:br>
            <a:br>
              <a:rPr sz="1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Implementation of EU-Groundwater-Directive into German national law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+ summary and replacement of the former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federal regulations concerning the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implementation of WFD (in the field of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groundwater)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+ rules for economic analysis (Art. 5 WFD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632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333399"/>
                </a:solidFill>
                <a:uFillTx/>
                <a:latin typeface="Times New Roman"/>
              </a:rPr>
              <a:t>Actual Status: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- draft regulation has left German Federal 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 Council („Bundesrat“) </a:t>
            </a:r>
            <a:br>
              <a:rPr sz="3000"/>
            </a:br>
            <a:br>
              <a:rPr sz="1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- amendment were made by the “Bundesrat” 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 and are to be accepted by the national 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 government</a:t>
            </a:r>
            <a:br>
              <a:rPr sz="3000"/>
            </a:br>
            <a:br>
              <a:rPr sz="1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- amended regulation will be published and 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 enter into force before the end of year</a:t>
            </a:r>
            <a:endParaRPr b="0" lang="en-US" sz="3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125000"/>
            <a:ext cx="9145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Times New Roman"/>
              </a:rPr>
              <a:t>Overview of Content:</a:t>
            </a:r>
            <a:br>
              <a:rPr sz="1800"/>
            </a:br>
            <a:br>
              <a:rPr sz="400"/>
            </a:b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- delineation and characterization of ground-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water bodies, risk analysis</a:t>
            </a:r>
            <a:br>
              <a:rPr sz="1800"/>
            </a:br>
            <a:br>
              <a:rPr sz="400"/>
            </a:b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- criteria and assessment of good quantity status</a:t>
            </a:r>
            <a:br>
              <a:rPr sz="1800"/>
            </a:br>
            <a:br>
              <a:rPr sz="400"/>
            </a:b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- criteria and assessment of good chemical status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● threshold values for groundwater pollutants: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  only the minimum requirement of the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  8 substances listed in GWD </a:t>
            </a:r>
            <a:br>
              <a:rPr sz="1800"/>
            </a:b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● detailed specifications for the chemical status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  assessment(delineation of polluter extension and comparison with limit of 25 sqrkm)</a:t>
            </a:r>
            <a:br>
              <a:rPr sz="1800"/>
            </a:br>
            <a:br>
              <a:rPr sz="400"/>
            </a:b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- criteria for groundwater monitoring</a:t>
            </a:r>
            <a:br>
              <a:rPr sz="1800"/>
            </a:br>
            <a:br>
              <a:rPr sz="400"/>
            </a:b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- criteria for  trend analysis (monitoring point &lt;-&gt; gw-body) and trend reversal (3/4 TV)</a:t>
            </a:r>
            <a:br>
              <a:rPr sz="1800"/>
            </a:br>
            <a:br>
              <a:rPr sz="400"/>
            </a:b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- prevent and limit approach</a:t>
            </a:r>
            <a:br>
              <a:rPr sz="1800"/>
            </a:br>
            <a:br>
              <a:rPr sz="400"/>
            </a:b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- economic analysi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35640" y="549360"/>
            <a:ext cx="370836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0920" y="1484280"/>
            <a:ext cx="2675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anks 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for listening!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684360" y="38606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questions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3277" t="2613" r="4916" b="3919"/>
          <a:stretch/>
        </p:blipFill>
        <p:spPr>
          <a:xfrm>
            <a:off x="5408640" y="549360"/>
            <a:ext cx="35733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8:04:33Z</dcterms:created>
  <dc:creator>Nutzer</dc:creator>
  <dc:description/>
  <dc:language>en-US</dc:language>
  <cp:lastModifiedBy>Budnick_R</cp:lastModifiedBy>
  <dcterms:modified xsi:type="dcterms:W3CDTF">2010-11-11T09:23:46Z</dcterms:modified>
  <cp:revision>24</cp:revision>
  <dc:subject/>
  <dc:title>Umwetzung der WRRL in Thüringen – Was haben wir erreicht?</dc:title>
</cp:coreProperties>
</file>