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6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7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D06F-24A1-49A4-9B36-00DF33BF0E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77EF-0A3E-4A6F-891F-D6A5AA1937C4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2DBB-44B8-43E1-9B8B-6C187471C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3177-4B30-4032-A93F-4860363E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8EE4-C31D-45B8-98A3-ABD2898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E60C-05D0-4A51-85ED-76996B793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EEACF-E9EC-4697-AD69-44E08FAE79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8C779-EF2F-4D4C-818D-F17C7EC4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A1981-2C50-49DA-8640-77562875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1ABF9-A066-4271-953B-8D012653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6932E-E920-4CFE-93D0-22FF87C4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CBAFE-43A5-462B-8564-5F81B6B6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464FA-DEE1-419D-882E-04D6837D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D4A8-73DA-42FD-9E6F-B7816B8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EF71B-E8D8-405B-ACBE-D42EC30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286E4-2F9E-43FB-B53C-A92F8D4B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C0BFE-E2F2-4A74-9B00-C591EC77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32D4E-9A88-4AF3-9670-C7692CA9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08C4E-C2CE-4ED0-A39C-42D17CDFF3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9AC3-7FAF-42BA-BEFA-043A842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9A92-B927-45F4-B837-C73D573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728E-C31C-473F-AB7E-AB713F19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4715-3D97-4F75-B1E9-2E56FFEB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1E5E-F0C5-4D7A-AFD6-20383AA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38EC-C7BD-4D5C-BCF7-90ACC26D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903E-020E-4A74-9C48-F3CF5D1A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000" y="6229440"/>
            <a:ext cx="453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|  </a:t>
            </a:r>
            <a:fld id="{37CAE9BA-A689-4D44-9D10-7ECB812D2317}" type="datetime3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29. Juli 2026</a:t>
            </a:fld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  |  </a:t>
            </a:r>
            <a:r>
              <a:rPr b="0" lang="de-DE" sz="1200" spc="-1" strike="noStrike">
                <a:solidFill>
                  <a:srgbClr val="008444"/>
                </a:solidFill>
                <a:latin typeface="Times New Roman"/>
              </a:rPr>
              <a:t>Fr. Roh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FC87-DE95-4E22-A465-7FD17387E979}" type="slidenum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11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4000" y="6229440"/>
            <a:ext cx="8064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| 07.09.2011 |  Referat Oberflächen- und Grundwasser; Fr. Roh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A605-EEF6-4365-A8D5-868C111FA5B4}" type="slidenum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Picture 6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portal51"/>
          <p:cNvPicPr/>
          <p:nvPr/>
        </p:nvPicPr>
        <p:blipFill>
          <a:blip r:embed="rId2"/>
          <a:stretch/>
        </p:blipFill>
        <p:spPr>
          <a:xfrm>
            <a:off x="1440" y="1940040"/>
            <a:ext cx="9144000" cy="531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WelleOben"/>
          <p:cNvPicPr/>
          <p:nvPr/>
        </p:nvPicPr>
        <p:blipFill>
          <a:blip r:embed="rId3"/>
          <a:srcRect l="0" t="33067" r="0" b="0"/>
          <a:stretch/>
        </p:blipFill>
        <p:spPr>
          <a:xfrm>
            <a:off x="1440" y="22320"/>
            <a:ext cx="9144000" cy="23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WelleUnten"/>
          <p:cNvPicPr/>
          <p:nvPr/>
        </p:nvPicPr>
        <p:blipFill>
          <a:blip r:embed="rId5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rafik 10" descr="F:\0_Gewässer_Bilder\Bilder_BfUL\2012_Februar 055.jpg"/>
          <p:cNvPicPr/>
          <p:nvPr/>
        </p:nvPicPr>
        <p:blipFill>
          <a:blip r:embed="rId1"/>
          <a:stretch/>
        </p:blipFill>
        <p:spPr>
          <a:xfrm>
            <a:off x="-138240" y="430200"/>
            <a:ext cx="9172800" cy="6453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-15840" y="246240"/>
            <a:ext cx="9144000" cy="242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2087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0320" y="638280"/>
            <a:ext cx="852660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IMP Elb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- Entwurf 2015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ternationales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ss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gramm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l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175" name="Textfeld 1"/>
          <p:cNvSpPr/>
          <p:nvPr/>
        </p:nvSpPr>
        <p:spPr>
          <a:xfrm>
            <a:off x="1316160" y="62737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Arial"/>
              </a:rPr>
              <a:t>IKSE-SW 18. /19. Februar 201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665496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 Elbe 2015</a:t>
            </a:r>
            <a:br>
              <a:rPr sz="2600"/>
            </a:br>
            <a:r>
              <a:rPr b="1" lang="de-DE" sz="2400" spc="-1" strike="noStrike">
                <a:solidFill>
                  <a:srgbClr val="008444"/>
                </a:solidFill>
                <a:latin typeface="Arial"/>
              </a:rPr>
              <a:t>Parameterumfang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6280" y="1661760"/>
            <a:ext cx="82677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Allgemeine Parameter, darunter die Nährstof</a:t>
            </a: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f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an allen Messste</a:t>
            </a: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ll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Prioritäre Stoffe und nationale Schadstoff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"/>
              </a:rPr>
              <a:t>wenn sie eingeleitet werden bzw. bei &gt; ½ UQ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Änderungsrichtlinie 2013/39/EU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2015 Monitoring für „neue“ Stoffe ab Nr. 3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Biota – nur an den Wächtermessstell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Alle Trendparameter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Datumsplatzhalter 3"/>
          <p:cNvSpPr/>
          <p:nvPr/>
        </p:nvSpPr>
        <p:spPr>
          <a:xfrm>
            <a:off x="684360" y="6229440"/>
            <a:ext cx="8064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18.02.2014 |  Referat Oberflächen- und Grundwasser; Fr. Rohd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3BFB-0E24-42EC-9AEA-6A1AC76F0AFC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6300720" y="3102120"/>
            <a:ext cx="222084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6919920" y="1428840"/>
            <a:ext cx="1841400" cy="170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7021440" y="4930920"/>
            <a:ext cx="1959120" cy="1593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8120" y="612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IMP Elbe 2015 </a:t>
            </a:r>
            <a:br>
              <a:rPr sz="2600"/>
            </a:br>
            <a:r>
              <a:rPr b="1" lang="de-DE" sz="2400" spc="-1" strike="noStrike">
                <a:solidFill>
                  <a:srgbClr val="008444"/>
                </a:solidFill>
                <a:latin typeface="Arial"/>
              </a:rPr>
              <a:t>Parameterumfang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8120" y="1483920"/>
            <a:ext cx="82677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Weitere (flussgebietsspezifische) Stoff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16 Stoffe aus der Stoffliste des UB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Weitere Anforderung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Parameter zur Begleitung der Umsetzung</a:t>
            </a: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des Sedimentmanagementkonzept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Metalle, gesam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Organika im Schweb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Keine „ganz“ neuen Stoff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aber Fortführung der Untersuchungen zu dem PSM-Metabolit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Straffung des IMP ELBE in 201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Streichung von Stoffen, die bereits ausreichend untersucht wurden und keine übergreifende Befunde zeigt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Datumsplatzhalter 3"/>
          <p:cNvSpPr/>
          <p:nvPr/>
        </p:nvSpPr>
        <p:spPr>
          <a:xfrm>
            <a:off x="684360" y="6229440"/>
            <a:ext cx="8064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18.02.2014 |  Referat Oberflächen- und Grundwasser; Fr. Rohd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Foliennummernplatzhalter 4"/>
          <p:cNvSpPr/>
          <p:nvPr/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4E4-7A77-4AD5-8B64-E289B7749374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5653080" y="148428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Elefant</dc:creator>
  <dc:description/>
  <dc:language>en-US</dc:language>
  <cp:lastModifiedBy>Ladislav</cp:lastModifiedBy>
  <dcterms:modified xsi:type="dcterms:W3CDTF">2014-05-07T10:28:24Z</dcterms:modified>
  <cp:revision>700</cp:revision>
  <dc:subject/>
  <dc:title>Ohne Zweitlogo: Titel der Präsentation Arial 26</dc:title>
</cp:coreProperties>
</file>