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90545-6F0C-4D41-8F7C-BA5727B4E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CC311-958B-44F2-8543-29F77B71C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5A16A-536B-46F6-9462-84D156CC5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DEC7E-33A4-4B07-834E-B7C39D17E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52328-EF8B-41F0-B1A1-D41ACE609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255F8-3ABF-416F-BE90-2A37A09CE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01342-DAAE-416A-8C14-2F6476503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A373E-136A-4BCE-98C6-F5A3B5B0C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50675-D6E2-403F-AD57-86888C163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CDDF9-8DA7-4121-A039-7EC8EAE1B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4226B-2B0E-436E-A254-B961C6C26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C816B-044A-4CD5-A8EA-F2D98541C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3961C-86EE-4264-9266-D2A78A006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FDDAD-CB1A-4371-871C-67CAC5B55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1A2BA-5403-480C-8290-2DB1B3A81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50039-31AE-4C0D-ADA0-CB56534D0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071E7-F479-4CD2-9EB4-E260B91EA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DEF09-2224-49F5-AFD7-C8D08FCAC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BB36F-A000-4B66-9C11-5865CE633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F430F-3489-478B-9400-1BCB9987A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3B0D2-C222-464C-8304-C5878989A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6F945-86AC-4688-B2E5-31944D078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BD3BC-5BC0-40E6-82F6-CB3888D6D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AB828-8437-44F1-9429-738AE2BC6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3359D-FC0E-47FD-93D4-5A20781E0FF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6BD82-9430-4336-B9AF-1639DCB76CE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395280" y="1267920"/>
            <a:ext cx="850752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134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 u="sng">
                <a:solidFill>
                  <a:srgbClr val="ffffff"/>
                </a:solidFill>
                <a:uFillTx/>
                <a:latin typeface="Arial"/>
              </a:rPr>
              <a:t>Ergebnisse der Prüfung wirtschaftliche Analy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1125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eher oberflächliche Analy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1125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Vergleichbarkeit aktuell kaum möglic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1125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zahlreiche (weit verbreitete) Mängel bzgl. WRRL angeriss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1125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derzeit keine Einzelaussagen für 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1125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CIS-Workshop 2010 (für 2. BP) gepla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 u="sng">
                <a:solidFill>
                  <a:srgbClr val="ffffff"/>
                </a:solidFill>
                <a:uFillTx/>
                <a:latin typeface="Arial"/>
              </a:rPr>
              <a:t>Annahme der Reportingsheets EC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 u="sng">
                <a:solidFill>
                  <a:srgbClr val="ffffff"/>
                </a:solidFill>
                <a:uFillTx/>
                <a:latin typeface="Arial"/>
              </a:rPr>
              <a:t>erste Ergebnisse des Compliance Check Monitor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rgebnisse SCG-Sitzu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rcRect l="4354" t="28086" r="18644" b="18005"/>
          <a:stretch/>
        </p:blipFill>
        <p:spPr>
          <a:xfrm>
            <a:off x="826920" y="0"/>
            <a:ext cx="7561440" cy="684684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 rot="18703200">
            <a:off x="4535640" y="1593360"/>
            <a:ext cx="1297080" cy="2519280"/>
          </a:xfrm>
          <a:prstGeom prst="ellipse">
            <a:avLst/>
          </a:prstGeom>
          <a:noFill/>
          <a:ln w="34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rcRect l="32500" t="21815" r="3528" b="12792"/>
          <a:stretch/>
        </p:blipFill>
        <p:spPr>
          <a:xfrm>
            <a:off x="0" y="476280"/>
            <a:ext cx="9144000" cy="584208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1981440" y="27082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620720" y="393372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25440" y="443700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573440" y="1341360"/>
            <a:ext cx="3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I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8644680" y="6206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852720" y="465300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F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826200" y="619200"/>
            <a:ext cx="611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99"/>
                </a:solidFill>
                <a:latin typeface="Arial"/>
              </a:rPr>
              <a:t>Number of monitoring sites per 1000 km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878520" y="436572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P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1"/>
          <a:srcRect l="25990" t="21730" r="4623" b="11186"/>
          <a:stretch/>
        </p:blipFill>
        <p:spPr>
          <a:xfrm>
            <a:off x="0" y="620640"/>
            <a:ext cx="9144000" cy="552456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1979640" y="5788080"/>
            <a:ext cx="431640" cy="360360"/>
          </a:xfrm>
          <a:prstGeom prst="ellipse">
            <a:avLst/>
          </a:prstGeom>
          <a:noFill/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866880" y="765000"/>
            <a:ext cx="828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99"/>
                </a:solidFill>
                <a:latin typeface="Arial"/>
              </a:rPr>
              <a:t>Number of SWB at risk with operational monitoringsi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273040" y="1365120"/>
            <a:ext cx="2771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99"/>
                </a:solidFill>
                <a:latin typeface="Arial"/>
              </a:rPr>
              <a:t>=&gt; explain in RBMP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644480" y="5788080"/>
            <a:ext cx="432000" cy="360360"/>
          </a:xfrm>
          <a:prstGeom prst="ellipse">
            <a:avLst/>
          </a:prstGeom>
          <a:noFill/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4000" y="5805360"/>
            <a:ext cx="431640" cy="360360"/>
          </a:xfrm>
          <a:prstGeom prst="ellipse">
            <a:avLst/>
          </a:prstGeom>
          <a:noFill/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732720" y="5805360"/>
            <a:ext cx="431640" cy="360360"/>
          </a:xfrm>
          <a:prstGeom prst="ellipse">
            <a:avLst/>
          </a:prstGeom>
          <a:noFill/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percentage of surveillance monitonigsites with all biological quality elements measur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0" y="1557360"/>
            <a:ext cx="9144000" cy="506880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2124000" y="6219720"/>
            <a:ext cx="432000" cy="360360"/>
          </a:xfrm>
          <a:prstGeom prst="ellipse">
            <a:avLst/>
          </a:prstGeom>
          <a:noFill/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789200" y="6219720"/>
            <a:ext cx="431640" cy="360360"/>
          </a:xfrm>
          <a:prstGeom prst="ellipse">
            <a:avLst/>
          </a:prstGeom>
          <a:noFill/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68360" y="6237360"/>
            <a:ext cx="431640" cy="360360"/>
          </a:xfrm>
          <a:prstGeom prst="ellipse">
            <a:avLst/>
          </a:prstGeom>
          <a:noFill/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732720" y="6237360"/>
            <a:ext cx="431640" cy="360360"/>
          </a:xfrm>
          <a:prstGeom prst="ellipse">
            <a:avLst/>
          </a:prstGeom>
          <a:noFill/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rcRect l="20938" t="21229" r="17239" b="12084"/>
          <a:stretch/>
        </p:blipFill>
        <p:spPr>
          <a:xfrm>
            <a:off x="0" y="404640"/>
            <a:ext cx="9144000" cy="616428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76040" y="765000"/>
            <a:ext cx="560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99"/>
                </a:solidFill>
                <a:latin typeface="Arial"/>
              </a:rPr>
              <a:t>Number of GWB with monitoringsi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979640" y="5788080"/>
            <a:ext cx="431640" cy="360360"/>
          </a:xfrm>
          <a:prstGeom prst="ellipse">
            <a:avLst/>
          </a:prstGeom>
          <a:noFill/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268360" y="5805360"/>
            <a:ext cx="432000" cy="360360"/>
          </a:xfrm>
          <a:prstGeom prst="ellipse">
            <a:avLst/>
          </a:prstGeom>
          <a:noFill/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84360" y="5877000"/>
            <a:ext cx="431640" cy="360360"/>
          </a:xfrm>
          <a:prstGeom prst="ellipse">
            <a:avLst/>
          </a:prstGeom>
          <a:noFill/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877080" y="5805360"/>
            <a:ext cx="431640" cy="360360"/>
          </a:xfrm>
          <a:prstGeom prst="ellipse">
            <a:avLst/>
          </a:prstGeom>
          <a:noFill/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ffff"/>
                </a:solidFill>
                <a:latin typeface="Arial"/>
              </a:rPr>
              <a:t>HMWB-Workshop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rcRect l="16823" t="26459" r="13176" b="8357"/>
          <a:stretch/>
        </p:blipFill>
        <p:spPr>
          <a:xfrm>
            <a:off x="0" y="1197000"/>
            <a:ext cx="9144000" cy="532296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278880" y="2060640"/>
            <a:ext cx="23493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EU 23 % (2005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880920" y="4836960"/>
            <a:ext cx="81378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651640" y="6021360"/>
            <a:ext cx="431640" cy="360360"/>
          </a:xfrm>
          <a:prstGeom prst="ellipse">
            <a:avLst/>
          </a:prstGeom>
          <a:noFill/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268360" y="6021360"/>
            <a:ext cx="432000" cy="360360"/>
          </a:xfrm>
          <a:prstGeom prst="ellipse">
            <a:avLst/>
          </a:prstGeom>
          <a:noFill/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979640" y="6021360"/>
            <a:ext cx="431640" cy="360360"/>
          </a:xfrm>
          <a:prstGeom prst="ellipse">
            <a:avLst/>
          </a:prstGeom>
          <a:noFill/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236000" y="6021360"/>
            <a:ext cx="431640" cy="360360"/>
          </a:xfrm>
          <a:prstGeom prst="ellipse">
            <a:avLst/>
          </a:prstGeom>
          <a:noFill/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rcRect l="17708" t="23624" r="15547" b="7398"/>
          <a:stretch/>
        </p:blipFill>
        <p:spPr>
          <a:xfrm>
            <a:off x="0" y="620640"/>
            <a:ext cx="9144000" cy="590724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3278880" y="2060640"/>
            <a:ext cx="23493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EU 16 % (2008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95320" y="4232160"/>
            <a:ext cx="81374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484360" y="6021360"/>
            <a:ext cx="432000" cy="360360"/>
          </a:xfrm>
          <a:prstGeom prst="ellipse">
            <a:avLst/>
          </a:prstGeom>
          <a:noFill/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124000" y="6021360"/>
            <a:ext cx="432000" cy="360360"/>
          </a:xfrm>
          <a:prstGeom prst="ellipse">
            <a:avLst/>
          </a:prstGeom>
          <a:noFill/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84360" y="6021360"/>
            <a:ext cx="431640" cy="360360"/>
          </a:xfrm>
          <a:prstGeom prst="ellipse">
            <a:avLst/>
          </a:prstGeom>
          <a:noFill/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7T13:00:13Z</dcterms:created>
  <dc:creator>Diening_H</dc:creator>
  <dc:description/>
  <dc:language>en-US</dc:language>
  <cp:lastModifiedBy>Diening_H</cp:lastModifiedBy>
  <dcterms:modified xsi:type="dcterms:W3CDTF">2009-03-19T08:23:04Z</dcterms:modified>
  <cp:revision>20</cp:revision>
  <dc:subject/>
  <dc:title>Arbeitsweise EU-Net</dc:title>
</cp:coreProperties>
</file>