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39F3-40F1-4F4B-B607-C06AE420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931E-66E1-48E6-B2C1-2081E61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8EA9-95B4-4A01-B797-562E3377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9045-C95A-4BC0-B273-2770BB9D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E589-B8BB-49BC-B1AA-FD995818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B91-EA90-4A0D-8294-B829BFE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569-5677-4E05-908F-DD734180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9332-8D02-46FF-B2BC-D6372662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F4FC-37EE-4BF6-A693-6639187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551C-8C7A-4058-B7BB-259C405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938F-4297-4676-977F-C4015D95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9E2F-A323-4E42-ADA6-4141FC0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D4E7-8B08-4827-AA4D-C492037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FCE1-AAEE-48A7-AF4B-7CB1AD6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70F-1518-4190-A1EB-EC3A027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9CA-92AF-49A3-A883-A6891E3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77D1-8EF7-45D3-A34A-3A412D6A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D05F-D9EF-4B1C-AD7D-FBC96EB3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5BF5-E845-4D97-A8A5-F3B60E1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F61E-4D84-49D6-8534-BA3A519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7D37-874F-4047-8127-A30A747C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323F-4B3B-4C08-92F1-D80B895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E8C0-F262-448F-99B5-447128D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E004-11BE-4B55-84CB-2F9E52D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B56-5208-41CA-A375-D0ABC99B84A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536-1304-4D52-82DA-A4C9A55ABC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ggestions 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for the establishment of the River Basin Management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ernational aspect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ich milestones need to be fix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8264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arly fixing of important, common milestones at least 1-2 years ahe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plementing these milestones in national planning proce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cisions: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KSE/ICG WFD, AG WF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dministration / Controlling: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ecretari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 rot="20368200">
            <a:off x="3347640" y="1341000"/>
            <a:ext cx="187344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Wroclaw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Jun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ich milestones need to be fix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ilestones for monitoring are fixed (IK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xing is needed f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ordination of international concerns, guidelines, documents (needed for the establishment of RBMP) (WG/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mpletion of drafts of the member states and data transfer to Wasserblick (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mpletion of the draft of the int. RBMP (WG/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cision of the RMBP-draft and RMBP (on several level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German draft was based on thes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assumption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Discu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general structure of the international river basin management plan (RBMP)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re the international concer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draw up the RBMP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bout the programme of measu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international aspects of  Art. 14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data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ich milestones need to be fix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General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general structure of the international river basin management plan (RBMP)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re the international concer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draw up the RBMP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bout the programme of measu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international aspects of  Art. 14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data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ich milestones need to be fix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How is the general structure of the international RBM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Garamond"/>
              </a:rPr>
              <a:t>According to the decision of the IKSE/MKOL the MS will draw up </a:t>
            </a:r>
            <a:r>
              <a:rPr b="0" lang="en-GB" sz="2800" spc="-1" strike="noStrike" u="sng">
                <a:solidFill>
                  <a:srgbClr val="ffcc00"/>
                </a:solidFill>
                <a:uFillTx/>
                <a:latin typeface="Garamond"/>
              </a:rPr>
              <a:t>one</a:t>
            </a:r>
            <a:r>
              <a:rPr b="0" lang="en-GB" sz="2800" spc="-1" strike="noStrike">
                <a:solidFill>
                  <a:srgbClr val="ffcc00"/>
                </a:solidFill>
                <a:latin typeface="Garamond"/>
              </a:rPr>
              <a:t> common international RBM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ollowing the previous reports the RBMP will be divided in three sections, which together for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pl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rnational level (international concerns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hole river basin district, draw up b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IKSE/MK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tional level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tional part of RBD, draw up b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legally required data (as templates, maps), provided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at are the international concerns?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(A-Part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cerns, whose solu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need to be coordinated on an international level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=&gt; Agenda item: 4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A-proble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int.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cerns, whose specific solutions can be managed on a national/regional level, but who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on the whole have a significant effect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on a large part of the river basin district (e.g. diffuse pressures by agricultural use).</a:t>
            </a:r>
            <a:br>
              <a:rPr sz="2800"/>
            </a:b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B-proble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national solution, int. summ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How to draw up the RBM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chedu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Early fixing of important milestone (Agenda item 5.1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ates for meetings and tasks to be derived from these milestones; lay down responsibil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ucture /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xing of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structure and cont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for the part 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xing of a comm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structure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for part B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ecision, which maps/data templates are inclu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dentification of international conce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Coordination of international concerns / Setting of Guidelines, where necessary (top dow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Regional implementation (bottom up) and data transfer to common data 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ational evaluation, coordination and summary (B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nternational evaluation, coordination and summary (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cision in which languages the parts will be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What about the programme of measures</a:t>
            </a: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Each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Garamond"/>
              </a:rPr>
              <a:t>Member State</a:t>
            </a: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 shall ensure the establishment … of a programme of measures, taking account of the results of the analyses required under Article 5, in order to achieve the objectives established under Article 4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The river basin management plan includes “a summary of the programme or programmes of measures adopted under Article 11, including the ways in which the objectives established under Article 4 are thereby to be achieve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uggestion: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programmes of measur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and its strategic environmental compatibility examin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s draft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It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coordin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about international concerns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is included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nto the process of drawing up the international river basin management pl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844640"/>
            <a:ext cx="3598920" cy="424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 / Program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916280"/>
            <a:ext cx="3456000" cy="1368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BM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8464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BM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35772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Programme of measure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65300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Data ann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280" y="393372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916000" y="2708280"/>
            <a:ext cx="216036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4724280"/>
            <a:ext cx="3456000" cy="136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Data ann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to realise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the international aspects of  Art. 14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erally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are responsible for realising the implementation of Art. 14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ut it will be necessary to include the international concerns adequately in the implementation of Art. 14. This should inclu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 common document for the international timetable and work programme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part of the timetable / work programme of the MS/F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 common document for the interim overview of the significant issues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part of the interim overview of the significant issues of the MS/FS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rnational draft copies of the river basin management plan as base of the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to realise the data management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ex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of part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of the RBMP will hardly include detailed data, but summarized da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Necessa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detailed data will be provided by data templates, which are a part of the RBM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drawing up the RBMP the data will be collected in the system Wasserbl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digital report of the RBMP will be realised using the WISE-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49:08Z</dcterms:created>
  <dc:creator>Administrator</dc:creator>
  <dc:description/>
  <dc:language>en-US</dc:language>
  <cp:lastModifiedBy>Administrator</cp:lastModifiedBy>
  <dcterms:modified xsi:type="dcterms:W3CDTF">2006-01-18T15:50:04Z</dcterms:modified>
  <cp:revision>16</cp:revision>
  <dc:subject/>
  <dc:title>Principles of the </dc:title>
</cp:coreProperties>
</file>