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B0E0-52B3-41A7-BF7A-F7ACAD31B2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328C-8579-4890-97B8-161B094271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ktor 12 zwischen den Klassen und deutlich darüber insgesam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lasse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. Eros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. W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ost-Eff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t/ha*a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kgP)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%)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€/kgP)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&lt;0.06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62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1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0.06-0.086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51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,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7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I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0.086-0.2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1024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,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V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(&gt;0.25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540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,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tal/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-36.787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73,7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wendige Fläche auf der die Maßnahme konservierende Bodenbearbeitung durchgeführt werden mussund damit einhergehende Kosten, um die Phosphoreinträge in Einzugsgebiet der WE um 50% zu reduzie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glichen wurden die Strategi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siness as usu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.h. jeder Landwirt kann an dem Programm teilnehmen und die Maßnahme findet gleichmäßig verteilt im Einzugsgebiet stat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lächenschar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.h. Konzentration auf Flächen der Kategorie IV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sparpotential ist zur Basis Business as us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schlussgrad in Bilanzgebiet 6 (Gera):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wischfruchtanbau schwierig durchzusetzen, weil er nicht in die örtlich üblichen Fruchtfolgen hineinpasst und auch nicht viel bring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ksamkeit der Uferrandstreifen ist ok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nahmemengen durch chemische Industrie in Böhlen und Kraftwerk Lippendorf erheblich. Grundwasserentnahme wirkungsvoller als Oberflächenentnahme, denn letzter ist auch mit Entnahme von P und N verbu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na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ßnahme teilbar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.h. stückweise lineare Kosten-Wirksamkeits-Rel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wird nur ein  Reduktionsziel betrach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3CBF-941E-413A-BE2D-15109ABC0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E3B0-5B62-4E29-945E-E5E70FEE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F72A-99D4-4C2D-93DE-9D39BCC1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0F57-47E0-416A-8F01-D3242C1A1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4315-26EB-42A1-BBB8-5C56DC41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9188-ADED-4779-B026-212C1542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ABA3-28D4-4C04-B39C-1F0FC0F5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3642-7F89-445C-A4F0-3D122C19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9600" y="-360"/>
            <a:ext cx="6804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0341-9B2A-4786-A1EC-DB9BFDF0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A83C6-3A15-44B5-8E70-D1FCEB3C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FB02-AB00-4FB6-B16A-E2C8FF50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A813-82D3-4133-AB96-B0183D94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8640"/>
            <a:ext cx="9144000" cy="58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-261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3656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7400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32560" y="6489720"/>
            <a:ext cx="1597320" cy="225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85720" y="6400800"/>
            <a:ext cx="261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UFZ-Umweltforschungszen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Leipzig-Halle Gmb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in der Helmholtz-Gemeinsch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8280" y="637236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674200" y="473040"/>
            <a:ext cx="469800" cy="469800"/>
          </a:xfrm>
          <a:prstGeom prst="rect">
            <a:avLst/>
          </a:prstGeom>
          <a:solidFill>
            <a:srgbClr val="2a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205840" y="4680"/>
            <a:ext cx="469800" cy="470160"/>
          </a:xfrm>
          <a:prstGeom prst="rect">
            <a:avLst/>
          </a:prstGeom>
          <a:solidFill>
            <a:srgbClr val="d5e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492760" y="114480"/>
            <a:ext cx="6764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E597-2722-491A-BCC5-8F2A4C303A8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2a7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041640" y="455760"/>
            <a:ext cx="3100320" cy="5833440"/>
            <a:chOff x="3041640" y="455760"/>
            <a:chExt cx="3100320" cy="5833440"/>
          </a:xfrm>
        </p:grpSpPr>
        <p:grpSp>
          <p:nvGrpSpPr>
            <p:cNvPr id="56" name=""/>
            <p:cNvGrpSpPr/>
            <p:nvPr/>
          </p:nvGrpSpPr>
          <p:grpSpPr>
            <a:xfrm>
              <a:off x="3041640" y="455760"/>
              <a:ext cx="2857320" cy="5812920"/>
              <a:chOff x="3041640" y="455760"/>
              <a:chExt cx="2857320" cy="58129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3041640" y="455760"/>
                <a:ext cx="2857320" cy="5812920"/>
                <a:chOff x="3041640" y="455760"/>
                <a:chExt cx="2857320" cy="581292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1"/>
                <a:srcRect l="5670" t="4008" r="25534" b="0"/>
                <a:stretch/>
              </p:blipFill>
              <p:spPr>
                <a:xfrm>
                  <a:off x="3041640" y="472320"/>
                  <a:ext cx="2857320" cy="579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4262400" y="455760"/>
                  <a:ext cx="92520" cy="28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4341960" y="665280"/>
                <a:ext cx="43200" cy="7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106440" y="457200"/>
              <a:ext cx="3035520" cy="5832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38120" y="981000"/>
            <a:ext cx="82296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a7e28"/>
                </a:solidFill>
                <a:latin typeface="Tahoma"/>
              </a:rPr>
              <a:t>BMBF-Projekt (März 2002-Oktober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a7e28"/>
                </a:solidFill>
                <a:latin typeface="Tahoma"/>
              </a:rPr>
              <a:t>Die Auswahl von Maßnahmen</a:t>
            </a:r>
            <a:br>
              <a:rPr sz="2800"/>
            </a:br>
            <a:r>
              <a:rPr b="1" lang="de-DE" sz="2800" spc="-1" strike="noStrike">
                <a:solidFill>
                  <a:srgbClr val="2a7e28"/>
                </a:solidFill>
                <a:latin typeface="Tahoma"/>
              </a:rPr>
              <a:t>nach EG-Wasserrahmenrichtlinie</a:t>
            </a:r>
            <a:r>
              <a:rPr b="1" lang="de-DE" sz="2400" spc="-1" strike="noStrike">
                <a:solidFill>
                  <a:srgbClr val="2a7e2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a7e28"/>
                </a:solidFill>
                <a:latin typeface="Tahoma"/>
              </a:rPr>
              <a:t>Verfahrensentwicklung am Beispiel der Nährstoffbelastungen im Einzugsgebiet der Weißen El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7e28"/>
                </a:solidFill>
                <a:latin typeface="Tahoma"/>
              </a:rPr>
              <a:t>Bernd Kla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a7e28"/>
                </a:solidFill>
                <a:latin typeface="Tahoma"/>
              </a:rPr>
              <a:t>Department für Ök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87880" y="0"/>
            <a:ext cx="21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f5f5f"/>
                </a:solidFill>
                <a:latin typeface="Arial"/>
              </a:rPr>
              <a:t>18. Januar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77920" y="5097600"/>
            <a:ext cx="65469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e kann Kosteneffizienz bei der Maßnahmenauswahl berücksichtigt werd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s ist grenzüberschreitend abzustimm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3. Phase: Vergleich von Maßnahmebündeln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280" y="1027080"/>
            <a:ext cx="7845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sgangspunkt: Wirkungsmatrix der Maßnahmenbünd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74680" y="2216160"/>
            <a:ext cx="1311120" cy="10033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6920" y="1625760"/>
          <a:ext cx="8583480" cy="3814560"/>
        </p:xfrm>
        <a:graphic>
          <a:graphicData uri="http://schemas.openxmlformats.org/drawingml/2006/table">
            <a:tbl>
              <a:tblPr/>
              <a:tblGrid>
                <a:gridCol w="1488960"/>
                <a:gridCol w="914400"/>
                <a:gridCol w="947880"/>
                <a:gridCol w="847800"/>
                <a:gridCol w="1188720"/>
                <a:gridCol w="1070280"/>
                <a:gridCol w="1056960"/>
                <a:gridCol w="1068480"/>
              </a:tblGrid>
              <a:tr h="57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ßnahmen-bün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rkungen auf „guten Zustand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t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itere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rkungen, z.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setz-barke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icher-he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-Frac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-Frac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€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rtschaft/ Gesellschaft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Einschät-zun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 und Landschaft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Einschät-zun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setz-barkeit/</a:t>
                      </a:r>
                      <a:br>
                        <a:rPr sz="1400"/>
                      </a:b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zepta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Einschät-zun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icher. der Ziel-ereich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Einschät-zun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ktionsz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de-DE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Wirkungsmatrix der Einzelmaßnahmen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30080" y="1347840"/>
          <a:ext cx="7961400" cy="4527360"/>
        </p:xfrm>
        <a:graphic>
          <a:graphicData uri="http://schemas.openxmlformats.org/drawingml/2006/table">
            <a:tbl>
              <a:tblPr/>
              <a:tblGrid>
                <a:gridCol w="2254320"/>
                <a:gridCol w="960480"/>
                <a:gridCol w="811440"/>
                <a:gridCol w="1179360"/>
                <a:gridCol w="1326960"/>
                <a:gridCol w="142884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zelmaßnah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rkungen auf „guten Zustand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t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ten-wirksamkeit bzgl. P-Redu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setzbarke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-Frac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/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-Frac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/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io. €/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o. €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setzbarkeit/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zepta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Einschätzun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ktionsz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besserung der Ausbaustu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ögl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% ökologischer Land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tioni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vierende Bodenbearbeit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d teilw. bereits praktizi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turier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tioni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. Reduktions-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2880" y="828720"/>
            <a:ext cx="7845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eispiel: Bilanzgebiet 6 (Gera)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Zusammenfassung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7520" y="953640"/>
            <a:ext cx="84423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0">
              <a:spcBef>
                <a:spcPts val="451"/>
              </a:spcBef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680" indent="-39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ntkopplung der Entscheidungsprobleme (von Staaten, Bundesländern, Bilanzräumen, Wasserkörpern) ist möglich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63440" indent="-259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er evtl. werden Einsparpotentiale vergebe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3680" indent="-39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as Design der Maßnahmen ist wichtig für ihre Effizienz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680" indent="-39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Kosteneffizienz genügt als alleiniges Auswahlkriterium nich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680" indent="-399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Weitere Aufgabe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er Ansatz muss zu einem praktikablen Ablaufschema weiterentwickelt we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63440" indent="0">
              <a:spcBef>
                <a:spcPts val="799"/>
              </a:spcBef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Neben Kosten-Wirksamkeitsanalyse und multikriterieller Analyse muss das Schema unter anderem enthalte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63440" indent="-259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rüfung von Ausnahmetatbestände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63440" indent="-259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ie wird in Ausnahmefällen vorgegangen: Wie werden Maßnahmen ausgewähl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320" y="76320"/>
            <a:ext cx="7427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rgebnisse der Erstbewertung der  Oberflächenwasserkörper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30542" t="3808" r="5901" b="0"/>
          <a:stretch/>
        </p:blipFill>
        <p:spPr>
          <a:xfrm>
            <a:off x="5635800" y="620640"/>
            <a:ext cx="2528640" cy="5580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3880" y="1550880"/>
            <a:ext cx="450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reichung des Ziels guter ökologischer und chemischer Zu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hrschein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k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wahrschein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7320" y="2362320"/>
            <a:ext cx="393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7320" y="2679840"/>
            <a:ext cx="393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7320" y="2997360"/>
            <a:ext cx="393840" cy="0"/>
          </a:xfrm>
          <a:prstGeom prst="line">
            <a:avLst/>
          </a:prstGeom>
          <a:ln w="28440">
            <a:solidFill>
              <a:srgbClr val="fc2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8680" y="3541680"/>
            <a:ext cx="45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fgab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swahl der kosteneffizienteste Kombination von Maßnahmen um den guten Zustand zu erreich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steneffizienz bedeutet: Es ist die Maßnahme auszuwählen, die den guten Zustand mit den geringsten Kosten realis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9240" y="-360"/>
            <a:ext cx="71247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eilaufgabe: Räumliche Zielkonkretisierung 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5720" y="1541160"/>
            <a:ext cx="52830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satz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ilanzraumbezogene Reduktionsziel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633240" y="2287440"/>
            <a:ext cx="3641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hlende Bilanzierbarkeit vieler Wasserkör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1160" indent="-113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. 40 Gütemess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1160" indent="-113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7 Oberflächenwasserkö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33927" t="3117" r="33562" b="2844"/>
          <a:stretch/>
        </p:blipFill>
        <p:spPr>
          <a:xfrm>
            <a:off x="5578560" y="644400"/>
            <a:ext cx="2660400" cy="5573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36480" y="3683160"/>
            <a:ext cx="3654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usweisung von Bilanzgebie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ruppierung der Oberflächenwasser-körper n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520" indent="-82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Lage der Gütemess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520" indent="-82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ydr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3960" y="871560"/>
            <a:ext cx="52945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ilanzgebiete als Konzept zur Entkopplung der Entscheidungsprobl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600" indent="-2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Festlegung eines individuellen Reduktionsziel für jedes Bilanzgebi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600" indent="-2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ilanzgebiet A ist Oberlieger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aher Erreichung des Reduktionsziels unabhängig von den Unterliegern mögli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600" indent="-2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ilanzgebiet B nimmt man an: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uter Zustand im oberliegenden Bilanzgebiet A bereit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uswahl der Maßnahmen für jedes Bilanzgebiet unabhängig von den ander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ilanzgebi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Vorgehen auch möglich zur Entkopplung der Entscheidungen von Staaten und Bundesländern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bstimmungsbedarf bei Ausnahmetatbestä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nnahme: keine Zielübererfüllung in den oberliegenden Bilanzgeb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10880"/>
            <a:ext cx="7947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Vorgehen bei der räumliche Zielkonkretisierung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934240" y="5468760"/>
            <a:ext cx="2326680" cy="459000"/>
            <a:chOff x="5934240" y="5468760"/>
            <a:chExt cx="2326680" cy="459000"/>
          </a:xfrm>
        </p:grpSpPr>
        <p:sp>
          <p:nvSpPr>
            <p:cNvPr id="80" name=""/>
            <p:cNvSpPr/>
            <p:nvPr/>
          </p:nvSpPr>
          <p:spPr>
            <a:xfrm>
              <a:off x="5934240" y="5681520"/>
              <a:ext cx="206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00800" y="5468760"/>
              <a:ext cx="1860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ütemessstel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835600" y="5037120"/>
            <a:ext cx="2662200" cy="462600"/>
            <a:chOff x="5835600" y="5037120"/>
            <a:chExt cx="2662200" cy="462600"/>
          </a:xfrm>
        </p:grpSpPr>
        <p:sp>
          <p:nvSpPr>
            <p:cNvPr id="83" name=""/>
            <p:cNvSpPr/>
            <p:nvPr/>
          </p:nvSpPr>
          <p:spPr>
            <a:xfrm>
              <a:off x="6761160" y="5037120"/>
              <a:ext cx="1736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lanzgebi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35600" y="5162400"/>
              <a:ext cx="89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, B,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118200" y="1301760"/>
            <a:ext cx="1784160" cy="3600000"/>
            <a:chOff x="6118200" y="1301760"/>
            <a:chExt cx="1784160" cy="3600000"/>
          </a:xfrm>
        </p:grpSpPr>
        <p:sp>
          <p:nvSpPr>
            <p:cNvPr id="86" name=""/>
            <p:cNvSpPr/>
            <p:nvPr/>
          </p:nvSpPr>
          <p:spPr>
            <a:xfrm>
              <a:off x="6118200" y="3462120"/>
              <a:ext cx="1784160" cy="1079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18200" y="2381040"/>
              <a:ext cx="1784160" cy="1079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18200" y="1301760"/>
              <a:ext cx="1784160" cy="1079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0120" y="1422360"/>
              <a:ext cx="693360" cy="3479400"/>
            </a:xfrm>
            <a:custGeom>
              <a:avLst/>
              <a:gdLst/>
              <a:ahLst/>
              <a:rect l="l" t="t" r="r" b="b"/>
              <a:pathLst>
                <a:path w="462" h="2677">
                  <a:moveTo>
                    <a:pt x="333" y="0"/>
                  </a:moveTo>
                  <a:cubicBezTo>
                    <a:pt x="166" y="287"/>
                    <a:pt x="0" y="575"/>
                    <a:pt x="15" y="908"/>
                  </a:cubicBezTo>
                  <a:cubicBezTo>
                    <a:pt x="30" y="1241"/>
                    <a:pt x="386" y="1701"/>
                    <a:pt x="424" y="1996"/>
                  </a:cubicBezTo>
                  <a:cubicBezTo>
                    <a:pt x="462" y="2291"/>
                    <a:pt x="352" y="2484"/>
                    <a:pt x="242" y="2677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47440" y="148104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91640" y="256212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3640" y="364140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4320" y="2141280"/>
              <a:ext cx="2048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57720" y="3162240"/>
              <a:ext cx="206280" cy="18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99000" y="4302000"/>
              <a:ext cx="206280" cy="182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91920" y="413352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88280" y="1877760"/>
              <a:ext cx="61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38040" y="298116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9280" y="1409760"/>
            <a:ext cx="3919680" cy="1790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9600" y="33480"/>
            <a:ext cx="86328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osteneffektivität: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eispiel Konservierende Bodenbearbeitung</a:t>
            </a: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19720" y="776160"/>
            <a:ext cx="3824280" cy="5472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105760" y="4319640"/>
            <a:ext cx="86364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k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921800" y="4591080"/>
            <a:ext cx="550440" cy="896400"/>
            <a:chOff x="7921800" y="4591080"/>
            <a:chExt cx="550440" cy="896400"/>
          </a:xfrm>
        </p:grpSpPr>
        <p:sp>
          <p:nvSpPr>
            <p:cNvPr id="104" name=""/>
            <p:cNvSpPr/>
            <p:nvPr/>
          </p:nvSpPr>
          <p:spPr>
            <a:xfrm>
              <a:off x="8049240" y="4591080"/>
              <a:ext cx="27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12880" y="4822920"/>
              <a:ext cx="45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1800" y="4992480"/>
              <a:ext cx="45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21800" y="5211000"/>
              <a:ext cx="55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00" y="4719600"/>
            <a:ext cx="4279680" cy="142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828720"/>
            <a:ext cx="49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teilung der Flächen in Klassen nach Eignung für konservierende Boden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800" y="3147840"/>
            <a:ext cx="555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eich von Strategi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nzentration auf Flächen der Kategorie IV (flächenschar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s. gleichmäßige Verteil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rforderlich ist um Phosphoreinträge in Einzugsgebiet der Weißen Elster um 50% zu reduzie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03520" y="1465200"/>
            <a:ext cx="947880" cy="165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Unser Ansatz zur Maßnahmenauswahl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7520" y="953640"/>
            <a:ext cx="84423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liederung des Auswahlprozesses in 3 Phasen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6480" indent="-37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Ph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dentifizierung und/oder Entwicklung von (einzelnen) Maßnahm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51560" indent="-241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rauswahl von aussichtsreichen Maßnah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6480" indent="-37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Ph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ildung mehrerer Maßnahmekombinationen aus Einzelmaßnahm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51560" indent="-241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ßnahmekombination soll guten Zustand erreiche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51560" indent="-241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steneffizienz hier wichtiges Kriteri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51560" indent="-241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nige aussichtsreiche Kombinationen identifizier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6480" indent="-37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Phas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ergleich der Maßnahmenkombination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51560" indent="-241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rücksichtung weiterer Auswahlkriterien wie z.B. Umsetzbarke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51560" indent="-241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gf. Verwendung einer multikriteriellen Analy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51560" indent="-2412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ztentscheidung durch den Entscheidungsträg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131320" y="0"/>
            <a:ext cx="101268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55800"/>
            <a:ext cx="811548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Tahoma"/>
              </a:rPr>
              <a:t>1. Phase: Maßnahmenvorauswahl 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442800"/>
          <a:ext cx="9144000" cy="6415200"/>
        </p:xfrm>
        <a:graphic>
          <a:graphicData uri="http://schemas.openxmlformats.org/drawingml/2006/table">
            <a:tbl>
              <a:tblPr/>
              <a:tblGrid>
                <a:gridCol w="781200"/>
                <a:gridCol w="1197000"/>
                <a:gridCol w="1928520"/>
                <a:gridCol w="2482920"/>
                <a:gridCol w="2754360"/>
              </a:tblGrid>
              <a:tr h="428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lastun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mweltbezogene Maßnah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kteursbezogene Maßnahmen (Beispie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unk-tue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mmunale Kläranla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besserung Ausbaustu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besserung der Reinigungs-leistung bei Größenklassen I-III über die gesetzlichen Grenzen hina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passung techn. Standards + Förder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rhöhung Regen-entlastungskapazität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usbau von Regenrückhaltbauwer-ken (bei Mischwasserkanalis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vate Abwas-sereinleitun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us-)Bau dezentraler Kläranla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ff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ndwirtschaft-liche Flächennutz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zierung der N-Düng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teil ökologischer Landba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minderung des Qualitätsweizenantei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mstellung von konventionellen auf integrierte Fruchtfol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örderprogramm ökologischer Landba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passung gute fachliche Prax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passung Agrarumwelt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inführung Düngerabgab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ischenfruchtanba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örderprogra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nservierende Bodenbearbeit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ächendeck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passung Agrarumweltprogram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minderter Viehbesat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äm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ächenumwidmung / Dauerbrac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zentualer Anteil entsprechend RAUMIS-Szenario; flächenkonkr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illlegungspräm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ferrandstreif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 m Breite; hot spo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passung Agrarumweltprogramme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ächenkau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pho-logis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eh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ückba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le Weh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wässerentwicklungsplan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ächenkau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ücknahme von Wasserecht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wässer-ausba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naturier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.B. Umsetzung Fließgewässer-programm Sachsen-Anha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tnah-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us Ober-flächengewä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änderung der Entnahmemen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Änderung bzw. Versagung der wasserrechtlichen Genehmig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us Grund-wass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änderung der Entnahmemen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032360" y="1112760"/>
            <a:ext cx="3857400" cy="363600"/>
          </a:xfrm>
          <a:prstGeom prst="wedgeRectCallout">
            <a:avLst>
              <a:gd name="adj1" fmla="val -64277"/>
              <a:gd name="adj2" fmla="val 11812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fordert Einzelfallbetrach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92640" y="4413240"/>
            <a:ext cx="4132080" cy="363600"/>
          </a:xfrm>
          <a:prstGeom prst="wedgeRectCallout">
            <a:avLst>
              <a:gd name="adj1" fmla="val -75625"/>
              <a:gd name="adj2" fmla="val 1299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usgewählten Standorten getes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320" y="4572000"/>
            <a:ext cx="1919160" cy="617400"/>
          </a:xfrm>
          <a:prstGeom prst="wedgeRectCallout">
            <a:avLst>
              <a:gd name="adj1" fmla="val 55708"/>
              <a:gd name="adj2" fmla="val -3894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setzbarkeit fra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8640" y="5397480"/>
            <a:ext cx="2500200" cy="363600"/>
          </a:xfrm>
          <a:prstGeom prst="wedgeRectCallout">
            <a:avLst>
              <a:gd name="adj1" fmla="val -86634"/>
              <a:gd name="adj2" fmla="val -4650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e Wirksam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5560" y="3236760"/>
            <a:ext cx="2173320" cy="617760"/>
          </a:xfrm>
          <a:prstGeom prst="wedgeRectCallout">
            <a:avLst>
              <a:gd name="adj1" fmla="val -81847"/>
              <a:gd name="adj2" fmla="val 11452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gt bereits auf niedrigem 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62320" y="6110280"/>
            <a:ext cx="3624480" cy="601560"/>
          </a:xfrm>
          <a:prstGeom prst="wedgeRectCallout">
            <a:avLst>
              <a:gd name="adj1" fmla="val -69185"/>
              <a:gd name="adj2" fmla="val 14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elastische Wassernachfrage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Umsetzbarkeit schwie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05360" y="1836720"/>
            <a:ext cx="3063600" cy="615960"/>
          </a:xfrm>
          <a:prstGeom prst="wedgeRectCallout">
            <a:avLst>
              <a:gd name="adj1" fmla="val -70518"/>
              <a:gd name="adj2" fmla="val -463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gänzende Maßnahme wo geringer Anschluss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320" y="3090960"/>
            <a:ext cx="1904760" cy="936360"/>
          </a:xfrm>
          <a:prstGeom prst="wedgeRectCallout">
            <a:avLst>
              <a:gd name="adj1" fmla="val 57416"/>
              <a:gd name="adj2" fmla="val -389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e Wirksamkeit + Umsetzbar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2. Phase: Bildung von Maßnahmekombinationen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280" y="812880"/>
            <a:ext cx="7845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sgangspunkt: Wirkungsmatrix der Einzelmaßnahme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bezogen auf ein Bilanzgebiet)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6920" y="1625760"/>
          <a:ext cx="8583480" cy="3814560"/>
        </p:xfrm>
        <a:graphic>
          <a:graphicData uri="http://schemas.openxmlformats.org/drawingml/2006/table">
            <a:tbl>
              <a:tblPr/>
              <a:tblGrid>
                <a:gridCol w="1488960"/>
                <a:gridCol w="914400"/>
                <a:gridCol w="947880"/>
                <a:gridCol w="847800"/>
                <a:gridCol w="1188720"/>
                <a:gridCol w="1070280"/>
                <a:gridCol w="1056960"/>
                <a:gridCol w="1068480"/>
              </a:tblGrid>
              <a:tr h="57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zelmaß-nah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rkungen auf „guten Zustand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t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itere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rkungen, z.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setz-barke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icher-he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-Frac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-Frac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€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rtschaft/ Gesellschaft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Einschät-zun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 und Landschaft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Einschät-zun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setz-barkeit/</a:t>
                      </a:r>
                      <a:br>
                        <a:rPr sz="1400"/>
                      </a:b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zepta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Einschät-zun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icher. der Ziel-ereich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Einschät-zun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ktionsz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eispiel für Bündelung nach Baukastenprinzip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50840" y="5222880"/>
            <a:ext cx="17701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duktions-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zi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19000" y="1352520"/>
          <a:ext cx="5830920" cy="1819440"/>
        </p:xfrm>
        <a:graphic>
          <a:graphicData uri="http://schemas.openxmlformats.org/drawingml/2006/table">
            <a:tbl>
              <a:tblPr/>
              <a:tblGrid>
                <a:gridCol w="1035360"/>
                <a:gridCol w="2120760"/>
                <a:gridCol w="2089080"/>
                <a:gridCol w="585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ßnah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teneffektivität [€/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ktionspotential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51000" y="866880"/>
            <a:ext cx="8793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Ziel: Reduktion einer Schadstofffrachten von 2500 t auf 2100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57360" y="3517920"/>
          <a:ext cx="4281480" cy="295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3517920"/>
                    <a:ext cx="428148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V="1">
            <a:off x="1351080" y="5556240"/>
            <a:ext cx="36590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3701880"/>
            <a:ext cx="34164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ese Idee wird verwendet, um verschiedene Maßnahmenkombinationen zu bil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5:49:29Z</dcterms:created>
  <dc:creator>.</dc:creator>
  <dc:description/>
  <dc:language>en-US</dc:language>
  <cp:lastModifiedBy>Administrator</cp:lastModifiedBy>
  <dcterms:modified xsi:type="dcterms:W3CDTF">2006-01-23T12:25:59Z</dcterms:modified>
  <cp:revision>64</cp:revision>
  <dc:subject/>
  <dc:title>Folie 1</dc:title>
</cp:coreProperties>
</file>