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EB44-8EBC-42F9-B3C4-4DD0DD0DB25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2C7C-0CE3-4B79-8733-721471C8986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F78A-8379-4F9B-B9FD-C2179923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3D08-A5A8-418D-87C4-BB45D742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9C1-EFA0-4ADD-9D14-7FD7BA73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9DF4-170E-4129-8A22-C3CD3F35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9ECD-DDE0-4B6A-8285-185F8077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CBDD-741B-46D1-BB1E-DC9659C3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F33-6A1F-4D72-A533-5E7F2AC4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DA6-8206-40EF-8D6F-4943FA9E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9AA-1121-4ECB-B9E0-D17D18AA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EFEB-3D05-4DA9-8541-67A15E35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64E6-D407-4D1D-8EC2-632ABD1C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3FF0-AA5C-47D4-9E36-F6DE292D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8AEA-DF04-4BFC-AF2A-F8045F2858F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odra_head_logo"/>
          <p:cNvPicPr/>
          <p:nvPr/>
        </p:nvPicPr>
        <p:blipFill>
          <a:blip r:embed="rId1"/>
          <a:stretch/>
        </p:blipFill>
        <p:spPr>
          <a:xfrm>
            <a:off x="0" y="0"/>
            <a:ext cx="9144000" cy="2000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85480" y="2571840"/>
            <a:ext cx="83185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95d0"/>
                </a:solidFill>
                <a:latin typeface="Arial"/>
              </a:rPr>
              <a:t>OPŽP – osa č. 4.2. a její využi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95d0"/>
                </a:solidFill>
                <a:latin typeface="Arial"/>
              </a:rPr>
              <a:t>v podmínkách Povodí Ohře, státní pod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56db3"/>
                </a:solidFill>
                <a:latin typeface="Arial"/>
              </a:rPr>
              <a:t>Operationsprogramm Umwelt – Achse 4.2 und ihr Einsatz in den Bedingungen des staatlichen Wasserwirtschaftsbetriebs für die Eger </a:t>
            </a:r>
            <a:br>
              <a:rPr sz="2800"/>
            </a:br>
            <a:r>
              <a:rPr b="1" lang="cs-CZ" sz="2800" spc="-1" strike="noStrike">
                <a:solidFill>
                  <a:srgbClr val="056db3"/>
                </a:solidFill>
                <a:latin typeface="Arial"/>
              </a:rPr>
              <a:t> – Povodí Oh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line_short"/>
          <p:cNvPicPr/>
          <p:nvPr/>
        </p:nvPicPr>
        <p:blipFill>
          <a:blip r:embed="rId2"/>
          <a:stretch/>
        </p:blipFill>
        <p:spPr>
          <a:xfrm>
            <a:off x="0" y="2179800"/>
            <a:ext cx="5400720" cy="106200"/>
          </a:xfrm>
          <a:prstGeom prst="rect">
            <a:avLst/>
          </a:prstGeom>
          <a:ln w="0">
            <a:noFill/>
          </a:ln>
        </p:spPr>
      </p:pic>
      <p:sp>
        <p:nvSpPr>
          <p:cNvPr id="51" name="Textfeld 6"/>
          <p:cNvSpPr/>
          <p:nvPr/>
        </p:nvSpPr>
        <p:spPr>
          <a:xfrm>
            <a:off x="142920" y="5929200"/>
            <a:ext cx="8786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95d0"/>
                </a:solidFill>
                <a:latin typeface="Arial"/>
              </a:rPr>
              <a:t>Příloha </a:t>
            </a:r>
            <a:r>
              <a:rPr b="1" i="1" lang="cs-CZ" sz="1400" spc="-1" strike="noStrike">
                <a:solidFill>
                  <a:srgbClr val="0095d0"/>
                </a:solidFill>
                <a:latin typeface="Arial"/>
              </a:rPr>
              <a:t>5</a:t>
            </a:r>
            <a:r>
              <a:rPr b="1" i="1" lang="de-DE" sz="1400" spc="-1" strike="noStrike">
                <a:solidFill>
                  <a:srgbClr val="0095d0"/>
                </a:solidFill>
                <a:latin typeface="Arial"/>
              </a:rPr>
              <a:t> k záznamu výsledků 6. porady ad-hoc skupiny expertů Management Sedimentů MK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52d9d"/>
                </a:solidFill>
                <a:latin typeface="Arial"/>
              </a:rPr>
              <a:t>Anlage </a:t>
            </a:r>
            <a:r>
              <a:rPr b="1" i="1" lang="cs-CZ" sz="1400" spc="-1" strike="noStrike">
                <a:solidFill>
                  <a:srgbClr val="052d9d"/>
                </a:solidFill>
                <a:latin typeface="Arial"/>
              </a:rPr>
              <a:t>5</a:t>
            </a:r>
            <a:r>
              <a:rPr b="1" i="1" lang="de-DE" sz="1400" spc="-1" strike="noStrike">
                <a:solidFill>
                  <a:srgbClr val="052d9d"/>
                </a:solidFill>
                <a:latin typeface="Arial"/>
              </a:rPr>
              <a:t> zum Ergebnisvermerk der 6. Beratung der Ad-hoc-EG „Sedimentmanagement“ der IK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waves_a4_back-down2"/>
          <p:cNvPicPr/>
          <p:nvPr/>
        </p:nvPicPr>
        <p:blipFill>
          <a:blip r:embed="rId1"/>
          <a:stretch/>
        </p:blipFill>
        <p:spPr>
          <a:xfrm>
            <a:off x="-214200" y="2233440"/>
            <a:ext cx="9144000" cy="4624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draw"/>
          <p:cNvPicPr/>
          <p:nvPr/>
        </p:nvPicPr>
        <p:blipFill>
          <a:blip r:embed="rId2"/>
          <a:stretch/>
        </p:blipFill>
        <p:spPr>
          <a:xfrm>
            <a:off x="442800" y="2565360"/>
            <a:ext cx="128880" cy="4292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5341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86769"/>
                </a:solidFill>
                <a:latin typeface="Arial"/>
              </a:rPr>
              <a:t>Odstranění antropogenního znečištění říčních sedimentů v rámci sanace Bouřlivého potoka a Bíliny – Průzkum a analýza rizika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Beseitigung der anthropogenen Belastungen 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im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 Flusssediment 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im Rahmen der Gewässersanierung von Bouřlivý potok und Bílina – Untersuchungen und Risiko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42600" y="2499840"/>
            <a:ext cx="34290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sledky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de-DE" sz="1600" spc="-1" strike="noStrike">
                <a:solidFill>
                  <a:srgbClr val="052d9d"/>
                </a:solidFill>
                <a:latin typeface="Arial"/>
              </a:rPr>
              <a:t>Ergebnisse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line_short"/>
          <p:cNvPicPr/>
          <p:nvPr/>
        </p:nvPicPr>
        <p:blipFill>
          <a:blip r:embed="rId3"/>
          <a:stretch/>
        </p:blipFill>
        <p:spPr>
          <a:xfrm>
            <a:off x="4500720" y="1773360"/>
            <a:ext cx="5400360" cy="1062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428760" y="200016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Průzkum a analýza rizika</a:t>
            </a:r>
            <a:r>
              <a:rPr b="0" lang="de-DE" sz="2200" spc="-1" strike="noStrike">
                <a:solidFill>
                  <a:srgbClr val="056db3"/>
                </a:solidFill>
                <a:latin typeface="Arial"/>
              </a:rPr>
              <a:t> / </a:t>
            </a:r>
            <a:r>
              <a:rPr b="0" lang="de-DE" sz="2200" spc="-1" strike="noStrike">
                <a:solidFill>
                  <a:srgbClr val="052d9d"/>
                </a:solidFill>
                <a:latin typeface="Arial"/>
              </a:rPr>
              <a:t>Untersuchung und Risikoanaly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642960" y="3071880"/>
            <a:ext cx="5072040" cy="36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imárním kontaminantem v území  byl zjištěn dehet pocházející z výrobny generátorového plynu v bývalých sklárnách KAVALIER. V ohnisku kontaminace je tato vrstva dehtu silná až 1,1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rámci zjištěného rizika doporučuje studie zpracování  podrobného sanačního projektu a následnou těžbu sedimentů ze dna to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Als primärer Schadstoff im Untersuchungsgebiet wurde Teer aus der Generatorgas-Anlage in der ehemaligen Glasfabrik KAVALIER festgestellt. Im Kernbereich der Schadstoff</a:t>
            </a:r>
            <a:r>
              <a:rPr b="0" lang="cs-CZ" sz="1400" spc="-1" strike="noStrike">
                <a:solidFill>
                  <a:srgbClr val="052d9d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belastung </a:t>
            </a:r>
            <a:r>
              <a:rPr b="0" lang="cs-CZ" sz="1400" spc="-1" strike="noStrike">
                <a:solidFill>
                  <a:srgbClr val="052d9d"/>
                </a:solidFill>
                <a:latin typeface="Arial"/>
              </a:rPr>
              <a:t> ist</a:t>
            </a: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 die Teerschicht bis 1,1 m</a:t>
            </a:r>
            <a:r>
              <a:rPr b="0" lang="cs-CZ" sz="1400" spc="-1" strike="noStrike">
                <a:solidFill>
                  <a:srgbClr val="052d9d"/>
                </a:solidFill>
                <a:latin typeface="Arial"/>
              </a:rPr>
              <a:t> dick</a:t>
            </a: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Auf Grund des festgestellten Risikos wird in der Studie empfohlen, ein detailliertes Sanierungsprojekt zu erarbeiten und anschließend die Sedimente aus dem Gewässer zu entnehm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S25C-111060309510"/>
          <p:cNvPicPr/>
          <p:nvPr/>
        </p:nvPicPr>
        <p:blipFill>
          <a:blip r:embed="rId4"/>
          <a:stretch/>
        </p:blipFill>
        <p:spPr>
          <a:xfrm>
            <a:off x="5786280" y="2468520"/>
            <a:ext cx="2705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waves_a4_back-down2"/>
          <p:cNvPicPr/>
          <p:nvPr/>
        </p:nvPicPr>
        <p:blipFill>
          <a:blip r:embed="rId1"/>
          <a:stretch/>
        </p:blipFill>
        <p:spPr>
          <a:xfrm>
            <a:off x="0" y="2233440"/>
            <a:ext cx="9144000" cy="462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draw"/>
          <p:cNvPicPr/>
          <p:nvPr/>
        </p:nvPicPr>
        <p:blipFill>
          <a:blip r:embed="rId2"/>
          <a:stretch/>
        </p:blipFill>
        <p:spPr>
          <a:xfrm>
            <a:off x="371520" y="2565360"/>
            <a:ext cx="128520" cy="42926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86058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86769"/>
                </a:solidFill>
                <a:latin typeface="Arial"/>
              </a:rPr>
              <a:t>Odstranění říčních sedimentů v rámci těžby naplavenin a následné revitalizace toku Bíliny – Průzkum a analýza rizika – rok 2009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Entsorgung der Flusssedimente im Rahmen der Baggerungen und anschlie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ßender Renaturierung der Bílina 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– Untersuchungen und Risikoanalyse 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–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71680" y="5571720"/>
            <a:ext cx="810576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686769"/>
                </a:solidFill>
                <a:latin typeface="Arial"/>
              </a:rPr>
              <a:t>V rámci podané žádosti byl předložen prováděcí projekt průzkumu zpracovaný f</a:t>
            </a:r>
            <a:r>
              <a:rPr b="0" lang="de-DE" sz="1600" spc="-1" strike="noStrike">
                <a:solidFill>
                  <a:srgbClr val="686769"/>
                </a:solidFill>
                <a:latin typeface="Arial"/>
              </a:rPr>
              <a:t>irmou</a:t>
            </a:r>
            <a:r>
              <a:rPr b="0" lang="cs-CZ" sz="1600" spc="-1" strike="noStrike">
                <a:solidFill>
                  <a:srgbClr val="686769"/>
                </a:solidFill>
                <a:latin typeface="Arial"/>
              </a:rPr>
              <a:t> Dekonta a.s. Stehelčeves v červnu 2009</a:t>
            </a:r>
            <a:r>
              <a:rPr b="0" lang="de-DE" sz="1600" spc="-1" strike="noStrike">
                <a:solidFill>
                  <a:srgbClr val="68676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Im Rahmen des Förderungsantrags wurde im Juni 2009 ein Projekt für die durchzuführende Untersuchung der Firma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Dekonta a.s. Stehelčeves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 vor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line_short"/>
          <p:cNvPicPr/>
          <p:nvPr/>
        </p:nvPicPr>
        <p:blipFill>
          <a:blip r:embed="rId3"/>
          <a:stretch/>
        </p:blipFill>
        <p:spPr>
          <a:xfrm>
            <a:off x="4500720" y="1773360"/>
            <a:ext cx="5400360" cy="1062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357120" y="206064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Finanční požadavek: </a:t>
            </a:r>
            <a:r>
              <a:rPr b="0" lang="de-DE" sz="2200" spc="-1" strike="noStrike">
                <a:solidFill>
                  <a:srgbClr val="056db3"/>
                </a:solidFill>
                <a:latin typeface="Arial"/>
              </a:rPr>
              <a:t>/ </a:t>
            </a:r>
            <a:r>
              <a:rPr b="0" lang="de-DE" sz="2200" spc="-1" strike="noStrike">
                <a:solidFill>
                  <a:srgbClr val="052d9d"/>
                </a:solidFill>
                <a:latin typeface="Arial"/>
              </a:rPr>
              <a:t>Beantragte Fördersumme:</a:t>
            </a: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 3 089 673 K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S25C-111060310110"/>
          <p:cNvPicPr/>
          <p:nvPr/>
        </p:nvPicPr>
        <p:blipFill>
          <a:blip r:embed="rId4"/>
          <a:stretch/>
        </p:blipFill>
        <p:spPr>
          <a:xfrm>
            <a:off x="5867280" y="2478240"/>
            <a:ext cx="1971720" cy="2879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S25C-111060309541"/>
          <p:cNvPicPr/>
          <p:nvPr/>
        </p:nvPicPr>
        <p:blipFill>
          <a:blip r:embed="rId5"/>
          <a:stretch/>
        </p:blipFill>
        <p:spPr>
          <a:xfrm>
            <a:off x="1403280" y="2565360"/>
            <a:ext cx="418932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waves_a4_back-down2"/>
          <p:cNvPicPr/>
          <p:nvPr/>
        </p:nvPicPr>
        <p:blipFill>
          <a:blip r:embed="rId1"/>
          <a:stretch/>
        </p:blipFill>
        <p:spPr>
          <a:xfrm>
            <a:off x="0" y="2233440"/>
            <a:ext cx="9144000" cy="4624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draw"/>
          <p:cNvPicPr/>
          <p:nvPr/>
        </p:nvPicPr>
        <p:blipFill>
          <a:blip r:embed="rId2"/>
          <a:stretch/>
        </p:blipFill>
        <p:spPr>
          <a:xfrm>
            <a:off x="500040" y="2565360"/>
            <a:ext cx="128520" cy="4292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46288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86769"/>
                </a:solidFill>
                <a:latin typeface="Arial"/>
              </a:rPr>
              <a:t>Odstranění říčních sedimentů v rámci těžby naplavenin a následné revitalizace toku Bíliny – Průzkum a analýza rizika – rok 2009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Entsorgung der Flusssedimente im Rahmen der Baggerungen und anschlie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ßender Renaturierung der Bílina 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– Untersuchungen und Risikoanalyse 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–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13880" y="2643120"/>
            <a:ext cx="7891560" cy="3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dministrace projektu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Projektverwaltung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line_short"/>
          <p:cNvPicPr/>
          <p:nvPr/>
        </p:nvPicPr>
        <p:blipFill>
          <a:blip r:embed="rId3"/>
          <a:stretch/>
        </p:blipFill>
        <p:spPr>
          <a:xfrm>
            <a:off x="4500720" y="1773360"/>
            <a:ext cx="5400360" cy="106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500040" y="2060640"/>
            <a:ext cx="846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Finanční požadavek: </a:t>
            </a:r>
            <a:r>
              <a:rPr b="0" lang="de-DE" sz="2200" spc="-1" strike="noStrike">
                <a:solidFill>
                  <a:srgbClr val="056db3"/>
                </a:solidFill>
                <a:latin typeface="Arial"/>
              </a:rPr>
              <a:t>/ </a:t>
            </a:r>
            <a:r>
              <a:rPr b="0" lang="de-DE" sz="2200" spc="-1" strike="noStrike">
                <a:solidFill>
                  <a:srgbClr val="052d9d"/>
                </a:solidFill>
                <a:latin typeface="Arial"/>
              </a:rPr>
              <a:t>Beantragte Fördersumme:</a:t>
            </a: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 3 089 673 Kč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714240" y="3000240"/>
            <a:ext cx="8143920" cy="34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Č: 09046994 – Odstranění znečištění říčních sedimentů v rámci těžby naplavenin a následné revitalizace toku řeky Bíliny – průzkum a analýza riz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52d9d"/>
                </a:solidFill>
                <a:latin typeface="Arial"/>
              </a:rPr>
              <a:t>ID: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52d9d"/>
                </a:solidFill>
                <a:latin typeface="Arial"/>
              </a:rPr>
              <a:t>09046994 – Entsorgung der Flusssedimente im Rahmen der Baggerungen und anschlie</a:t>
            </a:r>
            <a:r>
              <a:rPr b="1" lang="de-DE" sz="1600" spc="-1" strike="noStrike">
                <a:solidFill>
                  <a:srgbClr val="052d9d"/>
                </a:solidFill>
                <a:latin typeface="Arial"/>
              </a:rPr>
              <a:t>ßender Renaturierung der Bílina </a:t>
            </a:r>
            <a:r>
              <a:rPr b="1" lang="cs-CZ" sz="1600" spc="-1" strike="noStrike">
                <a:solidFill>
                  <a:srgbClr val="052d9d"/>
                </a:solidFill>
                <a:latin typeface="Arial"/>
              </a:rPr>
              <a:t>– Untersuchungen und Risikoanaly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Žádost byla podána dne 29.9.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kceptace žádosti byla doručena dne 30.11.2009 a rozhodnutí o poskytnutí finanční dotace dne 11.5.2010. Následně bylo vypsáno VŘ a podepsána smlouva se zhotovitelem dne 4.10.2010. Akce je nyní v realizaci s termínem ukončení do 07/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Der 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Antrag wurde am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29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.0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9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.200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9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 gestell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Die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Empfangsbestätigu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n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g des Antrags 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wurde am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30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11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.200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9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und d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ie Entscheidung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über die Erteilung der 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Förders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u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mm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e 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am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11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.0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5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.2010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 zugestellt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.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Anschlie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ßend erfolgte das Ausschreibungsverfahren und am 04.10.2010 wurde ein Vertrag mit dem Bearbeiter unterzeichnet. Die Umsetzung der Maßnahme soll bis Juli 2010 abgeschlossen sein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waves_a4_back-down2"/>
          <p:cNvPicPr/>
          <p:nvPr/>
        </p:nvPicPr>
        <p:blipFill>
          <a:blip r:embed="rId1"/>
          <a:stretch/>
        </p:blipFill>
        <p:spPr>
          <a:xfrm>
            <a:off x="0" y="2233440"/>
            <a:ext cx="9144000" cy="4624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draw"/>
          <p:cNvPicPr/>
          <p:nvPr/>
        </p:nvPicPr>
        <p:blipFill>
          <a:blip r:embed="rId2"/>
          <a:stretch/>
        </p:blipFill>
        <p:spPr>
          <a:xfrm>
            <a:off x="500040" y="2565360"/>
            <a:ext cx="128520" cy="4292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5341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86769"/>
                </a:solidFill>
                <a:latin typeface="Arial"/>
              </a:rPr>
              <a:t>Odstranění znečištění říčních sedimentů v rámci těžby naplavenin a následné revitalizace toku řeky Bíliny – Průzkum a analýza rizika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Entsorgung der Flusssedimente im Rahmen der Baggerungen und anschlie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ßender Renaturierung der Bílina 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– Untersuchungen und Risiko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42960" y="5276520"/>
            <a:ext cx="80344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686769"/>
                </a:solidFill>
                <a:latin typeface="Arial"/>
              </a:rPr>
              <a:t>Lokalita se nachází na řece Bílině v úseku ř.</a:t>
            </a:r>
            <a:r>
              <a:rPr b="0" lang="de-DE" sz="1600" spc="-1" strike="noStrike">
                <a:solidFill>
                  <a:srgbClr val="686769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686769"/>
                </a:solidFill>
                <a:latin typeface="Arial"/>
              </a:rPr>
              <a:t>km. 46,54 (jez Chánov) a dále ř.</a:t>
            </a:r>
            <a:r>
              <a:rPr b="0" lang="de-DE" sz="1600" spc="-1" strike="noStrike">
                <a:solidFill>
                  <a:srgbClr val="686769"/>
                </a:solidFill>
                <a:latin typeface="Arial"/>
              </a:rPr>
              <a:t> k</a:t>
            </a:r>
            <a:r>
              <a:rPr b="0" lang="cs-CZ" sz="1600" spc="-1" strike="noStrike">
                <a:solidFill>
                  <a:srgbClr val="686769"/>
                </a:solidFill>
                <a:latin typeface="Arial"/>
              </a:rPr>
              <a:t>m</a:t>
            </a:r>
            <a:r>
              <a:rPr b="0" lang="de-DE" sz="1600" spc="-1" strike="noStrike">
                <a:solidFill>
                  <a:srgbClr val="686769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686769"/>
                </a:solidFill>
                <a:latin typeface="Arial"/>
              </a:rPr>
              <a:t>56,06 (jez Jiřetín).</a:t>
            </a:r>
            <a:r>
              <a:rPr b="0" lang="de-DE" sz="1600" spc="-1" strike="noStrike">
                <a:solidFill>
                  <a:srgbClr val="686769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686769"/>
                </a:solidFill>
                <a:latin typeface="Arial"/>
              </a:rPr>
              <a:t>Řeka Bílina protéká velmi silně průmyslově exponovaným území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Der Standort befindet sich an der Bílina im Flussabschnitt zwischen km 46,54 (Wehr Chánov) und km 56,06 (Wehr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Jiřetín)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. Die Bílina fließt durch ein industriell sehr  stark beanspruchtes Gebi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line_short"/>
          <p:cNvPicPr/>
          <p:nvPr/>
        </p:nvPicPr>
        <p:blipFill>
          <a:blip r:embed="rId3"/>
          <a:stretch/>
        </p:blipFill>
        <p:spPr>
          <a:xfrm>
            <a:off x="4500720" y="1773360"/>
            <a:ext cx="5400360" cy="106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428760" y="206064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56db3"/>
                </a:solidFill>
                <a:latin typeface="Arial"/>
              </a:rPr>
              <a:t>Geografické vymezení území</a:t>
            </a:r>
            <a:r>
              <a:rPr b="0" lang="de-DE" sz="1800" spc="-1" strike="noStrike">
                <a:solidFill>
                  <a:srgbClr val="056db3"/>
                </a:solidFill>
                <a:latin typeface="Arial"/>
              </a:rPr>
              <a:t>: / </a:t>
            </a:r>
            <a:r>
              <a:rPr b="0" lang="de-DE" sz="1800" spc="-1" strike="noStrike">
                <a:solidFill>
                  <a:srgbClr val="052d9d"/>
                </a:solidFill>
                <a:latin typeface="Arial"/>
              </a:rPr>
              <a:t>Untersuchungsgebiet – geographische Übersich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1" descr="screenshoter"/>
          <p:cNvPicPr/>
          <p:nvPr/>
        </p:nvPicPr>
        <p:blipFill>
          <a:blip r:embed="rId4"/>
          <a:stretch/>
        </p:blipFill>
        <p:spPr>
          <a:xfrm>
            <a:off x="2556000" y="2565360"/>
            <a:ext cx="46800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waves_a4_back-down2"/>
          <p:cNvPicPr/>
          <p:nvPr/>
        </p:nvPicPr>
        <p:blipFill>
          <a:blip r:embed="rId1"/>
          <a:stretch/>
        </p:blipFill>
        <p:spPr>
          <a:xfrm>
            <a:off x="0" y="2233440"/>
            <a:ext cx="9144000" cy="4624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draw"/>
          <p:cNvPicPr/>
          <p:nvPr/>
        </p:nvPicPr>
        <p:blipFill>
          <a:blip r:embed="rId2"/>
          <a:stretch/>
        </p:blipFill>
        <p:spPr>
          <a:xfrm>
            <a:off x="500040" y="2565360"/>
            <a:ext cx="128520" cy="42926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5341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86769"/>
                </a:solidFill>
                <a:latin typeface="Arial"/>
              </a:rPr>
              <a:t>Odstranění znečištění říčních sedimentů v rámci těžby naplavenin a následné revitalizace toku řeky Bíliny – Průzkum a analýza rizika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Entsorgung der Flusssedimente im Rahmen der Baggerungen und anschlie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ßender Renaturierung der Bílina 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– Untersuchungen und Risiko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71680" y="5143320"/>
            <a:ext cx="82864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86769"/>
                </a:solidFill>
                <a:latin typeface="Arial"/>
              </a:rPr>
              <a:t>Možnými  primárními zdroji znečištění jsou provozy chemické výroby v areálu České rafinérské a.s. (Unipetrol) a město Most (ČOV). Vzhledem k tomu,</a:t>
            </a:r>
            <a:r>
              <a:rPr b="0" lang="de-DE" sz="1400" spc="-1" strike="noStrike">
                <a:solidFill>
                  <a:srgbClr val="686769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686769"/>
                </a:solidFill>
                <a:latin typeface="Arial"/>
              </a:rPr>
              <a:t> že ve všech vzorcích jsou zvýšené koncentrace těžkých kovů, lze jako primární zdroj označit spalování hnědého uhlí a voda vytékající z výsyp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Zu den möglichen vorrangigen Schadtoffquellen gehören chemische Produktionsanlagen in der Raffinerie </a:t>
            </a:r>
            <a:r>
              <a:rPr b="0" lang="cs-CZ" sz="1400" spc="-1" strike="noStrike">
                <a:solidFill>
                  <a:srgbClr val="052d9d"/>
                </a:solidFill>
                <a:latin typeface="Arial"/>
              </a:rPr>
              <a:t>Česk</a:t>
            </a: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á</a:t>
            </a:r>
            <a:r>
              <a:rPr b="0" lang="cs-CZ" sz="1400" spc="-1" strike="noStrike">
                <a:solidFill>
                  <a:srgbClr val="052d9d"/>
                </a:solidFill>
                <a:latin typeface="Arial"/>
              </a:rPr>
              <a:t> rafinérsk</a:t>
            </a: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á</a:t>
            </a:r>
            <a:r>
              <a:rPr b="0" lang="cs-CZ" sz="1400" spc="-1" strike="noStrike">
                <a:solidFill>
                  <a:srgbClr val="052d9d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a.s. (Unipetrol) sowie die Stadt Most. Da in allen Proben erhöhte Schwermetall-Konzentrationen gemessen werden, können Verbrennung von Braunkohle sowie das Sickerwasser aus den Halden als Hauptursachen der  Schadstoffbelastungen betrachtet werden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line_short"/>
          <p:cNvPicPr/>
          <p:nvPr/>
        </p:nvPicPr>
        <p:blipFill>
          <a:blip r:embed="rId3"/>
          <a:stretch/>
        </p:blipFill>
        <p:spPr>
          <a:xfrm>
            <a:off x="4500720" y="1773360"/>
            <a:ext cx="5400360" cy="106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428760" y="2060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56db3"/>
                </a:solidFill>
                <a:latin typeface="Arial"/>
              </a:rPr>
              <a:t>Kontaminace území:</a:t>
            </a:r>
            <a:r>
              <a:rPr b="0" lang="de-DE" sz="1800" spc="-1" strike="noStrike">
                <a:solidFill>
                  <a:srgbClr val="056db3"/>
                </a:solidFill>
                <a:latin typeface="Arial"/>
              </a:rPr>
              <a:t> / </a:t>
            </a:r>
            <a:r>
              <a:rPr b="0" lang="de-DE" sz="1800" spc="-1" strike="noStrike">
                <a:solidFill>
                  <a:srgbClr val="052d9d"/>
                </a:solidFill>
                <a:latin typeface="Arial"/>
              </a:rPr>
              <a:t>Schadstoffbelastung des Gebi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screenshotercov"/>
          <p:cNvPicPr/>
          <p:nvPr/>
        </p:nvPicPr>
        <p:blipFill>
          <a:blip r:embed="rId4"/>
          <a:stretch/>
        </p:blipFill>
        <p:spPr>
          <a:xfrm>
            <a:off x="684360" y="3000240"/>
            <a:ext cx="3458880" cy="1933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screenshoterrag"/>
          <p:cNvPicPr/>
          <p:nvPr/>
        </p:nvPicPr>
        <p:blipFill>
          <a:blip r:embed="rId5"/>
          <a:stretch/>
        </p:blipFill>
        <p:spPr>
          <a:xfrm>
            <a:off x="6281640" y="2071800"/>
            <a:ext cx="2291040" cy="2881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2033"/>
          <p:cNvPicPr/>
          <p:nvPr/>
        </p:nvPicPr>
        <p:blipFill>
          <a:blip r:embed="rId6"/>
          <a:stretch/>
        </p:blipFill>
        <p:spPr>
          <a:xfrm>
            <a:off x="3754440" y="2695680"/>
            <a:ext cx="260352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waves_a4_back-down2"/>
          <p:cNvPicPr/>
          <p:nvPr/>
        </p:nvPicPr>
        <p:blipFill>
          <a:blip r:embed="rId1"/>
          <a:stretch/>
        </p:blipFill>
        <p:spPr>
          <a:xfrm>
            <a:off x="0" y="2233440"/>
            <a:ext cx="9144000" cy="4624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draw"/>
          <p:cNvPicPr/>
          <p:nvPr/>
        </p:nvPicPr>
        <p:blipFill>
          <a:blip r:embed="rId2"/>
          <a:stretch/>
        </p:blipFill>
        <p:spPr>
          <a:xfrm>
            <a:off x="1042920" y="2565360"/>
            <a:ext cx="128520" cy="4292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640" y="836640"/>
            <a:ext cx="7991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86769"/>
                </a:solidFill>
                <a:latin typeface="Arial"/>
              </a:rPr>
              <a:t>Odstranění znečištění říčních sedimentů v rámci těžby naplavenin a následné revitalizace toku řeky Bíliny – Průzkum a analýza rizika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 Entsorgung der Flusssedimente im Rahmen der Baggerungen und anschlie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ßender Renaturierung der Bílina 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– Untersuchungen und Risiko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7280" y="2852640"/>
            <a:ext cx="7490160" cy="3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sledk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Ergebn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line_short"/>
          <p:cNvPicPr/>
          <p:nvPr/>
        </p:nvPicPr>
        <p:blipFill>
          <a:blip r:embed="rId3"/>
          <a:stretch/>
        </p:blipFill>
        <p:spPr>
          <a:xfrm>
            <a:off x="4500720" y="1773360"/>
            <a:ext cx="5400360" cy="106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"/>
          <p:cNvSpPr/>
          <p:nvPr/>
        </p:nvSpPr>
        <p:spPr>
          <a:xfrm>
            <a:off x="971640" y="206064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Průzkum a analýza rizika</a:t>
            </a:r>
            <a:r>
              <a:rPr b="0" lang="de-DE" sz="2200" spc="-1" strike="noStrike">
                <a:solidFill>
                  <a:srgbClr val="056db3"/>
                </a:solidFill>
                <a:latin typeface="Arial"/>
              </a:rPr>
              <a:t> / </a:t>
            </a:r>
            <a:r>
              <a:rPr b="0" lang="de-DE" sz="2200" spc="-1" strike="noStrike">
                <a:solidFill>
                  <a:srgbClr val="052d9d"/>
                </a:solidFill>
                <a:latin typeface="Arial"/>
              </a:rPr>
              <a:t>Untersuchung und Risikoanaly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1187280" y="3286080"/>
            <a:ext cx="738540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tento okamžik nemáme výsledky k dispozici, protože realizace průzkumu právě probíhá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edpokládáme po skončení průzkumu a analýzy rizika opět požádat o zpracování sanačního projektu s následnou realizací navržených opatře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Zu diesem Zeitpunkt liegen keine Ergebnisse vor, denn die Untersuchungen werden  derzeitig noch durchgefüh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Es wird vorgesehen, nach dem die Untersuchungen sowie die Risikoanalyse abgeschlossen sind, einen Antrag zur Erarbeitung eines Sanierungsprojektes inklusive anschließender Umsetzung der vorgeschlagenen Maßnahmen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waves_a4_back-down2"/>
          <p:cNvPicPr/>
          <p:nvPr/>
        </p:nvPicPr>
        <p:blipFill>
          <a:blip r:embed="rId1"/>
          <a:stretch/>
        </p:blipFill>
        <p:spPr>
          <a:xfrm>
            <a:off x="0" y="2233440"/>
            <a:ext cx="9144000" cy="4624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draw"/>
          <p:cNvPicPr/>
          <p:nvPr/>
        </p:nvPicPr>
        <p:blipFill>
          <a:blip r:embed="rId2"/>
          <a:stretch/>
        </p:blipFill>
        <p:spPr>
          <a:xfrm>
            <a:off x="428760" y="2565360"/>
            <a:ext cx="12852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356760"/>
            <a:ext cx="8605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86769"/>
                </a:solidFill>
                <a:latin typeface="Arial"/>
              </a:rPr>
              <a:t>Kontaminace říčních sedimentů</a:t>
            </a:r>
            <a:br>
              <a:rPr sz="2400"/>
            </a:br>
            <a:r>
              <a:rPr b="0" lang="de-DE" sz="2400" spc="-1" strike="noStrike">
                <a:solidFill>
                  <a:srgbClr val="052d9d"/>
                </a:solidFill>
                <a:latin typeface="Arial"/>
              </a:rPr>
              <a:t>Kontaminierung der Flusssedi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13880" y="2714400"/>
            <a:ext cx="79297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jekty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Projek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ílina – posledních cca 7 km (Koštov  přes Trmice po ústí do Labe) vč. lavic na soutoku. V tomto úseku lze předpokládat kontaminaci z chemického provozu, drážního tělesa a dalších průmyslových podniků.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Bílina – die letzten ca. 7 km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(Koštov  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über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 Trmice 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bis Einmündung in die El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be)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, einschließlich Sandbänke in der Einmündung. In diesem Flussabschnitt sind Belastungen aus einer Chemiefabrik, vom Bahnkörper und weiteren Industrie-betrieben anzunehmen.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ílina – lokali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elvěty – Zde opět předpokládáme kontaminaci pocházející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 chemického provozu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Bílina – Standort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Velvěty 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– Hier werden Belastungen aus einem Chemiebetrieb angenommen.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line_short"/>
          <p:cNvPicPr/>
          <p:nvPr/>
        </p:nvPicPr>
        <p:blipFill>
          <a:blip r:embed="rId3"/>
          <a:stretch/>
        </p:blipFill>
        <p:spPr>
          <a:xfrm>
            <a:off x="4500720" y="1357200"/>
            <a:ext cx="5400360" cy="1065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7"/>
          <p:cNvSpPr/>
          <p:nvPr/>
        </p:nvSpPr>
        <p:spPr>
          <a:xfrm>
            <a:off x="357120" y="1643040"/>
            <a:ext cx="807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56db3"/>
                </a:solidFill>
                <a:latin typeface="Arial"/>
              </a:rPr>
              <a:t>Náměty pro další řešení z pohledu státního podniku Povodí Ohře:</a:t>
            </a:r>
            <a:br>
              <a:rPr sz="2000"/>
            </a:b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Anregungen für künftige Vorhaben aus der Sicht von 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Povodí Ohře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modra_head_logo"/>
          <p:cNvPicPr/>
          <p:nvPr/>
        </p:nvPicPr>
        <p:blipFill>
          <a:blip r:embed="rId1"/>
          <a:stretch/>
        </p:blipFill>
        <p:spPr>
          <a:xfrm>
            <a:off x="0" y="0"/>
            <a:ext cx="9144000" cy="41544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826920" y="4221000"/>
            <a:ext cx="7777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95d0"/>
                </a:solidFill>
                <a:latin typeface="Arial"/>
              </a:rPr>
              <a:t>Děkuji Vám za pozornost</a:t>
            </a:r>
            <a:br>
              <a:rPr sz="3600"/>
            </a:br>
            <a:r>
              <a:rPr b="0" lang="de-DE" sz="3600" spc="-1" strike="noStrike">
                <a:solidFill>
                  <a:srgbClr val="052d9d"/>
                </a:solidFill>
                <a:latin typeface="Arial"/>
              </a:rPr>
              <a:t>Vielen Dank für Ihre Aufmerksamke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line_short"/>
          <p:cNvPicPr/>
          <p:nvPr/>
        </p:nvPicPr>
        <p:blipFill>
          <a:blip r:embed="rId2"/>
          <a:stretch/>
        </p:blipFill>
        <p:spPr>
          <a:xfrm>
            <a:off x="-541440" y="4394160"/>
            <a:ext cx="5400720" cy="1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waves_a4_back"/>
          <p:cNvPicPr/>
          <p:nvPr/>
        </p:nvPicPr>
        <p:blipFill>
          <a:blip r:embed="rId1"/>
          <a:stretch/>
        </p:blipFill>
        <p:spPr>
          <a:xfrm>
            <a:off x="-216000" y="1868400"/>
            <a:ext cx="9360000" cy="498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modra_head"/>
          <p:cNvPicPr/>
          <p:nvPr/>
        </p:nvPicPr>
        <p:blipFill>
          <a:blip r:embed="rId2"/>
          <a:stretch/>
        </p:blipFill>
        <p:spPr>
          <a:xfrm>
            <a:off x="-214200" y="0"/>
            <a:ext cx="9359640" cy="2228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63480" y="232920"/>
            <a:ext cx="7796160" cy="24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OPŽ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Operationsprogramm Umwe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14200" y="2500200"/>
            <a:ext cx="8501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86769"/>
                </a:solidFill>
                <a:latin typeface="Arial"/>
              </a:rPr>
              <a:t>Osa č. 4 -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kvalitnění nakládání s odpady a odstraňování starých ekologických zátěží</a:t>
            </a:r>
            <a:br>
              <a:rPr sz="1800"/>
            </a:br>
            <a:r>
              <a:rPr b="1" lang="cs-CZ" sz="1800" spc="-1" strike="noStrike">
                <a:solidFill>
                  <a:srgbClr val="052d9d"/>
                </a:solidFill>
                <a:latin typeface="Arial"/>
              </a:rPr>
              <a:t>Achse 4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52d9d"/>
                </a:solidFill>
                <a:latin typeface="Arial"/>
              </a:rPr>
              <a:t>– Verbesserung des Abfallmanagements und Altlastenentsorgu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poruje projekty, které se zaměřují na zkvalitnění nakládaní s odpady, snížení produkce odpadů nevhodných pro další zpracování a odstraňování starých ekologických zátěž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52d9d"/>
                </a:solidFill>
                <a:latin typeface="Arial"/>
              </a:rPr>
              <a:t>Unterstützung von Projekten zur Verbesserung des Abfallmanagements, </a:t>
            </a:r>
            <a:br>
              <a:rPr sz="1800"/>
            </a:br>
            <a:r>
              <a:rPr b="0" lang="cs-CZ" sz="1800" spc="-1" strike="noStrike">
                <a:solidFill>
                  <a:srgbClr val="052d9d"/>
                </a:solidFill>
                <a:latin typeface="Arial"/>
              </a:rPr>
              <a:t>zur Verminderung des Anfalls der zur Wiederverwertung ungeeigneten Abfälle </a:t>
            </a:r>
            <a:br>
              <a:rPr sz="1800"/>
            </a:br>
            <a:r>
              <a:rPr b="0" lang="cs-CZ" sz="1800" spc="-1" strike="noStrike">
                <a:solidFill>
                  <a:srgbClr val="052d9d"/>
                </a:solidFill>
                <a:latin typeface="Arial"/>
              </a:rPr>
              <a:t>sowie zur Altlastenentsorgu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line_white_short"/>
          <p:cNvPicPr/>
          <p:nvPr/>
        </p:nvPicPr>
        <p:blipFill>
          <a:blip r:embed="rId3"/>
          <a:stretch/>
        </p:blipFill>
        <p:spPr>
          <a:xfrm>
            <a:off x="3643200" y="1844640"/>
            <a:ext cx="5513400" cy="1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waves_a4_back"/>
          <p:cNvPicPr/>
          <p:nvPr/>
        </p:nvPicPr>
        <p:blipFill>
          <a:blip r:embed="rId1"/>
          <a:stretch/>
        </p:blipFill>
        <p:spPr>
          <a:xfrm>
            <a:off x="-216000" y="1868400"/>
            <a:ext cx="9360000" cy="4989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modra_head"/>
          <p:cNvPicPr/>
          <p:nvPr/>
        </p:nvPicPr>
        <p:blipFill>
          <a:blip r:embed="rId2"/>
          <a:stretch/>
        </p:blipFill>
        <p:spPr>
          <a:xfrm>
            <a:off x="-214200" y="0"/>
            <a:ext cx="9359640" cy="22287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63480" y="232920"/>
            <a:ext cx="7796160" cy="24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OPŽ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Operationsprogramm Umwe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0" y="2500200"/>
            <a:ext cx="850104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86769"/>
                </a:solidFill>
                <a:latin typeface="Arial"/>
              </a:rPr>
              <a:t>Osa č. 4 -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kvalitnění nakládání s odpady a odstraňování starých ekologických zátěží</a:t>
            </a:r>
            <a:br>
              <a:rPr sz="1800"/>
            </a:br>
            <a:r>
              <a:rPr b="1" lang="cs-CZ" sz="1800" spc="-1" strike="noStrike">
                <a:solidFill>
                  <a:srgbClr val="052d9d"/>
                </a:solidFill>
                <a:latin typeface="Arial"/>
              </a:rPr>
              <a:t>Achse 4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52d9d"/>
                </a:solidFill>
                <a:latin typeface="Arial"/>
              </a:rPr>
              <a:t>– Verbesserung des Abfallmanagements und Altlastenentsorgung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kapitola 4.2. -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dstraňování starých ekologických zátěž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ventarizace kontaminovaných a potenciálně kontaminovaných míst, kategorizace priorit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pro výběr nejzávažněji kontaminovaných míst k sanac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alizace průzkumných prací, analýz rizi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anace vážně kontaminovaných lokal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Abschnitt 4.2. - </a:t>
            </a:r>
            <a:r>
              <a:rPr b="1" lang="cs-CZ" sz="1600" spc="-1" strike="noStrike">
                <a:solidFill>
                  <a:srgbClr val="052d9d"/>
                </a:solidFill>
                <a:latin typeface="Arial"/>
              </a:rPr>
              <a:t>Altlastenentsorg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52d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Bestandsaufnahme schadstoffbelasteter und potenziell schadstoffbelasteter Standorte, </a:t>
            </a:r>
            <a:br>
              <a:rPr sz="1600"/>
            </a:b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  Festlegung von Prioritäten zur Auswahl der meistbelasteten Standorte  für Sanier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52d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Durchführung von Untersuchungen, Risikoanaly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52d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Sanierung hochbelasteter Stand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line_white_short"/>
          <p:cNvPicPr/>
          <p:nvPr/>
        </p:nvPicPr>
        <p:blipFill>
          <a:blip r:embed="rId3"/>
          <a:stretch/>
        </p:blipFill>
        <p:spPr>
          <a:xfrm>
            <a:off x="3643200" y="1844640"/>
            <a:ext cx="5513400" cy="1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1" descr="waves_a4_back-down"/>
          <p:cNvPicPr/>
          <p:nvPr/>
        </p:nvPicPr>
        <p:blipFill>
          <a:blip r:embed="rId1"/>
          <a:stretch/>
        </p:blipFill>
        <p:spPr>
          <a:xfrm>
            <a:off x="0" y="2233440"/>
            <a:ext cx="9144000" cy="46245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57477"/>
                </a:solidFill>
                <a:latin typeface="Arial"/>
              </a:rPr>
              <a:t>Podané žádosti o dotaci z OPŽP:</a:t>
            </a:r>
            <a:br>
              <a:rPr sz="3200"/>
            </a:br>
            <a:r>
              <a:rPr b="0" lang="cs-CZ" sz="3200" spc="-1" strike="noStrike">
                <a:solidFill>
                  <a:srgbClr val="052d9d"/>
                </a:solidFill>
                <a:latin typeface="Arial"/>
              </a:rPr>
              <a:t>Förderungsanträge an das OP Umwe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blue_square"/>
          <p:cNvPicPr/>
          <p:nvPr/>
        </p:nvPicPr>
        <p:blipFill>
          <a:blip r:embed="rId2"/>
          <a:stretch/>
        </p:blipFill>
        <p:spPr>
          <a:xfrm>
            <a:off x="1547640" y="1998720"/>
            <a:ext cx="144720" cy="144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blue_square"/>
          <p:cNvPicPr/>
          <p:nvPr/>
        </p:nvPicPr>
        <p:blipFill>
          <a:blip r:embed="rId3"/>
          <a:stretch/>
        </p:blipFill>
        <p:spPr>
          <a:xfrm>
            <a:off x="1547640" y="2855880"/>
            <a:ext cx="144720" cy="144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4"/>
          <p:cNvSpPr/>
          <p:nvPr/>
        </p:nvSpPr>
        <p:spPr>
          <a:xfrm>
            <a:off x="1908000" y="1916280"/>
            <a:ext cx="69501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86769"/>
                </a:solidFill>
                <a:latin typeface="Arial"/>
              </a:rPr>
              <a:t>Odstranění antropogenního znečištění říčních sedimentů v rámci sanace Bouřlivého potoka a Bíliny – Průzkum a analýza rizika  - rok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86769"/>
                </a:solidFill>
                <a:latin typeface="Arial"/>
              </a:rPr>
              <a:t>Odstranění říčních sedimentů v rámci těžby naplavenin a následné revitalizace toku Bíliny  - Průzkum a analýza rizika – rok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52d9d"/>
                </a:solidFill>
                <a:latin typeface="Arial"/>
              </a:rPr>
              <a:t>Beseitigung der anthropogenen Belastungen </a:t>
            </a:r>
            <a:r>
              <a:rPr b="0" lang="de-DE" sz="1800" spc="-1" strike="noStrike">
                <a:solidFill>
                  <a:srgbClr val="052d9d"/>
                </a:solidFill>
                <a:latin typeface="Arial"/>
              </a:rPr>
              <a:t>im</a:t>
            </a:r>
            <a:r>
              <a:rPr b="0" lang="cs-CZ" sz="1800" spc="-1" strike="noStrike">
                <a:solidFill>
                  <a:srgbClr val="052d9d"/>
                </a:solidFill>
                <a:latin typeface="Arial"/>
              </a:rPr>
              <a:t> Flusssediment </a:t>
            </a:r>
            <a:br>
              <a:rPr sz="1800"/>
            </a:br>
            <a:r>
              <a:rPr b="0" lang="cs-CZ" sz="1800" spc="-1" strike="noStrike">
                <a:solidFill>
                  <a:srgbClr val="052d9d"/>
                </a:solidFill>
                <a:latin typeface="Arial"/>
              </a:rPr>
              <a:t>im Rahmen der Gewässersanierung von Bouřlivý potok und Bílina – Untersuchungen und Risikoanalyse –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52d9d"/>
                </a:solidFill>
                <a:latin typeface="Arial"/>
              </a:rPr>
              <a:t>Entsorgung der Flusssedimente im Rahmen der Baggerungen und anschlie</a:t>
            </a:r>
            <a:r>
              <a:rPr b="0" lang="de-DE" sz="1800" spc="-1" strike="noStrike">
                <a:solidFill>
                  <a:srgbClr val="052d9d"/>
                </a:solidFill>
                <a:latin typeface="Arial"/>
              </a:rPr>
              <a:t>ßender Renaturierung der Bílina </a:t>
            </a:r>
            <a:r>
              <a:rPr b="0" lang="cs-CZ" sz="1800" spc="-1" strike="noStrike">
                <a:solidFill>
                  <a:srgbClr val="052d9d"/>
                </a:solidFill>
                <a:latin typeface="Arial"/>
              </a:rPr>
              <a:t>– Untersuchungen und Risikoanalyse – 200</a:t>
            </a:r>
            <a:r>
              <a:rPr b="0" lang="de-DE" sz="1800" spc="-1" strike="noStrike">
                <a:solidFill>
                  <a:srgbClr val="052d9d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1403280" y="1413000"/>
            <a:ext cx="728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0" descr="line_short2"/>
          <p:cNvPicPr/>
          <p:nvPr/>
        </p:nvPicPr>
        <p:blipFill>
          <a:blip r:embed="rId4"/>
          <a:stretch/>
        </p:blipFill>
        <p:spPr>
          <a:xfrm>
            <a:off x="-876240" y="1571760"/>
            <a:ext cx="2448000" cy="106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2" descr=""/>
          <p:cNvPicPr/>
          <p:nvPr/>
        </p:nvPicPr>
        <p:blipFill>
          <a:blip r:embed="rId5"/>
          <a:srcRect l="209" t="7470" r="209" b="7470"/>
          <a:stretch/>
        </p:blipFill>
        <p:spPr>
          <a:xfrm>
            <a:off x="971640" y="5551560"/>
            <a:ext cx="7354800" cy="1020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blue_square"/>
          <p:cNvPicPr/>
          <p:nvPr/>
        </p:nvPicPr>
        <p:blipFill>
          <a:blip r:embed="rId6"/>
          <a:stretch/>
        </p:blipFill>
        <p:spPr>
          <a:xfrm>
            <a:off x="1547640" y="3527280"/>
            <a:ext cx="144720" cy="1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blue_square"/>
          <p:cNvPicPr/>
          <p:nvPr/>
        </p:nvPicPr>
        <p:blipFill>
          <a:blip r:embed="rId7"/>
          <a:stretch/>
        </p:blipFill>
        <p:spPr>
          <a:xfrm>
            <a:off x="1547640" y="4392720"/>
            <a:ext cx="14472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1" descr="waves_a4_back-down2"/>
          <p:cNvPicPr/>
          <p:nvPr/>
        </p:nvPicPr>
        <p:blipFill>
          <a:blip r:embed="rId1"/>
          <a:stretch/>
        </p:blipFill>
        <p:spPr>
          <a:xfrm>
            <a:off x="0" y="2233440"/>
            <a:ext cx="9144000" cy="4624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9" descr="draw"/>
          <p:cNvPicPr/>
          <p:nvPr/>
        </p:nvPicPr>
        <p:blipFill>
          <a:blip r:embed="rId2"/>
          <a:stretch/>
        </p:blipFill>
        <p:spPr>
          <a:xfrm>
            <a:off x="1042920" y="2565360"/>
            <a:ext cx="128520" cy="4292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2920" y="136080"/>
            <a:ext cx="882000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86769"/>
                </a:solidFill>
                <a:latin typeface="Arial"/>
              </a:rPr>
              <a:t>Odstranění antropogenního znečištění říčních sedimentů v rámci sanace Bouřlivého potoka a Bíliny – Průzkum a analýza rizika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Beseitigung der anthropogenen Belastungen 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im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 Flusssediment 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im Rahmen der Gewässersanierung von Bouřlivý potok und Bílina – Untersuchungen und Risiko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187280" y="5419440"/>
            <a:ext cx="74901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686769"/>
                </a:solidFill>
                <a:latin typeface="Arial"/>
              </a:rPr>
              <a:t>V rámci podané žádosti byl předložen prováděcí projekt průzkumu zpracovaný </a:t>
            </a:r>
            <a:br>
              <a:rPr sz="1600"/>
            </a:br>
            <a:r>
              <a:rPr b="0" lang="cs-CZ" sz="1600" spc="-1" strike="noStrike">
                <a:solidFill>
                  <a:srgbClr val="686769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686769"/>
                </a:solidFill>
                <a:latin typeface="Arial"/>
              </a:rPr>
              <a:t>irmou</a:t>
            </a:r>
            <a:r>
              <a:rPr b="0" lang="cs-CZ" sz="1600" spc="-1" strike="noStrike">
                <a:solidFill>
                  <a:srgbClr val="686769"/>
                </a:solidFill>
                <a:latin typeface="Arial"/>
              </a:rPr>
              <a:t> Dekonta a.s. Stehelče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Im Rahmen des Förderungsantrags wurde ein Projekt für die durchzuführende Untersuchung der Firma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Dekonta a.s. Stehelčeves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 vor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3" descr="line_short"/>
          <p:cNvPicPr/>
          <p:nvPr/>
        </p:nvPicPr>
        <p:blipFill>
          <a:blip r:embed="rId3"/>
          <a:stretch/>
        </p:blipFill>
        <p:spPr>
          <a:xfrm>
            <a:off x="4500720" y="1773360"/>
            <a:ext cx="5400360" cy="106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5"/>
          <p:cNvSpPr/>
          <p:nvPr/>
        </p:nvSpPr>
        <p:spPr>
          <a:xfrm>
            <a:off x="971640" y="206064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Finanční požadavek</a:t>
            </a:r>
            <a:r>
              <a:rPr b="0" lang="de-DE" sz="2200" spc="-1" strike="noStrike">
                <a:solidFill>
                  <a:srgbClr val="056db3"/>
                </a:solidFill>
                <a:latin typeface="Arial"/>
              </a:rPr>
              <a:t>: / </a:t>
            </a:r>
            <a:r>
              <a:rPr b="0" lang="de-DE" sz="2200" spc="-1" strike="noStrike">
                <a:solidFill>
                  <a:srgbClr val="052d9d"/>
                </a:solidFill>
                <a:latin typeface="Arial"/>
              </a:rPr>
              <a:t>Beantragte Fördersumme</a:t>
            </a:r>
            <a:r>
              <a:rPr b="0" lang="cs-CZ" sz="2200" spc="-1" strike="noStrike">
                <a:solidFill>
                  <a:srgbClr val="052d9d"/>
                </a:solidFill>
                <a:latin typeface="Arial"/>
              </a:rPr>
              <a:t>:</a:t>
            </a: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 2 376 728 K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4" descr="S25C-111060311460"/>
          <p:cNvPicPr/>
          <p:nvPr/>
        </p:nvPicPr>
        <p:blipFill>
          <a:blip r:embed="rId4"/>
          <a:stretch/>
        </p:blipFill>
        <p:spPr>
          <a:xfrm>
            <a:off x="2340000" y="2565360"/>
            <a:ext cx="4811760" cy="2552760"/>
          </a:xfrm>
          <a:prstGeom prst="rect">
            <a:avLst/>
          </a:prstGeom>
          <a:ln w="0">
            <a:noFill/>
          </a:ln>
        </p:spPr>
      </p:pic>
      <p:sp>
        <p:nvSpPr>
          <p:cNvPr id="79" name="Textfeld 10"/>
          <p:cNvSpPr/>
          <p:nvPr/>
        </p:nvSpPr>
        <p:spPr>
          <a:xfrm>
            <a:off x="5072040" y="4929120"/>
            <a:ext cx="2643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achlage im Bearbeitungsgeb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waves_a4_back-down2"/>
          <p:cNvPicPr/>
          <p:nvPr/>
        </p:nvPicPr>
        <p:blipFill>
          <a:blip r:embed="rId1"/>
          <a:stretch/>
        </p:blipFill>
        <p:spPr>
          <a:xfrm>
            <a:off x="0" y="2233440"/>
            <a:ext cx="9144000" cy="462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draw"/>
          <p:cNvPicPr/>
          <p:nvPr/>
        </p:nvPicPr>
        <p:blipFill>
          <a:blip r:embed="rId2"/>
          <a:stretch/>
        </p:blipFill>
        <p:spPr>
          <a:xfrm>
            <a:off x="1042920" y="2565360"/>
            <a:ext cx="128520" cy="4292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46288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86769"/>
                </a:solidFill>
                <a:latin typeface="Arial"/>
              </a:rPr>
              <a:t>Odstranění antropogenního znečištění říčních sedimentů v rámci sanace Bouřlivého potoka a Bíliny – Průzkum a analýza rizika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Beseitigung der anthropogenen Belastungen 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im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 Flusssediment 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im Rahmen der Gewässersanierung von Bouřlivý potok und Bílina – Untersuchungen und Risiko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87280" y="2852280"/>
            <a:ext cx="74901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dministrace projektu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Projektverwaltung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line_short"/>
          <p:cNvPicPr/>
          <p:nvPr/>
        </p:nvPicPr>
        <p:blipFill>
          <a:blip r:embed="rId3"/>
          <a:stretch/>
        </p:blipFill>
        <p:spPr>
          <a:xfrm>
            <a:off x="4500720" y="1822320"/>
            <a:ext cx="5400360" cy="1065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971640" y="206064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Finanční požadavek</a:t>
            </a:r>
            <a:r>
              <a:rPr b="0" lang="de-DE" sz="2200" spc="-1" strike="noStrike">
                <a:solidFill>
                  <a:srgbClr val="056db3"/>
                </a:solidFill>
                <a:latin typeface="Arial"/>
              </a:rPr>
              <a:t>:</a:t>
            </a: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56db3"/>
                </a:solidFill>
                <a:latin typeface="Arial"/>
              </a:rPr>
              <a:t>/ </a:t>
            </a:r>
            <a:r>
              <a:rPr b="0" lang="de-DE" sz="2200" spc="-1" strike="noStrike">
                <a:solidFill>
                  <a:srgbClr val="052d9d"/>
                </a:solidFill>
                <a:latin typeface="Arial"/>
              </a:rPr>
              <a:t>Beantragte Fördersumme:</a:t>
            </a: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 2 376 728 K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187280" y="3213000"/>
            <a:ext cx="7056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Č: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8019854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dstranění antropogenního znečištění říčních sedimentů v rámci sanace Bouřlivého potoka a Bíliny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ůzkum a analýza riz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52d9d"/>
                </a:solidFill>
                <a:latin typeface="Arial"/>
              </a:rPr>
              <a:t>ID: </a:t>
            </a:r>
            <a:r>
              <a:rPr b="1" lang="cs-CZ" sz="1800" spc="-1" strike="noStrike">
                <a:solidFill>
                  <a:srgbClr val="052d9d"/>
                </a:solidFill>
                <a:latin typeface="Arial"/>
              </a:rPr>
              <a:t>08019854</a:t>
            </a:r>
            <a:r>
              <a:rPr b="1" lang="de-DE" sz="1800" spc="-1" strike="noStrike">
                <a:solidFill>
                  <a:srgbClr val="052d9d"/>
                </a:solidFill>
                <a:latin typeface="Arial"/>
              </a:rPr>
              <a:t> - </a:t>
            </a:r>
            <a:r>
              <a:rPr b="1" lang="cs-CZ" sz="1800" spc="-1" strike="noStrike">
                <a:solidFill>
                  <a:srgbClr val="052d9d"/>
                </a:solidFill>
                <a:latin typeface="Arial"/>
              </a:rPr>
              <a:t>Beseitigung der anthropogenen Belastungen </a:t>
            </a:r>
            <a:r>
              <a:rPr b="1" lang="de-DE" sz="1800" spc="-1" strike="noStrike">
                <a:solidFill>
                  <a:srgbClr val="052d9d"/>
                </a:solidFill>
                <a:latin typeface="Arial"/>
              </a:rPr>
              <a:t>im</a:t>
            </a:r>
            <a:r>
              <a:rPr b="1" lang="cs-CZ" sz="1800" spc="-1" strike="noStrike">
                <a:solidFill>
                  <a:srgbClr val="052d9d"/>
                </a:solidFill>
                <a:latin typeface="Arial"/>
              </a:rPr>
              <a:t> Flusssediment im Rahmen der Gewässersanierung von Bouřlivý potok und Bílina – Untersuchungen und Risikoanaly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waves_a4_back-down2"/>
          <p:cNvPicPr/>
          <p:nvPr/>
        </p:nvPicPr>
        <p:blipFill>
          <a:blip r:embed="rId1"/>
          <a:stretch/>
        </p:blipFill>
        <p:spPr>
          <a:xfrm>
            <a:off x="0" y="2233440"/>
            <a:ext cx="9144000" cy="4624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draw"/>
          <p:cNvPicPr/>
          <p:nvPr/>
        </p:nvPicPr>
        <p:blipFill>
          <a:blip r:embed="rId2"/>
          <a:stretch/>
        </p:blipFill>
        <p:spPr>
          <a:xfrm>
            <a:off x="785880" y="2565360"/>
            <a:ext cx="128520" cy="4292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46288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86769"/>
                </a:solidFill>
                <a:latin typeface="Arial"/>
              </a:rPr>
              <a:t>Odstranění antropogenního znečištění říčních sedimentů v rámci sanace Bouřlivého potoka a Bíliny – Průzkum a analýza rizika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Beseitigung der anthropogenen Belastungen 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im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 Flusssediment 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im Rahmen der Gewässersanierung von Bouřlivý potok und Bílina – Untersuchungen und Risiko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99720" y="2571840"/>
            <a:ext cx="748980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dministrace projektu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Projektverwaltung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line_short"/>
          <p:cNvPicPr/>
          <p:nvPr/>
        </p:nvPicPr>
        <p:blipFill>
          <a:blip r:embed="rId3"/>
          <a:stretch/>
        </p:blipFill>
        <p:spPr>
          <a:xfrm>
            <a:off x="4500720" y="1822320"/>
            <a:ext cx="5400360" cy="1065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714240" y="206064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Finanční požadavek</a:t>
            </a:r>
            <a:r>
              <a:rPr b="0" lang="de-DE" sz="2200" spc="-1" strike="noStrike">
                <a:solidFill>
                  <a:srgbClr val="056db3"/>
                </a:solidFill>
                <a:latin typeface="Arial"/>
              </a:rPr>
              <a:t>:</a:t>
            </a: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56db3"/>
                </a:solidFill>
                <a:latin typeface="Arial"/>
              </a:rPr>
              <a:t>/ </a:t>
            </a:r>
            <a:r>
              <a:rPr b="0" lang="de-DE" sz="2200" spc="-1" strike="noStrike">
                <a:solidFill>
                  <a:srgbClr val="052d9d"/>
                </a:solidFill>
                <a:latin typeface="Arial"/>
              </a:rPr>
              <a:t>Beantragte Fördersumme:</a:t>
            </a: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 2 376 728 K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1000080" y="2857680"/>
            <a:ext cx="705636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Žádost byla podána 8.října 2008. Rozhodnutí bylo vydáno 26.4.2010. Realizace průzkumu a zpracování analýzy rizika probíhala v období 02-07 2010. Realizační firma Ekomonitor spol. s.r.o. Chrud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Der 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Antrag wurde am 08.10.2008 gestellt. Die Entscheidung wurde am 26.04.2010 erteilt. Die Untersuchungen und Bearbeitung der Risikoanalyse erfolgten im Zeitraum Febr./Juli 2010 durch die Firma Ekomonitor Chrud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ne 30.9.2010 bylo ZVA doplněno do Benefillu a přílohy odeslány na SFZP do Prahy. Dne 25.10.2010 bylo vyúčtování ze strany SFZP v programu Benefillu uzavř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Am 30.09.2010 wurde die Abschlussbewertung der Maßnahme ins Informationssystem Benefill eingetragen und Anlagen an den Staatlichen Umweltfonds (SFZP) in Prag gesendet. Am 25.10.2010 wurde die Abrechnung durch den SFZP im Benefill-Programm abgeschloss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waves_a4_back-down2"/>
          <p:cNvPicPr/>
          <p:nvPr/>
        </p:nvPicPr>
        <p:blipFill>
          <a:blip r:embed="rId1"/>
          <a:stretch/>
        </p:blipFill>
        <p:spPr>
          <a:xfrm>
            <a:off x="0" y="2233440"/>
            <a:ext cx="9144000" cy="4624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draw"/>
          <p:cNvPicPr/>
          <p:nvPr/>
        </p:nvPicPr>
        <p:blipFill>
          <a:blip r:embed="rId2"/>
          <a:stretch/>
        </p:blipFill>
        <p:spPr>
          <a:xfrm>
            <a:off x="571680" y="2565360"/>
            <a:ext cx="128520" cy="4292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6058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86769"/>
                </a:solidFill>
                <a:latin typeface="Arial"/>
              </a:rPr>
              <a:t>Odstranění antropogenního znečištění říčních sedimentů v rámci sanace Bouřlivého potoka a Bíliny – Průzkum a analýza rizika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Beseitigung der anthropogenen Belastungen 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im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 Flusssediment 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im Rahmen der Gewässersanierung von Bouřlivý potok und Bílina – Untersuchungen und Risiko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85520" y="5348160"/>
            <a:ext cx="8001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686769"/>
                </a:solidFill>
                <a:latin typeface="Arial"/>
              </a:rPr>
              <a:t>Lokalita se nachází v městysu Hostomice  cca 6 km jižně od města Teplice v Čech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686769"/>
                </a:solidFill>
                <a:latin typeface="Arial"/>
              </a:rPr>
              <a:t>Území je rozděleno na dvě části : řeka Bílina a dále Bouřlivý po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Der Standort befindet sich in der Gemeinde Hostomice, ca. 6 km südlich von der Stadt Teplice. Das Untersuchungsgebiet besteht aus zwei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Teil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en: de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r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 Bílina und ihr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em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 Nebenfluss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Bouřlivý po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line_short"/>
          <p:cNvPicPr/>
          <p:nvPr/>
        </p:nvPicPr>
        <p:blipFill>
          <a:blip r:embed="rId3"/>
          <a:stretch/>
        </p:blipFill>
        <p:spPr>
          <a:xfrm>
            <a:off x="4500720" y="1773360"/>
            <a:ext cx="5400360" cy="1062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428760" y="1928880"/>
            <a:ext cx="84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56db3"/>
                </a:solidFill>
                <a:latin typeface="Arial"/>
              </a:rPr>
              <a:t>Geografické vymezení území</a:t>
            </a:r>
            <a:r>
              <a:rPr b="0" lang="de-DE" sz="1800" spc="-1" strike="noStrike">
                <a:solidFill>
                  <a:srgbClr val="056db3"/>
                </a:solidFill>
                <a:latin typeface="Arial"/>
              </a:rPr>
              <a:t>: / </a:t>
            </a:r>
            <a:r>
              <a:rPr b="0" lang="de-DE" sz="1800" spc="-1" strike="noStrike">
                <a:solidFill>
                  <a:srgbClr val="052d9d"/>
                </a:solidFill>
                <a:latin typeface="Arial"/>
              </a:rPr>
              <a:t>Untersuchungsgebiet – geographische Übersich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S25C-111060309540"/>
          <p:cNvPicPr/>
          <p:nvPr/>
        </p:nvPicPr>
        <p:blipFill>
          <a:blip r:embed="rId4"/>
          <a:stretch/>
        </p:blipFill>
        <p:spPr>
          <a:xfrm>
            <a:off x="1071720" y="2421000"/>
            <a:ext cx="2808000" cy="273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S25C-111060309530"/>
          <p:cNvPicPr/>
          <p:nvPr/>
        </p:nvPicPr>
        <p:blipFill>
          <a:blip r:embed="rId5"/>
          <a:stretch/>
        </p:blipFill>
        <p:spPr>
          <a:xfrm>
            <a:off x="4429080" y="2319480"/>
            <a:ext cx="345780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waves_a4_back-down2"/>
          <p:cNvPicPr/>
          <p:nvPr/>
        </p:nvPicPr>
        <p:blipFill>
          <a:blip r:embed="rId1"/>
          <a:stretch/>
        </p:blipFill>
        <p:spPr>
          <a:xfrm>
            <a:off x="0" y="2233440"/>
            <a:ext cx="9144000" cy="4624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draw"/>
          <p:cNvPicPr/>
          <p:nvPr/>
        </p:nvPicPr>
        <p:blipFill>
          <a:blip r:embed="rId2"/>
          <a:stretch/>
        </p:blipFill>
        <p:spPr>
          <a:xfrm>
            <a:off x="357120" y="2565360"/>
            <a:ext cx="128520" cy="4292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6058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86769"/>
                </a:solidFill>
                <a:latin typeface="Arial"/>
              </a:rPr>
              <a:t>Odstranění antropogenního znečištění říčních sedimentů v rámci sanace Bouřlivého potoka a Bíliny – Průzkum a analýza rizika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Beseitigung der anthropogenen Belastungen 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im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 Flusssediment 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im Rahmen der Gewässersanierung von Bouřlivý potok und Bílina – Untersuchungen und Risiko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99680" y="4929120"/>
            <a:ext cx="83581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686769"/>
                </a:solidFill>
                <a:latin typeface="Arial"/>
              </a:rPr>
              <a:t>Ve zkoumaném území se nachází majoritní znečišťovatel toku  - areál bývalého průmyslového závodu Sklárny KAVALI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Im Untersuchungsgebiet befindet sich der größte Einleiter – Betriebsgelände der ehemaligen Glasfabrik KAVALIER.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období 50-70 let  byla v areálu generátorovna na výrobu generátorového plynu – odpadní vody byly vypouštěny do Bouřlivého potoka v ř.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m 0,2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In den 1950-1970 war  in der Glasfabrik eine Generatorgas-Anlage in Betrieb – Abwasser wurde in den Bach </a:t>
            </a:r>
            <a:r>
              <a:rPr b="0" lang="cs-CZ" sz="1400" spc="-1" strike="noStrike">
                <a:solidFill>
                  <a:srgbClr val="052d9d"/>
                </a:solidFill>
                <a:latin typeface="Arial"/>
              </a:rPr>
              <a:t>Bouřliv</a:t>
            </a: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ý</a:t>
            </a:r>
            <a:r>
              <a:rPr b="0" lang="cs-CZ" sz="1400" spc="-1" strike="noStrike">
                <a:solidFill>
                  <a:srgbClr val="052d9d"/>
                </a:solidFill>
                <a:latin typeface="Arial"/>
              </a:rPr>
              <a:t> potok</a:t>
            </a: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 im Fluss-km 0,250 eingeleitet.</a:t>
            </a:r>
            <a:r>
              <a:rPr b="0" lang="cs-CZ" sz="1400" spc="-1" strike="noStrike">
                <a:solidFill>
                  <a:srgbClr val="052d9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line_short"/>
          <p:cNvPicPr/>
          <p:nvPr/>
        </p:nvPicPr>
        <p:blipFill>
          <a:blip r:embed="rId3"/>
          <a:stretch/>
        </p:blipFill>
        <p:spPr>
          <a:xfrm>
            <a:off x="4500720" y="1773360"/>
            <a:ext cx="5400360" cy="106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285840" y="1928880"/>
            <a:ext cx="86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56db3"/>
                </a:solidFill>
                <a:latin typeface="Arial"/>
              </a:rPr>
              <a:t>Kontaminace území:</a:t>
            </a:r>
            <a:br>
              <a:rPr sz="1800"/>
            </a:br>
            <a:r>
              <a:rPr b="0" lang="de-DE" sz="1800" spc="-1" strike="noStrike">
                <a:solidFill>
                  <a:srgbClr val="052d9d"/>
                </a:solidFill>
                <a:latin typeface="Arial"/>
              </a:rPr>
              <a:t>Schadstoffbelastung des Gebi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S25C-111060309541"/>
          <p:cNvPicPr/>
          <p:nvPr/>
        </p:nvPicPr>
        <p:blipFill>
          <a:blip r:embed="rId4"/>
          <a:stretch/>
        </p:blipFill>
        <p:spPr>
          <a:xfrm>
            <a:off x="4065480" y="2000160"/>
            <a:ext cx="4649760" cy="2887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S25C-111060309542"/>
          <p:cNvPicPr/>
          <p:nvPr/>
        </p:nvPicPr>
        <p:blipFill>
          <a:blip r:embed="rId5"/>
          <a:stretch/>
        </p:blipFill>
        <p:spPr>
          <a:xfrm>
            <a:off x="590400" y="2643120"/>
            <a:ext cx="355284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08:15:47Z</dcterms:created>
  <dc:creator>Motlik</dc:creator>
  <dc:description/>
  <dc:language>en-US</dc:language>
  <cp:lastModifiedBy>ladislav</cp:lastModifiedBy>
  <dcterms:modified xsi:type="dcterms:W3CDTF">2011-08-04T11:31:02Z</dcterms:modified>
  <cp:revision>112</cp:revision>
  <dc:subject/>
  <dc:title>Snímek 1</dc:title>
</cp:coreProperties>
</file>