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E65-3A49-46BB-A3AD-6DE52684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61D-F84A-47B5-81DA-1CC86C2F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43C-E697-4C72-9961-A2D7F658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43D-BBFA-4D98-B53A-078DB88B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50B-43DC-4D73-9091-B8974582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281-E5DB-4D73-8ACA-F0D03FD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581-2645-4F81-A7BF-7FF3B183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318-339D-461A-8788-98F04E28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C23-C4C9-468C-9505-6955A616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F7D-E5E4-4AF3-9CF2-D9B2AE2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FD6-1F34-48D8-8C1A-F075CB4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A85-DBD7-4812-B556-E717760E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A840-B927-4BAB-9F00-D9C8A02206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681-1815-49F5-9185-400B087E9E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Dx in Sedimenten</a:t>
            </a:r>
            <a:br>
              <a:rPr sz="4400"/>
            </a:br>
            <a:r>
              <a:rPr b="1" lang="cs-CZ" sz="4400" spc="-1" strike="noStrike">
                <a:solidFill>
                  <a:srgbClr val="3333ff"/>
                </a:solidFill>
                <a:latin typeface="Calibri"/>
              </a:rPr>
              <a:t>DDx v sedimen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392904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xel Netzband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amburg Port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Anlage 8 zum Ergebnisvermerk der 6. Beratung der EG „Sedimentmanagement“ der IK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ff"/>
                </a:solidFill>
                <a:latin typeface="Calibri"/>
              </a:rPr>
              <a:t>Příloha 8 k záznamu výsledků 6. porady skupiny expertů „Management sedimentů“ MK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1743-952D-41B4-B819-22FB0C13C9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m 1" descr=""/>
          <p:cNvPicPr/>
          <p:nvPr/>
        </p:nvPicPr>
        <p:blipFill>
          <a:blip r:embed="rId1"/>
          <a:stretch/>
        </p:blipFill>
        <p:spPr>
          <a:xfrm>
            <a:off x="103320" y="517680"/>
            <a:ext cx="9047160" cy="5822640"/>
          </a:xfrm>
          <a:prstGeom prst="rect">
            <a:avLst/>
          </a:prstGeom>
          <a:ln w="0">
            <a:noFill/>
          </a:ln>
        </p:spPr>
      </p:pic>
      <p:sp>
        <p:nvSpPr>
          <p:cNvPr id="86" name="Textfeld 2"/>
          <p:cNvSpPr/>
          <p:nvPr/>
        </p:nvSpPr>
        <p:spPr>
          <a:xfrm>
            <a:off x="1187280" y="1916280"/>
            <a:ext cx="14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Einbringstell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úložišt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3"/>
          <p:cNvSpPr/>
          <p:nvPr/>
        </p:nvSpPr>
        <p:spPr>
          <a:xfrm>
            <a:off x="7072200" y="21906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Bereich Elbfahn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oblast labského prou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49E0-F446-4C54-BB6D-A966BF670A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Diagramm 1" descr=""/>
          <p:cNvPicPr/>
          <p:nvPr/>
        </p:nvPicPr>
        <p:blipFill>
          <a:blip r:embed="rId1"/>
          <a:stretch/>
        </p:blipFill>
        <p:spPr>
          <a:xfrm>
            <a:off x="85680" y="517680"/>
            <a:ext cx="8972640" cy="5822640"/>
          </a:xfrm>
          <a:prstGeom prst="rect">
            <a:avLst/>
          </a:prstGeom>
          <a:ln w="0">
            <a:noFill/>
          </a:ln>
        </p:spPr>
      </p:pic>
      <p:sp>
        <p:nvSpPr>
          <p:cNvPr id="90" name="Textfeld 2"/>
          <p:cNvSpPr/>
          <p:nvPr/>
        </p:nvSpPr>
        <p:spPr>
          <a:xfrm>
            <a:off x="1042920" y="198900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Einbringstell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úložišt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3"/>
          <p:cNvSpPr/>
          <p:nvPr/>
        </p:nvSpPr>
        <p:spPr>
          <a:xfrm>
            <a:off x="6948360" y="24051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Bereich Elbfahn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oblast labského prou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924B-ACB3-4335-AB4D-CAC218BFC0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5"/>
          <p:cNvSpPr/>
          <p:nvPr/>
        </p:nvSpPr>
        <p:spPr>
          <a:xfrm>
            <a:off x="6643800" y="1143000"/>
            <a:ext cx="221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3333ff"/>
                </a:solidFill>
                <a:latin typeface="Arial"/>
              </a:rPr>
              <a:t>průměry říjen 2005 – srpen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57"/>
                </a:solidFill>
                <a:latin typeface="Calibri"/>
              </a:rPr>
              <a:t>p,p-DDD Bioakkumulation in der Wellhornschnecke</a:t>
            </a:r>
            <a:br>
              <a:rPr sz="2400"/>
            </a:br>
            <a:r>
              <a:rPr b="1" lang="cs-CZ" sz="2400" spc="-1" strike="noStrike">
                <a:solidFill>
                  <a:srgbClr val="3333ff"/>
                </a:solidFill>
                <a:latin typeface="Calibri"/>
              </a:rPr>
              <a:t>Bioakumulace p´p-DDD v surmovce vln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Diagramm 3" descr=""/>
          <p:cNvPicPr/>
          <p:nvPr/>
        </p:nvPicPr>
        <p:blipFill>
          <a:blip r:embed="rId1"/>
          <a:stretch/>
        </p:blipFill>
        <p:spPr>
          <a:xfrm>
            <a:off x="-6480" y="865080"/>
            <a:ext cx="9296640" cy="5999400"/>
          </a:xfrm>
          <a:prstGeom prst="rect">
            <a:avLst/>
          </a:prstGeom>
          <a:ln w="0">
            <a:noFill/>
          </a:ln>
        </p:spPr>
      </p:pic>
      <p:sp>
        <p:nvSpPr>
          <p:cNvPr id="9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5DF-8E01-48E4-97BA-F8E494595E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Richt- / Grenzwerte zur Baggergutbewertung</a:t>
            </a:r>
            <a:br>
              <a:rPr sz="2400"/>
            </a:br>
            <a:r>
              <a:rPr b="1" lang="cs-CZ" sz="2400" spc="-1" strike="noStrike">
                <a:solidFill>
                  <a:srgbClr val="3333ff"/>
                </a:solidFill>
                <a:latin typeface="Calibri"/>
              </a:rPr>
              <a:t>Směrné hodnoty / limity pro hodnocení odtěžených náno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214200" y="1143000"/>
          <a:ext cx="8572680" cy="54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143000"/>
                    <a:ext cx="85726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9F2-97F5-415C-88EC-9C5A04ABA3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4"/>
          <p:cNvSpPr/>
          <p:nvPr/>
        </p:nvSpPr>
        <p:spPr>
          <a:xfrm>
            <a:off x="2000160" y="135720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ff"/>
                </a:solidFill>
                <a:latin typeface="Arial"/>
              </a:rPr>
              <a:t>/ Společná přechodná ustanovení pro nakládání s odtěženými nánosy v pobřežních vodá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5"/>
          <p:cNvSpPr/>
          <p:nvPr/>
        </p:nvSpPr>
        <p:spPr>
          <a:xfrm>
            <a:off x="214200" y="192888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Pro hodnocení organických látek – koncentrace ve frakci 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 &lt; 63 </a:t>
            </a:r>
            <a:r>
              <a:rPr b="0" lang="el-GR" sz="1400" spc="-1" strike="noStrike">
                <a:solidFill>
                  <a:srgbClr val="3333ff"/>
                </a:solidFill>
                <a:latin typeface="Arial"/>
              </a:rPr>
              <a:t>μ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feld 6"/>
          <p:cNvSpPr/>
          <p:nvPr/>
        </p:nvSpPr>
        <p:spPr>
          <a:xfrm>
            <a:off x="785880" y="25718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ff"/>
                </a:solidFill>
                <a:latin typeface="Arial"/>
              </a:rPr>
              <a:t>Znečišťující lát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7"/>
          <p:cNvSpPr/>
          <p:nvPr/>
        </p:nvSpPr>
        <p:spPr>
          <a:xfrm>
            <a:off x="6357960" y="228600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ff"/>
                </a:solidFill>
                <a:latin typeface="Arial"/>
              </a:rPr>
              <a:t>Severní moře směrné hodno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8"/>
          <p:cNvSpPr/>
          <p:nvPr/>
        </p:nvSpPr>
        <p:spPr>
          <a:xfrm>
            <a:off x="214200" y="5286240"/>
            <a:ext cx="71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Suma DDT/DDD/DDE 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&lt; 20 </a:t>
            </a:r>
            <a:r>
              <a:rPr b="0" lang="el-GR" sz="1400" spc="-1" strike="noStrike">
                <a:solidFill>
                  <a:srgbClr val="3333ff"/>
                </a:solidFill>
                <a:latin typeface="Arial"/>
              </a:rPr>
              <a:t>μ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g</a:t>
            </a: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/kg suš. jako limitní hodnota pro celkovou frakc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feld 9"/>
          <p:cNvSpPr/>
          <p:nvPr/>
        </p:nvSpPr>
        <p:spPr>
          <a:xfrm>
            <a:off x="2071800" y="569268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cs-CZ" sz="1400" spc="-1" strike="noStrike">
                <a:solidFill>
                  <a:srgbClr val="3333ff"/>
                </a:solidFill>
                <a:latin typeface="Arial"/>
              </a:rPr>
              <a:t>Cílové záměry M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11"/>
          <p:cNvSpPr/>
          <p:nvPr/>
        </p:nvSpPr>
        <p:spPr>
          <a:xfrm>
            <a:off x="2714760" y="6072120"/>
            <a:ext cx="27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/ každý metabolit 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&lt; </a:t>
            </a: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0 </a:t>
            </a:r>
            <a:r>
              <a:rPr b="0" lang="el-GR" sz="1400" spc="-1" strike="noStrike">
                <a:solidFill>
                  <a:srgbClr val="3333ff"/>
                </a:solidFill>
                <a:latin typeface="Arial"/>
              </a:rPr>
              <a:t>μ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g</a:t>
            </a: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/kg su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3F6-E802-4787-94A3-5A143DAB6A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5"/>
          <p:cNvSpPr/>
          <p:nvPr/>
        </p:nvSpPr>
        <p:spPr>
          <a:xfrm>
            <a:off x="468360" y="333360"/>
            <a:ext cx="80643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Präsentation DDx in Sedim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Folie 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bildung aus der Information der Arbeitsgruppe WFD über die Umsetzung der Wasserrahmen­richtlinie im Einzugsgebiet der Elbe (Stand: 15.04.2011). Die deutsche Seite informierte im März 2011 bei der Beratung der Hydrochemiker, dass an der Messstelle Schmilka/Hřensko in den vergangenen Jahren die Werte des DDT-Gehalts in den Schwebstoffen ansteigen (Anlage Jahresmittelwer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Folie 1 zugrunde liegenden Daten als Monatsmischproben für DDT und D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Jahresmittelwerte p,p´ DDT in schwebstoffbürtigen Sedimenten für Schmilka/Hřensko wie in Folie 1 sowie für die Stationen Mulde, Schnackenburg, Seemannshöft; deutlich wird die stromabwärts abnehmende Belast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ahresmittelwerte der zu baggernden Sedimentproben in der Süderelbe im Hamburger Hafen für DDD und DDT (am weitesten stromauf liegende Stel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uftbild Hamburger Hafen mit Bereich der Sedimentpro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dimentverbringung aus Hamburg in die Nordsee zur Tonne E3 und Monitoring­statio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DT bei Tonne E3 bei Nullbeprobung vor Sedimentverbringung (gelb) sowie Mittelwerte der Beprobungen 2005-2009 nach Sedimentverbringung für Parameter DDT und Metabolite an verschiedenen Probenahmestellen im direkten Verklappbereich und an Referenzst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e vor für D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oakkumulation von DDD in der Wellhornschnecke im Klappzentrum im Vergleich zu außenliegenden Stationen für die Beprobungen 2008 – 2010. Deutlich wird die signifikante Akkumulation im Verklappbereich im Vergleich zu den Aussenstatio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aggergut- und Sedimentrichtwerte Deutschland, Niederlande, IK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548-771C-4400-B6AB-0D4D159676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5"/>
          <p:cNvSpPr/>
          <p:nvPr/>
        </p:nvSpPr>
        <p:spPr>
          <a:xfrm>
            <a:off x="468360" y="333360"/>
            <a:ext cx="806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33cc"/>
                </a:solidFill>
                <a:latin typeface="Calibri"/>
              </a:rPr>
              <a:t>Prezentace DDx v Sedimen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33cc"/>
                </a:solidFill>
                <a:latin typeface="Calibri"/>
              </a:rPr>
              <a:t>Folie 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Obrázek z informace pracovní skupiny WFD o implementaci Rámcové směrnice o vodách v povodí Labe (stav: 15. 4. 2011). Německá strana informovala v březnu 2011 na poradě hydrochemiků, že v měrném profilu Hřensko/Schmilka v uplynulých rostou hodnoty koncentrací DDT v plaveninách (příloha: Roční průměr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Data vycházející z folie č. 1 jako měsíční směsné vzorky pro ukazatele DDT a D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Roční průměrné hodnoty p,p´ DDT v sedimentovatelných plaveninách v profilu Hřensko/Schmilka jako na folii č. 1 a také pro stanice Mulde, Schnackenburg, Seemannshöft; patrný je postupný pokles znečištění směrem po to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Roční průměrné hodnoty DDD a DDT ve vzorcích sedimentů z odtěžených nánosů v jižním labském rameni - Süderelbe – </a:t>
            </a:r>
            <a:br>
              <a:rPr sz="1200"/>
            </a:b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v Hamburském přístavu (profil položený nejvýše proti proud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Letecký snímek Hamburského přístavu v místech odběru vzorků sediment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Odvážení sedimentů z Hamburku do Severního moře k bóji č. E3 a monitorovací stan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DDT u bóje č. E3 při nulovém vzorkování před uložením sedimentů (žlutá) a průměrné hodnoty ve vzorcích odebraných v letech 2005 - 2009 po uložení sedimentů v ukazatelích DDT a jeho metabolitů na různých profilech v bezprostřední blízkosti místa uložení sedimentů a na referenčních profil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Stejné jako u předchozí fólie – pro ukazatel D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Akumulace DDD v organismu surmovky vlnité v centru vyklápění odtěžených nánosů v porovnání s hodnotami ze vzdálenějších okolních stanic v letech 2008 – 2010. Patrná je významná akumulace v oblasti vyklápění sedimentů v porovnání s okolními stanice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Směrné hodnoty pro odtěžené nánosy a sedimenty - Německo, Nizozemí, MK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6840" y="0"/>
            <a:ext cx="90471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C9A8-EDFD-4EB7-A3B1-9E923ECB65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919080" y="357120"/>
            <a:ext cx="1152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33cc"/>
                </a:solidFill>
                <a:latin typeface="Arial"/>
              </a:rPr>
              <a:t>/ Pracovní skupina WF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6"/>
          <p:cNvSpPr/>
          <p:nvPr/>
        </p:nvSpPr>
        <p:spPr>
          <a:xfrm>
            <a:off x="6848640" y="263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33cc"/>
                </a:solidFill>
                <a:latin typeface="Arial"/>
              </a:rPr>
              <a:t>Příloh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33cc"/>
                </a:solidFill>
                <a:latin typeface="Arial"/>
              </a:rPr>
              <a:t>k předloze DEL_11-4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7"/>
          <p:cNvSpPr/>
          <p:nvPr/>
        </p:nvSpPr>
        <p:spPr>
          <a:xfrm>
            <a:off x="2143080" y="18446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cc"/>
                </a:solidFill>
                <a:latin typeface="Arial"/>
              </a:rPr>
              <a:t>Měření v plaveninách ke zjištění koncentrací p,p´D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8"/>
          <p:cNvSpPr/>
          <p:nvPr/>
        </p:nvSpPr>
        <p:spPr>
          <a:xfrm>
            <a:off x="4786200" y="2620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cc"/>
                </a:solidFill>
                <a:latin typeface="Arial"/>
              </a:rPr>
              <a:t>Labe, Hřensko/Schmilka, pravý bře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0"/>
          <p:cNvSpPr/>
          <p:nvPr/>
        </p:nvSpPr>
        <p:spPr>
          <a:xfrm>
            <a:off x="357120" y="228600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12"/>
          <p:cNvSpPr/>
          <p:nvPr/>
        </p:nvSpPr>
        <p:spPr>
          <a:xfrm rot="16200000">
            <a:off x="-1068480" y="3925800"/>
            <a:ext cx="3143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33cc"/>
                </a:solidFill>
                <a:latin typeface="Arial"/>
              </a:rPr>
              <a:t>Roční průměrné koncentrace v </a:t>
            </a:r>
            <a:r>
              <a:rPr b="0" lang="el-GR" sz="1300" spc="-1" strike="noStrike">
                <a:solidFill>
                  <a:srgbClr val="0033cc"/>
                </a:solidFill>
                <a:latin typeface="Arial"/>
              </a:rPr>
              <a:t>μ</a:t>
            </a:r>
            <a:r>
              <a:rPr b="0" lang="cs-CZ" sz="1300" spc="-1" strike="noStrike">
                <a:solidFill>
                  <a:srgbClr val="0033cc"/>
                </a:solidFill>
                <a:latin typeface="Arial"/>
              </a:rPr>
              <a:t>g/k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m 4" descr=""/>
          <p:cNvPicPr/>
          <p:nvPr/>
        </p:nvPicPr>
        <p:blipFill>
          <a:blip r:embed="rId1"/>
          <a:stretch/>
        </p:blipFill>
        <p:spPr>
          <a:xfrm>
            <a:off x="244440" y="901800"/>
            <a:ext cx="8655120" cy="5310000"/>
          </a:xfrm>
          <a:prstGeom prst="rect">
            <a:avLst/>
          </a:prstGeom>
          <a:ln w="0">
            <a:noFill/>
          </a:ln>
        </p:spPr>
      </p:pic>
      <p:sp>
        <p:nvSpPr>
          <p:cNvPr id="59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54F-4A8F-4B89-B81C-B39F58BF9B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agramm 3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7858080" cy="577224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267-BD16-4C40-A66F-33338275DA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ttelwerte p,p'-DDD + p,p'-DDT Süderelbe Bl.5</a:t>
            </a:r>
            <a:br>
              <a:rPr sz="2400"/>
            </a:br>
            <a:r>
              <a:rPr b="1" lang="cs-CZ" sz="2400" spc="-1" strike="noStrike">
                <a:solidFill>
                  <a:srgbClr val="0033cc"/>
                </a:solidFill>
                <a:latin typeface="Calibri"/>
              </a:rPr>
              <a:t>Průměrné hodnoty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p,p'-DDD + p,p'-DDT Süderelbe Bl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m 3" descr=""/>
          <p:cNvPicPr/>
          <p:nvPr/>
        </p:nvPicPr>
        <p:blipFill>
          <a:blip r:embed="rId1"/>
          <a:stretch/>
        </p:blipFill>
        <p:spPr>
          <a:xfrm>
            <a:off x="536400" y="1407960"/>
            <a:ext cx="8217000" cy="5194440"/>
          </a:xfrm>
          <a:prstGeom prst="rect">
            <a:avLst/>
          </a:prstGeom>
          <a:ln w="0">
            <a:noFill/>
          </a:ln>
        </p:spPr>
      </p:pic>
      <p:sp>
        <p:nvSpPr>
          <p:cNvPr id="64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CEA-C678-42F3-AB2C-D207B7E5D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amburger Hafe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cs-CZ" sz="2800" spc="-1" strike="noStrike">
                <a:solidFill>
                  <a:srgbClr val="0033cc"/>
                </a:solidFill>
                <a:latin typeface="Calibri"/>
              </a:rPr>
              <a:t>Hamburský přísta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123040" cy="4989240"/>
          </a:xfrm>
          <a:prstGeom prst="rect">
            <a:avLst/>
          </a:prstGeom>
          <a:ln w="0">
            <a:noFill/>
          </a:ln>
        </p:spPr>
      </p:pic>
      <p:sp>
        <p:nvSpPr>
          <p:cNvPr id="68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D3B7-1335-45F2-8400-635EF71085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6"/>
          <p:cNvSpPr/>
          <p:nvPr/>
        </p:nvSpPr>
        <p:spPr>
          <a:xfrm>
            <a:off x="4356000" y="3500280"/>
            <a:ext cx="360360" cy="8654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liennummernplatzhalt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A5DB-9644-4025-BE0B-5297D69F38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6" descr="Deutsche Estuare O_W klein.jpg"/>
          <p:cNvPicPr/>
          <p:nvPr/>
        </p:nvPicPr>
        <p:blipFill>
          <a:blip r:embed="rId1"/>
          <a:stretch/>
        </p:blipFill>
        <p:spPr>
          <a:xfrm>
            <a:off x="-95400" y="1085760"/>
            <a:ext cx="9239400" cy="5238720"/>
          </a:xfrm>
          <a:prstGeom prst="rect">
            <a:avLst/>
          </a:prstGeom>
          <a:ln w="0">
            <a:noFill/>
          </a:ln>
        </p:spPr>
      </p:pic>
      <p:sp>
        <p:nvSpPr>
          <p:cNvPr id="72" name="Textfeld 8"/>
          <p:cNvSpPr/>
          <p:nvPr/>
        </p:nvSpPr>
        <p:spPr>
          <a:xfrm>
            <a:off x="7962840" y="4838760"/>
            <a:ext cx="1181160" cy="9464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Hamburger Haf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Calibri"/>
              </a:rPr>
              <a:t>Hamburský příst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9"/>
          <p:cNvSpPr/>
          <p:nvPr/>
        </p:nvSpPr>
        <p:spPr>
          <a:xfrm>
            <a:off x="3357720" y="2171880"/>
            <a:ext cx="2071440" cy="3070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lbemündu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cs-CZ" sz="1400" spc="-1" strike="noStrike">
                <a:solidFill>
                  <a:srgbClr val="3333ff"/>
                </a:solidFill>
                <a:latin typeface="Calibri"/>
              </a:rPr>
              <a:t>ústí L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uppieren 19"/>
          <p:cNvGrpSpPr/>
          <p:nvPr/>
        </p:nvGrpSpPr>
        <p:grpSpPr>
          <a:xfrm>
            <a:off x="8439120" y="4127400"/>
            <a:ext cx="335160" cy="268560"/>
            <a:chOff x="8439120" y="4127400"/>
            <a:chExt cx="335160" cy="268560"/>
          </a:xfrm>
        </p:grpSpPr>
        <p:sp>
          <p:nvSpPr>
            <p:cNvPr id="75" name="Freihandform 16"/>
            <p:cNvSpPr/>
            <p:nvPr/>
          </p:nvSpPr>
          <p:spPr>
            <a:xfrm>
              <a:off x="8449920" y="4127400"/>
              <a:ext cx="324360" cy="39600"/>
            </a:xfrm>
            <a:custGeom>
              <a:avLst/>
              <a:gdLst/>
              <a:ahLst/>
              <a:rect l="l" t="t" r="r" b="b"/>
              <a:pathLst>
                <a:path w="323850" h="40481">
                  <a:moveTo>
                    <a:pt x="323850" y="18652"/>
                  </a:moveTo>
                  <a:cubicBezTo>
                    <a:pt x="298847" y="17660"/>
                    <a:pt x="273844" y="16668"/>
                    <a:pt x="257175" y="13890"/>
                  </a:cubicBezTo>
                  <a:cubicBezTo>
                    <a:pt x="240506" y="11112"/>
                    <a:pt x="235744" y="3968"/>
                    <a:pt x="223838" y="1984"/>
                  </a:cubicBezTo>
                  <a:cubicBezTo>
                    <a:pt x="211932" y="0"/>
                    <a:pt x="200025" y="794"/>
                    <a:pt x="185738" y="1984"/>
                  </a:cubicBezTo>
                  <a:cubicBezTo>
                    <a:pt x="171451" y="3174"/>
                    <a:pt x="152400" y="5555"/>
                    <a:pt x="138113" y="9127"/>
                  </a:cubicBezTo>
                  <a:cubicBezTo>
                    <a:pt x="123826" y="12699"/>
                    <a:pt x="112316" y="18653"/>
                    <a:pt x="100013" y="23415"/>
                  </a:cubicBezTo>
                  <a:cubicBezTo>
                    <a:pt x="87710" y="28177"/>
                    <a:pt x="77788" y="34924"/>
                    <a:pt x="64294" y="37702"/>
                  </a:cubicBezTo>
                  <a:cubicBezTo>
                    <a:pt x="50800" y="40480"/>
                    <a:pt x="29766" y="39687"/>
                    <a:pt x="19050" y="40084"/>
                  </a:cubicBezTo>
                  <a:cubicBezTo>
                    <a:pt x="8334" y="40481"/>
                    <a:pt x="4167" y="40282"/>
                    <a:pt x="0" y="40084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ihandform 17"/>
            <p:cNvSpPr/>
            <p:nvPr/>
          </p:nvSpPr>
          <p:spPr>
            <a:xfrm>
              <a:off x="8439120" y="4165560"/>
              <a:ext cx="163440" cy="230400"/>
            </a:xfrm>
            <a:custGeom>
              <a:avLst/>
              <a:gdLst/>
              <a:ahLst/>
              <a:rect l="l" t="t" r="r" b="b"/>
              <a:pathLst>
                <a:path w="164306" h="230982">
                  <a:moveTo>
                    <a:pt x="164306" y="230982"/>
                  </a:moveTo>
                  <a:cubicBezTo>
                    <a:pt x="154582" y="204589"/>
                    <a:pt x="144859" y="178197"/>
                    <a:pt x="140494" y="161925"/>
                  </a:cubicBezTo>
                  <a:cubicBezTo>
                    <a:pt x="136129" y="145653"/>
                    <a:pt x="139304" y="143669"/>
                    <a:pt x="138113" y="133350"/>
                  </a:cubicBezTo>
                  <a:cubicBezTo>
                    <a:pt x="136922" y="123031"/>
                    <a:pt x="134937" y="110728"/>
                    <a:pt x="133350" y="100013"/>
                  </a:cubicBezTo>
                  <a:cubicBezTo>
                    <a:pt x="131763" y="89298"/>
                    <a:pt x="130176" y="77788"/>
                    <a:pt x="128588" y="69057"/>
                  </a:cubicBezTo>
                  <a:cubicBezTo>
                    <a:pt x="127000" y="60326"/>
                    <a:pt x="128191" y="54769"/>
                    <a:pt x="123825" y="47625"/>
                  </a:cubicBezTo>
                  <a:cubicBezTo>
                    <a:pt x="119459" y="40481"/>
                    <a:pt x="109538" y="31750"/>
                    <a:pt x="102394" y="26194"/>
                  </a:cubicBezTo>
                  <a:cubicBezTo>
                    <a:pt x="95250" y="20638"/>
                    <a:pt x="88504" y="17860"/>
                    <a:pt x="80963" y="14288"/>
                  </a:cubicBezTo>
                  <a:cubicBezTo>
                    <a:pt x="73422" y="10716"/>
                    <a:pt x="70644" y="7144"/>
                    <a:pt x="57150" y="4763"/>
                  </a:cubicBezTo>
                  <a:cubicBezTo>
                    <a:pt x="43656" y="2382"/>
                    <a:pt x="21828" y="1191"/>
                    <a:pt x="0" y="0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ihandform 18"/>
            <p:cNvSpPr/>
            <p:nvPr/>
          </p:nvSpPr>
          <p:spPr>
            <a:xfrm>
              <a:off x="8559720" y="4146480"/>
              <a:ext cx="65160" cy="90360"/>
            </a:xfrm>
            <a:custGeom>
              <a:avLst/>
              <a:gdLst/>
              <a:ahLst/>
              <a:rect l="l" t="t" r="r" b="b"/>
              <a:pathLst>
                <a:path w="64294" h="90488">
                  <a:moveTo>
                    <a:pt x="64294" y="90488"/>
                  </a:moveTo>
                  <a:cubicBezTo>
                    <a:pt x="56356" y="65683"/>
                    <a:pt x="48418" y="40878"/>
                    <a:pt x="42862" y="28575"/>
                  </a:cubicBezTo>
                  <a:cubicBezTo>
                    <a:pt x="37306" y="16272"/>
                    <a:pt x="34131" y="19447"/>
                    <a:pt x="30956" y="16669"/>
                  </a:cubicBezTo>
                  <a:cubicBezTo>
                    <a:pt x="27781" y="13891"/>
                    <a:pt x="27781" y="14288"/>
                    <a:pt x="23812" y="11907"/>
                  </a:cubicBezTo>
                  <a:cubicBezTo>
                    <a:pt x="19843" y="9526"/>
                    <a:pt x="11113" y="4366"/>
                    <a:pt x="7144" y="2382"/>
                  </a:cubicBezTo>
                  <a:cubicBezTo>
                    <a:pt x="3175" y="398"/>
                    <a:pt x="1587" y="199"/>
                    <a:pt x="0" y="0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ihandform 21"/>
          <p:cNvSpPr/>
          <p:nvPr/>
        </p:nvSpPr>
        <p:spPr>
          <a:xfrm>
            <a:off x="7781760" y="4167360"/>
            <a:ext cx="667080" cy="15840"/>
          </a:xfrm>
          <a:custGeom>
            <a:avLst/>
            <a:gdLst/>
            <a:ahLst/>
            <a:rect l="l" t="t" r="r" b="b"/>
            <a:pathLst>
              <a:path w="666750" h="16668">
                <a:moveTo>
                  <a:pt x="0" y="9525"/>
                </a:moveTo>
                <a:lnTo>
                  <a:pt x="100013" y="9525"/>
                </a:lnTo>
                <a:cubicBezTo>
                  <a:pt x="132557" y="9525"/>
                  <a:pt x="165894" y="8731"/>
                  <a:pt x="195263" y="9525"/>
                </a:cubicBezTo>
                <a:cubicBezTo>
                  <a:pt x="224632" y="10319"/>
                  <a:pt x="248444" y="13493"/>
                  <a:pt x="276225" y="14287"/>
                </a:cubicBezTo>
                <a:cubicBezTo>
                  <a:pt x="304006" y="15081"/>
                  <a:pt x="361950" y="14287"/>
                  <a:pt x="361950" y="14287"/>
                </a:cubicBezTo>
                <a:lnTo>
                  <a:pt x="438150" y="14287"/>
                </a:lnTo>
                <a:lnTo>
                  <a:pt x="514350" y="14287"/>
                </a:lnTo>
                <a:cubicBezTo>
                  <a:pt x="532606" y="14287"/>
                  <a:pt x="522288" y="16668"/>
                  <a:pt x="547688" y="14287"/>
                </a:cubicBezTo>
                <a:cubicBezTo>
                  <a:pt x="573088" y="11906"/>
                  <a:pt x="666750" y="0"/>
                  <a:pt x="666750" y="0"/>
                </a:cubicBezTo>
                <a:lnTo>
                  <a:pt x="666750" y="0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ihandform 22"/>
          <p:cNvSpPr/>
          <p:nvPr/>
        </p:nvSpPr>
        <p:spPr>
          <a:xfrm>
            <a:off x="4014720" y="2577960"/>
            <a:ext cx="3762360" cy="1602000"/>
          </a:xfrm>
          <a:custGeom>
            <a:avLst/>
            <a:gdLst/>
            <a:ahLst/>
            <a:rect l="l" t="t" r="r" b="b"/>
            <a:pathLst>
              <a:path w="3762375" h="1600993">
                <a:moveTo>
                  <a:pt x="3762375" y="1598612"/>
                </a:moveTo>
                <a:lnTo>
                  <a:pt x="3595687" y="1598612"/>
                </a:lnTo>
                <a:cubicBezTo>
                  <a:pt x="3551237" y="1598612"/>
                  <a:pt x="3530600" y="1600993"/>
                  <a:pt x="3495675" y="1598612"/>
                </a:cubicBezTo>
                <a:cubicBezTo>
                  <a:pt x="3460750" y="1596231"/>
                  <a:pt x="3418681" y="1593055"/>
                  <a:pt x="3386137" y="1584324"/>
                </a:cubicBezTo>
                <a:cubicBezTo>
                  <a:pt x="3353593" y="1575593"/>
                  <a:pt x="3325812" y="1561305"/>
                  <a:pt x="3300412" y="1546224"/>
                </a:cubicBezTo>
                <a:cubicBezTo>
                  <a:pt x="3275012" y="1531143"/>
                  <a:pt x="3254374" y="1508124"/>
                  <a:pt x="3233737" y="1493837"/>
                </a:cubicBezTo>
                <a:cubicBezTo>
                  <a:pt x="3213100" y="1479550"/>
                  <a:pt x="3198812" y="1470024"/>
                  <a:pt x="3176587" y="1460499"/>
                </a:cubicBezTo>
                <a:cubicBezTo>
                  <a:pt x="3154362" y="1450974"/>
                  <a:pt x="3121818" y="1445418"/>
                  <a:pt x="3100387" y="1436687"/>
                </a:cubicBezTo>
                <a:cubicBezTo>
                  <a:pt x="3078956" y="1427956"/>
                  <a:pt x="3063081" y="1415256"/>
                  <a:pt x="3048000" y="1408112"/>
                </a:cubicBezTo>
                <a:cubicBezTo>
                  <a:pt x="3032919" y="1400968"/>
                  <a:pt x="3026569" y="1404936"/>
                  <a:pt x="3009900" y="1393824"/>
                </a:cubicBezTo>
                <a:cubicBezTo>
                  <a:pt x="2993231" y="1382712"/>
                  <a:pt x="2970212" y="1362868"/>
                  <a:pt x="2947987" y="1341437"/>
                </a:cubicBezTo>
                <a:cubicBezTo>
                  <a:pt x="2925762" y="1320006"/>
                  <a:pt x="2894806" y="1286668"/>
                  <a:pt x="2876550" y="1265237"/>
                </a:cubicBezTo>
                <a:cubicBezTo>
                  <a:pt x="2858294" y="1243806"/>
                  <a:pt x="2854325" y="1240630"/>
                  <a:pt x="2838450" y="1212849"/>
                </a:cubicBezTo>
                <a:cubicBezTo>
                  <a:pt x="2822575" y="1185068"/>
                  <a:pt x="2800350" y="1132680"/>
                  <a:pt x="2781300" y="1098549"/>
                </a:cubicBezTo>
                <a:cubicBezTo>
                  <a:pt x="2762250" y="1064418"/>
                  <a:pt x="2740025" y="1034256"/>
                  <a:pt x="2724150" y="1008062"/>
                </a:cubicBezTo>
                <a:cubicBezTo>
                  <a:pt x="2708275" y="981868"/>
                  <a:pt x="2700337" y="966787"/>
                  <a:pt x="2686050" y="941387"/>
                </a:cubicBezTo>
                <a:cubicBezTo>
                  <a:pt x="2671763" y="915987"/>
                  <a:pt x="2652712" y="875506"/>
                  <a:pt x="2638425" y="855662"/>
                </a:cubicBezTo>
                <a:cubicBezTo>
                  <a:pt x="2624138" y="835818"/>
                  <a:pt x="2613025" y="831849"/>
                  <a:pt x="2600325" y="822324"/>
                </a:cubicBezTo>
                <a:cubicBezTo>
                  <a:pt x="2587625" y="812799"/>
                  <a:pt x="2587625" y="808037"/>
                  <a:pt x="2562225" y="798512"/>
                </a:cubicBezTo>
                <a:cubicBezTo>
                  <a:pt x="2536825" y="788987"/>
                  <a:pt x="2474119" y="771524"/>
                  <a:pt x="2447925" y="765174"/>
                </a:cubicBezTo>
                <a:cubicBezTo>
                  <a:pt x="2421731" y="758824"/>
                  <a:pt x="2424112" y="771524"/>
                  <a:pt x="2405062" y="760412"/>
                </a:cubicBezTo>
                <a:cubicBezTo>
                  <a:pt x="2386012" y="749300"/>
                  <a:pt x="2355056" y="722311"/>
                  <a:pt x="2333625" y="698499"/>
                </a:cubicBezTo>
                <a:cubicBezTo>
                  <a:pt x="2312194" y="674687"/>
                  <a:pt x="2299494" y="646112"/>
                  <a:pt x="2276475" y="617537"/>
                </a:cubicBezTo>
                <a:cubicBezTo>
                  <a:pt x="2253456" y="588962"/>
                  <a:pt x="2222500" y="562768"/>
                  <a:pt x="2195512" y="527049"/>
                </a:cubicBezTo>
                <a:cubicBezTo>
                  <a:pt x="2168525" y="491330"/>
                  <a:pt x="2132806" y="437355"/>
                  <a:pt x="2114550" y="403224"/>
                </a:cubicBezTo>
                <a:cubicBezTo>
                  <a:pt x="2096294" y="369093"/>
                  <a:pt x="2097087" y="351631"/>
                  <a:pt x="2085975" y="322262"/>
                </a:cubicBezTo>
                <a:cubicBezTo>
                  <a:pt x="2074863" y="292893"/>
                  <a:pt x="2068513" y="252412"/>
                  <a:pt x="2047875" y="227012"/>
                </a:cubicBezTo>
                <a:cubicBezTo>
                  <a:pt x="2027237" y="201612"/>
                  <a:pt x="1997075" y="188912"/>
                  <a:pt x="1962150" y="169862"/>
                </a:cubicBezTo>
                <a:cubicBezTo>
                  <a:pt x="1927225" y="150812"/>
                  <a:pt x="1881981" y="131762"/>
                  <a:pt x="1838325" y="112712"/>
                </a:cubicBezTo>
                <a:cubicBezTo>
                  <a:pt x="1794669" y="93662"/>
                  <a:pt x="1700212" y="55562"/>
                  <a:pt x="1700212" y="55562"/>
                </a:cubicBezTo>
                <a:cubicBezTo>
                  <a:pt x="1658143" y="38100"/>
                  <a:pt x="1624806" y="15874"/>
                  <a:pt x="1585912" y="7937"/>
                </a:cubicBezTo>
                <a:cubicBezTo>
                  <a:pt x="1547018" y="0"/>
                  <a:pt x="1508125" y="7143"/>
                  <a:pt x="1466850" y="7937"/>
                </a:cubicBezTo>
                <a:cubicBezTo>
                  <a:pt x="1425575" y="8731"/>
                  <a:pt x="1389062" y="8730"/>
                  <a:pt x="1338262" y="12699"/>
                </a:cubicBezTo>
                <a:cubicBezTo>
                  <a:pt x="1287462" y="16668"/>
                  <a:pt x="1215231" y="24605"/>
                  <a:pt x="1162050" y="31749"/>
                </a:cubicBezTo>
                <a:cubicBezTo>
                  <a:pt x="1108869" y="38893"/>
                  <a:pt x="1060450" y="44450"/>
                  <a:pt x="1019175" y="55562"/>
                </a:cubicBezTo>
                <a:cubicBezTo>
                  <a:pt x="977900" y="66674"/>
                  <a:pt x="950119" y="80168"/>
                  <a:pt x="914400" y="98424"/>
                </a:cubicBezTo>
                <a:cubicBezTo>
                  <a:pt x="878681" y="116680"/>
                  <a:pt x="844549" y="142080"/>
                  <a:pt x="804862" y="165099"/>
                </a:cubicBezTo>
                <a:cubicBezTo>
                  <a:pt x="765175" y="188118"/>
                  <a:pt x="719138" y="211931"/>
                  <a:pt x="676275" y="236537"/>
                </a:cubicBezTo>
                <a:cubicBezTo>
                  <a:pt x="633412" y="261143"/>
                  <a:pt x="601662" y="289718"/>
                  <a:pt x="547687" y="312737"/>
                </a:cubicBezTo>
                <a:cubicBezTo>
                  <a:pt x="493712" y="335756"/>
                  <a:pt x="352425" y="374649"/>
                  <a:pt x="352425" y="374649"/>
                </a:cubicBezTo>
                <a:cubicBezTo>
                  <a:pt x="291306" y="394493"/>
                  <a:pt x="239713" y="418305"/>
                  <a:pt x="180975" y="431799"/>
                </a:cubicBezTo>
                <a:cubicBezTo>
                  <a:pt x="122237" y="445293"/>
                  <a:pt x="61118" y="450452"/>
                  <a:pt x="0" y="455612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ihandform 23"/>
          <p:cNvSpPr/>
          <p:nvPr/>
        </p:nvSpPr>
        <p:spPr>
          <a:xfrm>
            <a:off x="1766880" y="2257560"/>
            <a:ext cx="2257560" cy="784080"/>
          </a:xfrm>
          <a:custGeom>
            <a:avLst/>
            <a:gdLst/>
            <a:ahLst/>
            <a:rect l="l" t="t" r="r" b="b"/>
            <a:pathLst>
              <a:path w="2257425" h="784225">
                <a:moveTo>
                  <a:pt x="2257425" y="776288"/>
                </a:moveTo>
                <a:cubicBezTo>
                  <a:pt x="2234803" y="778272"/>
                  <a:pt x="2212181" y="780256"/>
                  <a:pt x="2185987" y="781050"/>
                </a:cubicBezTo>
                <a:cubicBezTo>
                  <a:pt x="2159793" y="781844"/>
                  <a:pt x="2127250" y="784225"/>
                  <a:pt x="2100262" y="781050"/>
                </a:cubicBezTo>
                <a:cubicBezTo>
                  <a:pt x="2073274" y="777875"/>
                  <a:pt x="2051843" y="771525"/>
                  <a:pt x="2024062" y="762000"/>
                </a:cubicBezTo>
                <a:cubicBezTo>
                  <a:pt x="1996281" y="752475"/>
                  <a:pt x="1961356" y="741362"/>
                  <a:pt x="1933575" y="723900"/>
                </a:cubicBezTo>
                <a:cubicBezTo>
                  <a:pt x="1905794" y="706438"/>
                  <a:pt x="1857375" y="657225"/>
                  <a:pt x="1857375" y="657225"/>
                </a:cubicBezTo>
                <a:cubicBezTo>
                  <a:pt x="1831181" y="634206"/>
                  <a:pt x="1802606" y="611188"/>
                  <a:pt x="1776412" y="585788"/>
                </a:cubicBezTo>
                <a:cubicBezTo>
                  <a:pt x="1750218" y="560388"/>
                  <a:pt x="1727993" y="533400"/>
                  <a:pt x="1700212" y="504825"/>
                </a:cubicBezTo>
                <a:cubicBezTo>
                  <a:pt x="1672431" y="476250"/>
                  <a:pt x="1643062" y="445294"/>
                  <a:pt x="1609725" y="414338"/>
                </a:cubicBezTo>
                <a:cubicBezTo>
                  <a:pt x="1576388" y="383382"/>
                  <a:pt x="1535112" y="351632"/>
                  <a:pt x="1500187" y="319088"/>
                </a:cubicBezTo>
                <a:cubicBezTo>
                  <a:pt x="1465262" y="286544"/>
                  <a:pt x="1434306" y="252412"/>
                  <a:pt x="1400175" y="219075"/>
                </a:cubicBezTo>
                <a:cubicBezTo>
                  <a:pt x="1366044" y="185738"/>
                  <a:pt x="1331912" y="143669"/>
                  <a:pt x="1295400" y="119063"/>
                </a:cubicBezTo>
                <a:cubicBezTo>
                  <a:pt x="1258888" y="94457"/>
                  <a:pt x="1221581" y="80169"/>
                  <a:pt x="1181100" y="71438"/>
                </a:cubicBezTo>
                <a:cubicBezTo>
                  <a:pt x="1140619" y="62707"/>
                  <a:pt x="1102518" y="67469"/>
                  <a:pt x="1052512" y="66675"/>
                </a:cubicBezTo>
                <a:cubicBezTo>
                  <a:pt x="1002506" y="65881"/>
                  <a:pt x="935831" y="68263"/>
                  <a:pt x="881062" y="66675"/>
                </a:cubicBezTo>
                <a:cubicBezTo>
                  <a:pt x="826293" y="65088"/>
                  <a:pt x="792162" y="58737"/>
                  <a:pt x="723900" y="57150"/>
                </a:cubicBezTo>
                <a:cubicBezTo>
                  <a:pt x="655638" y="55563"/>
                  <a:pt x="555624" y="60325"/>
                  <a:pt x="471487" y="57150"/>
                </a:cubicBezTo>
                <a:cubicBezTo>
                  <a:pt x="387350" y="53975"/>
                  <a:pt x="297656" y="47625"/>
                  <a:pt x="219075" y="38100"/>
                </a:cubicBezTo>
                <a:cubicBezTo>
                  <a:pt x="140494" y="28575"/>
                  <a:pt x="200819" y="27781"/>
                  <a:pt x="0" y="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Grafik 24" descr="Monitoring.jpg"/>
          <p:cNvPicPr/>
          <p:nvPr/>
        </p:nvPicPr>
        <p:blipFill>
          <a:blip r:embed="rId2"/>
          <a:stretch/>
        </p:blipFill>
        <p:spPr>
          <a:xfrm>
            <a:off x="-407880" y="2322360"/>
            <a:ext cx="5864040" cy="3542040"/>
          </a:xfrm>
          <a:prstGeom prst="rect">
            <a:avLst/>
          </a:prstGeom>
          <a:ln w="0">
            <a:noFill/>
          </a:ln>
        </p:spPr>
      </p:pic>
      <p:sp>
        <p:nvSpPr>
          <p:cNvPr id="82" name="Textfeld 7"/>
          <p:cNvSpPr/>
          <p:nvPr/>
        </p:nvSpPr>
        <p:spPr>
          <a:xfrm>
            <a:off x="214200" y="1557360"/>
            <a:ext cx="1643040" cy="3070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Tonne E3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  /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bóje 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ihandform 27"/>
          <p:cNvSpPr/>
          <p:nvPr/>
        </p:nvSpPr>
        <p:spPr>
          <a:xfrm>
            <a:off x="592200" y="1936800"/>
            <a:ext cx="1177920" cy="315720"/>
          </a:xfrm>
          <a:custGeom>
            <a:avLst/>
            <a:gdLst/>
            <a:ahLst/>
            <a:rect l="l" t="t" r="r" b="b"/>
            <a:pathLst>
              <a:path w="2257425" h="784225">
                <a:moveTo>
                  <a:pt x="2257425" y="776288"/>
                </a:moveTo>
                <a:cubicBezTo>
                  <a:pt x="2234803" y="778272"/>
                  <a:pt x="2212181" y="780256"/>
                  <a:pt x="2185987" y="781050"/>
                </a:cubicBezTo>
                <a:cubicBezTo>
                  <a:pt x="2159793" y="781844"/>
                  <a:pt x="2127250" y="784225"/>
                  <a:pt x="2100262" y="781050"/>
                </a:cubicBezTo>
                <a:cubicBezTo>
                  <a:pt x="2073274" y="777875"/>
                  <a:pt x="2051843" y="771525"/>
                  <a:pt x="2024062" y="762000"/>
                </a:cubicBezTo>
                <a:cubicBezTo>
                  <a:pt x="1996281" y="752475"/>
                  <a:pt x="1961356" y="741362"/>
                  <a:pt x="1933575" y="723900"/>
                </a:cubicBezTo>
                <a:cubicBezTo>
                  <a:pt x="1905794" y="706438"/>
                  <a:pt x="1857375" y="657225"/>
                  <a:pt x="1857375" y="657225"/>
                </a:cubicBezTo>
                <a:cubicBezTo>
                  <a:pt x="1831181" y="634206"/>
                  <a:pt x="1802606" y="611188"/>
                  <a:pt x="1776412" y="585788"/>
                </a:cubicBezTo>
                <a:cubicBezTo>
                  <a:pt x="1750218" y="560388"/>
                  <a:pt x="1727993" y="533400"/>
                  <a:pt x="1700212" y="504825"/>
                </a:cubicBezTo>
                <a:cubicBezTo>
                  <a:pt x="1672431" y="476250"/>
                  <a:pt x="1643062" y="445294"/>
                  <a:pt x="1609725" y="414338"/>
                </a:cubicBezTo>
                <a:cubicBezTo>
                  <a:pt x="1576388" y="383382"/>
                  <a:pt x="1535112" y="351632"/>
                  <a:pt x="1500187" y="319088"/>
                </a:cubicBezTo>
                <a:cubicBezTo>
                  <a:pt x="1465262" y="286544"/>
                  <a:pt x="1434306" y="252412"/>
                  <a:pt x="1400175" y="219075"/>
                </a:cubicBezTo>
                <a:cubicBezTo>
                  <a:pt x="1366044" y="185738"/>
                  <a:pt x="1331912" y="143669"/>
                  <a:pt x="1295400" y="119063"/>
                </a:cubicBezTo>
                <a:cubicBezTo>
                  <a:pt x="1258888" y="94457"/>
                  <a:pt x="1221581" y="80169"/>
                  <a:pt x="1181100" y="71438"/>
                </a:cubicBezTo>
                <a:cubicBezTo>
                  <a:pt x="1140619" y="62707"/>
                  <a:pt x="1102518" y="67469"/>
                  <a:pt x="1052512" y="66675"/>
                </a:cubicBezTo>
                <a:cubicBezTo>
                  <a:pt x="1002506" y="65881"/>
                  <a:pt x="935831" y="68263"/>
                  <a:pt x="881062" y="66675"/>
                </a:cubicBezTo>
                <a:cubicBezTo>
                  <a:pt x="826293" y="65088"/>
                  <a:pt x="792162" y="58737"/>
                  <a:pt x="723900" y="57150"/>
                </a:cubicBezTo>
                <a:cubicBezTo>
                  <a:pt x="655638" y="55563"/>
                  <a:pt x="555624" y="60325"/>
                  <a:pt x="471487" y="57150"/>
                </a:cubicBezTo>
                <a:cubicBezTo>
                  <a:pt x="387350" y="53975"/>
                  <a:pt x="297656" y="47625"/>
                  <a:pt x="219075" y="38100"/>
                </a:cubicBezTo>
                <a:cubicBezTo>
                  <a:pt x="140494" y="28575"/>
                  <a:pt x="200819" y="27781"/>
                  <a:pt x="0" y="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272880" y="214200"/>
            <a:ext cx="5513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edimentverbringung in die Nordsee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/ </a:t>
            </a:r>
            <a:br>
              <a:rPr sz="2400"/>
            </a:br>
            <a:r>
              <a:rPr b="1" lang="cs-CZ" sz="2400" spc="-1" strike="noStrike">
                <a:solidFill>
                  <a:srgbClr val="0033cc"/>
                </a:solidFill>
                <a:latin typeface="Calibri"/>
              </a:rPr>
              <a:t>Ukládání sedimentů do Severního mo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7:35:36Z</dcterms:created>
  <dc:creator>axel netzband / Marie Matulíková</dc:creator>
  <dc:description/>
  <dc:language>en-US</dc:language>
  <cp:lastModifiedBy>ladislav</cp:lastModifiedBy>
  <dcterms:modified xsi:type="dcterms:W3CDTF">2011-08-04T11:39:27Z</dcterms:modified>
  <cp:revision>93</cp:revision>
  <dc:subject/>
  <dc:title>DDx in Sedimenten / v sedimentech </dc:title>
</cp:coreProperties>
</file>