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AE4-16D9-44E2-B782-7C5D6DAF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415C-5440-4F28-A55F-97778B2E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788-5E18-4025-83B2-ED5243E48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10C3-C1BB-4DB0-A1F0-569DBCBA8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4809C-5D01-4D0B-AB6C-5618314D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B7929-2CE6-4F6E-8113-D4D564AF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3A3D3-3F8D-435F-A2C6-2B9D7D21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7D5C8-D6A1-4E45-BE04-67C7BD90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A6604-8D6A-4CE4-A060-5684D813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167E3-CDAD-4C41-8073-49F69BBB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2A8EB-1D5C-4716-8C41-1536C61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A1B3-42DA-4CF0-92D5-E09516B1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F7B09-706A-4FCC-AB9C-D9579873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BB94D-85BA-49F1-BF44-DFDE4D86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08617-1459-49C5-9CA5-C1E02A43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64B5-AE62-4A49-BEBF-0C334E93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4712-C69B-488D-84C2-DC7AC775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E64-2E79-4664-887F-A8EE0BC7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73BD-4996-4CCF-8C20-C4A60142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799-E826-4483-98A1-46103A50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B586-B736-48DC-8F5D-99971B88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C61-380E-45CF-9924-22FECFA7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F89-2134-4BAE-A69D-4CBD9574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060-DF7E-413F-A433-0E6D3D79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9C4C-956E-494A-9830-9D989E9801E6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B5A3-954E-413F-8542-28B9D5D06315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30E9-57DC-4A15-81AF-566B420E3B1A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848E-8F10-433F-B20C-8BF09F63C907}" type="datetime">
              <a:rPr b="0" lang="cs-CZ" sz="1400" spc="-1" strike="noStrike">
                <a:solidFill>
                  <a:srgbClr val="ffffff"/>
                </a:solidFill>
                <a:latin typeface="Arial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la.cz/planet/projects/akmekmLabe/" TargetMode="External"/><Relationship Id="rId3" Type="http://schemas.openxmlformats.org/officeDocument/2006/relationships/hyperlink" Target="http://www.pla.cz/planet/projects/akmekmLabe/" TargetMode="External"/><Relationship Id="rId4" Type="http://schemas.openxmlformats.org/officeDocument/2006/relationships/hyperlink" Target="http://www.pla.cz/planet/projects/akmekmLabe/" TargetMode="External"/><Relationship Id="rId5" Type="http://schemas.openxmlformats.org/officeDocument/2006/relationships/hyperlink" Target="http://www.pla.cz/planet/projects/akmekmLabe/" TargetMode="External"/><Relationship Id="rId6" Type="http://schemas.openxmlformats.org/officeDocument/2006/relationships/hyperlink" Target="http://www.pla.cz/planet/projects/akmekmLabe/" TargetMode="External"/><Relationship Id="rId7" Type="http://schemas.openxmlformats.org/officeDocument/2006/relationships/hyperlink" Target="http://www.pla.cz/planet/projects/akmekmLabe/" TargetMode="External"/><Relationship Id="rId8" Type="http://schemas.openxmlformats.org/officeDocument/2006/relationships/hyperlink" Target="http://www.pla.cz/planet/projects/akmekmLabe/" TargetMode="External"/><Relationship Id="rId9" Type="http://schemas.openxmlformats.org/officeDocument/2006/relationships/hyperlink" Target="http://www.pla.cz/planet/projects/akmekmLabe/vybraneobjekty.htm" TargetMode="External"/><Relationship Id="rId10" Type="http://schemas.openxmlformats.org/officeDocument/2006/relationships/hyperlink" Target="http://www.pla.cz/planet/projects/akmekmLabe/vybraneobjekty.htm" TargetMode="External"/><Relationship Id="rId11" Type="http://schemas.openxmlformats.org/officeDocument/2006/relationships/hyperlink" Target="http://www.pla.cz/planet/projects/akmekmLabe/vybraneobjekty.htm" TargetMode="External"/><Relationship Id="rId12" Type="http://schemas.openxmlformats.org/officeDocument/2006/relationships/hyperlink" Target="http://www.pla.cz/planet/projects/akmekmLabe/vybraneobjekty.htm" TargetMode="External"/><Relationship Id="rId13" Type="http://schemas.openxmlformats.org/officeDocument/2006/relationships/hyperlink" Target="http://www.pla.cz/planet/projects/akmekmLabe/vybraneobjekty.htm" TargetMode="External"/><Relationship Id="rId14" Type="http://schemas.openxmlformats.org/officeDocument/2006/relationships/hyperlink" Target="http://www.pla.cz/planet/projects/akmekmLabe/vybraneobjekty.htm" TargetMode="External"/><Relationship Id="rId15" Type="http://schemas.openxmlformats.org/officeDocument/2006/relationships/hyperlink" Target="http://www.pla.cz/planet/projects/akmekmLabe/vybraneobjekty.htm" TargetMode="External"/><Relationship Id="rId16" Type="http://schemas.openxmlformats.org/officeDocument/2006/relationships/hyperlink" Target="http://www.pla.cz/planet/projects/akmekmLabe/vybraneobjekty.htm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lavdis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BOD 9 Nová kilometráž Labe informace o zavedení v prax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g. Staněk P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09880" y="5105520"/>
          <a:ext cx="1533600" cy="10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105520"/>
                    <a:ext cx="153360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6871E5-DDF9-4566-B952-90427D0BCA4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0DF5565B-1533-4222-9A3D-5236C95DE5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Realizace značení labské vodní cesty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648320" y="2438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8DF8-6138-45DD-A914-44F0246D4B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29284-8E30-480B-BE39-38CAF85B8B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Realizace značení labské vodní cesty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2438280"/>
            <a:ext cx="4038840" cy="30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1D1-3025-4D6B-A519-A1485C820C4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94982-D32A-4104-BEFA-CC71C0D7D3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g. Staněk P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809880" y="5105520"/>
          <a:ext cx="1533600" cy="107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9880" y="5105520"/>
                    <a:ext cx="153360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9960F-E553-4D78-A2A9-EA5F7D7A9F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01CE9377-1D0D-4B91-B68C-2F7CC230B4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Shrnutí příprav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523880"/>
            <a:ext cx="7729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3/2006 … MKOL DATA – stanovení pravidel a postupu příprav na jednotnou kilometráž Labe v Č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07 … dohoda o využití jednotné kilometráže s KM=0 v Severním moři mezi zástupci ŘVC, SPS a Povodím La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08 … novelizace zákona č. 114/1995 Sb., o vnitrozemské plavbě č. 309/2008 s účinností od 1.1.20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4FF-0384-4159-9DCA-2F4C281BA43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9E656-BADA-43A0-A68E-C37B10A8F3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7/2008 Povodí Labe (P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konzervování původní kilometráže Labe jako historick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B přepis hodnot kilometráže u všech objektů na Labi na novou evropskou kilometráž (GIS, ISyPo, 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tvorba webové aplikace pro přepočet kilometráže původní na novou a opačně</a:t>
            </a:r>
            <a:br>
              <a:rPr sz="2400"/>
            </a:b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pla.cz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/planet/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5"/>
              </a:rPr>
              <a:t>projects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6"/>
              </a:rPr>
              <a:t>/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7"/>
              </a:rPr>
              <a:t>akmekmLabe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8"/>
              </a:rPr>
              <a:t>/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sentace tabulky jezů a mostů na Labi s novou i historickými kilometrážemi (vč. plavební)</a:t>
            </a:r>
            <a:br>
              <a:rPr sz="2400"/>
            </a:b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9"/>
              </a:rPr>
              <a:t>http://www.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10"/>
              </a:rPr>
              <a:t>pla.cz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11"/>
              </a:rPr>
              <a:t>/planet/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12"/>
              </a:rPr>
              <a:t>projects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13"/>
              </a:rPr>
              <a:t>/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14"/>
              </a:rPr>
              <a:t>akmekmLabe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15"/>
              </a:rPr>
              <a:t>/</a:t>
            </a: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16"/>
              </a:rPr>
              <a:t>vybraneobjekty.ht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D40-9863-416D-9ECC-F2920CF928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E6A10-4B6D-454F-A25C-525AE6119C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8442360" cy="6745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5E2-7686-42E3-9756-E15F100116D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EBDDF-6FE4-4DE4-8787-F4125D88F3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ahoma"/>
              </a:rPr>
              <a:t>Realiz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00400" y="152280"/>
            <a:ext cx="5754600" cy="6232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1447920"/>
            <a:ext cx="2971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2009 Státní plavební správa (SP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měna v digitálních plavebních mapách</a:t>
            </a:r>
            <a:br>
              <a:rPr sz="2800"/>
            </a:br>
            <a:r>
              <a:rPr b="0" lang="cs-CZ" sz="1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lavdis.cz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952880" y="152280"/>
            <a:ext cx="2743200" cy="1676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152280"/>
            <a:ext cx="609840" cy="5639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D6AA-4718-476B-8221-FC97F637B9D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DE7C4-B23E-4714-B41B-2B598DF5E1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520" y="76320"/>
            <a:ext cx="36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http://mapy.spspraha.cz/public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5353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5562720" y="152280"/>
            <a:ext cx="2133360" cy="228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3C0-5165-4838-B79A-EC8C1F03F2D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97325-311B-499C-8C4D-7909878A5B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Realizace značení labské vodní cesty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investor: Ředitelství vodních cest ČR (ŘV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avební dozor: Povodí Labe, státní podn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ojektant:  PÖYRY Enviroment, a.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davatel: Labská strojní a stavební, s.r.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Do konce letošního roku bude akce dokončena až po Kunětice, tj. v celém úseku významné využívané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vodní ces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4C9-DD14-42D1-8088-E06C498885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55830-8610-4D6F-B415-F5CB9B3884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Realizace značení labské vodní cesty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648320" y="2448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8D3-BB5D-4CE1-8F1F-50D9B048024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8CA7E-0C1E-4CB6-9288-44C6E447A6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58200" cy="138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Realizace značení labské vodní cesty</a:t>
            </a:r>
            <a:br>
              <a:rPr sz="4000"/>
            </a:b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2008-20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" y="2448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48320" y="2448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ovodí Labe, státní podni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78F-67EC-45F9-8257-36A50FA347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3FC24-326A-4EBD-BFB3-15839F15FF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něk Pavel</cp:lastModifiedBy>
  <dcterms:modified xsi:type="dcterms:W3CDTF">2010-05-26T13:01:3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9</vt:r8>
  </property>
  <property fmtid="{D5CDD505-2E9C-101B-9397-08002B2CF9AE}" pid="3" name="Version">
    <vt:r8>3</vt:r8>
  </property>
</Properties>
</file>