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CFE-3A35-4156-97E1-78117A2E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FE0-8C9D-413E-B07A-A728AFA9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806-5248-47A3-9661-BA219718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34B-F2EA-468B-A3F9-EACE7444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7EB-3286-40B3-844E-65494D02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418-1EA4-49AD-ABB0-22905C2E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05D-6C1E-42D8-ADC4-0841F62F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FDF-29AE-4C21-95C3-DB18B9E2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3C6-0998-4BAB-8D1A-4ABF080F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320-0186-4DA0-B289-772B4D9E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09B-3DFD-4F6A-9B8A-F78D7519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B7D-BC43-4279-A7B6-5B319B58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9B68-A674-4656-B0C5-AA3453364D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ußzeilenplatzhalt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C:\Documents and Settings\user\Dokumenty\Dokumenty\GIS\Labe\11data_03_09\P10004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3333cc"/>
                </a:solidFill>
                <a:latin typeface="Times New Roman"/>
              </a:rPr>
              <a:t>WFD Geoportal</a:t>
            </a:r>
            <a:br>
              <a:rPr sz="4400"/>
            </a:br>
            <a:r>
              <a:rPr b="1" lang="en-PH" sz="4400" spc="-1" strike="noStrike">
                <a:solidFill>
                  <a:srgbClr val="3333cc"/>
                </a:solidFill>
                <a:latin typeface="Times New Roman"/>
              </a:rPr>
              <a:t>of the Czech Repub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Preliminary report concerning the technological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ality under solu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ata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data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esentation on nationa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esentation on international and European level (WISE uplo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ata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3200" spc="-1" strike="noStrike">
                <a:solidFill>
                  <a:srgbClr val="3333cc"/>
                </a:solidFill>
                <a:latin typeface="Times New Roman"/>
              </a:rPr>
              <a:t>XML plat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602XML Forms  -&gt;  602XML Server  -&gt;  DBM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ew!!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200" spc="-1" strike="noStrike">
                <a:solidFill>
                  <a:srgbClr val="000000"/>
                </a:solidFill>
                <a:latin typeface="Times New Roman"/>
              </a:rPr>
              <a:t>Valid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200" spc="-1" strike="noStrike">
                <a:solidFill>
                  <a:srgbClr val="000000"/>
                </a:solidFill>
                <a:latin typeface="Times New Roman"/>
              </a:rPr>
              <a:t>Overlapping, composition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tribut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Postgre, MS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  <a:ea typeface="Calibri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atial data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Opensource, Intergraph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  <a:ea typeface="Calibri"/>
              </a:rPr>
              <a:t>ESRI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ArcG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ata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ttribu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(rec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 Database 11g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XML Developer K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 Developer Tools for Visual Studio .NE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VB, C++,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#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 JDeveloper (JAVA  J2SE, JD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Zend Core for Oracle (PH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 APPEX (Oracle Application Exp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DF expor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tada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XMP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patial data/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rcGI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esentation on national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  <a:ea typeface="Calibri"/>
              </a:rPr>
              <a:t>WEB Services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  <a:ea typeface="Calibri"/>
              </a:rPr>
              <a:t> WEB Map Servic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ternatives of localization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WS + W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WS) / Cenia (W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Cenia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WS + WMS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4400" spc="-1" strike="noStrike">
                <a:solidFill>
                  <a:srgbClr val="3333cc"/>
                </a:solidFill>
                <a:latin typeface="Times New Roman"/>
              </a:rPr>
              <a:t>Data processing – atribute data,     </a:t>
            </a:r>
            <a:br>
              <a:rPr sz="4400"/>
            </a:br>
            <a:r>
              <a:rPr b="1" lang="en-BZ" sz="4400" spc="-1" strike="noStrike">
                <a:solidFill>
                  <a:srgbClr val="3333cc"/>
                </a:solidFill>
                <a:latin typeface="Times New Roman"/>
              </a:rPr>
              <a:t>                     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Light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We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ynami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 view into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unctionali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ußzeilenplatzhalt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cc"/>
                </a:solidFill>
                <a:latin typeface="Times New Roman"/>
              </a:rPr>
              <a:t>Data processing -Grap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977400" y="273384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rcGIS Deskto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049760" y="207648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Heavy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ußzeilenplatzhalt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80880" y="1166760"/>
            <a:ext cx="84344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cs-CZ" sz="4400" spc="-1" strike="noStrike">
                <a:solidFill>
                  <a:srgbClr val="3333cc"/>
                </a:solidFill>
                <a:latin typeface="Times New Roman"/>
                <a:ea typeface="Calibri"/>
              </a:rPr>
              <a:t>E</a:t>
            </a:r>
            <a:r>
              <a:rPr b="1" lang="cs-CZ" sz="4400" spc="-1" strike="noStrike">
                <a:solidFill>
                  <a:srgbClr val="3333cc"/>
                </a:solidFill>
                <a:latin typeface="Times New Roman"/>
              </a:rPr>
              <a:t>C - WISE rep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XML platform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ASSERB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ata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atial data/Graphics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*.shp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5:08:58Z</dcterms:created>
  <dc:creator>user</dc:creator>
  <dc:description/>
  <dc:language>en-US</dc:language>
  <cp:lastModifiedBy>IKSE</cp:lastModifiedBy>
  <dcterms:modified xsi:type="dcterms:W3CDTF">2009-03-25T15:13:27Z</dcterms:modified>
  <cp:revision>5</cp:revision>
  <dc:subject/>
  <dc:title>WFD Geoportal of the Czech Republic</dc:title>
</cp:coreProperties>
</file>