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95BC-9CC1-40B9-9D4B-C52C504CD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37767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CE59-8B2D-40E0-B446-2081392FC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72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06A5-C160-4096-ABCE-9AF43E4CC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6720" y="9907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0280" y="9907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37767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6720" y="37767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0280" y="37767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4D46-683C-4CBB-87D8-5F494750A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03548-7D36-4E21-8DBC-15807AF01B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1202C-92D1-4AEF-A979-400B1D21D9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19417-E2A6-4E53-9700-B9197E93C3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471E6-F030-4B0C-A267-5E9D9C065B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4D459-FE4E-4429-960B-55B13106C5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65328-E316-4D05-9EE5-6BA7EED226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9EDC7-BADE-405C-8AE6-046B4450D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C25F5-1880-402E-BEFD-E4E295BFD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72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FF241-0EA6-4DF1-AD92-3EF7B9CB30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7767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59DB0-B273-4F6A-8A90-0E3DDDB735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160" y="37767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DFF5D-9EDD-400A-864D-EECF6F085F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472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7AEC4-811A-4A16-BE28-3F5E1213AA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6720" y="9907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40280" y="9907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160" y="37767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6720" y="37767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40280" y="37767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62043-9181-43B2-8326-D5A64A9523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18D8D-5234-46FE-9ED4-E873BC9C3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9F46-7036-4427-97A1-2A466E286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6CBA-84E8-48DD-8DFC-1E4C744A8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8A46-ACE1-4007-BC12-F94163AC0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B2C4D-4037-4A66-B444-168A7E6A3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720" y="37767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0DB0-E0EC-4421-A6D1-2A33F0F77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720" y="9907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7767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5BE3-6BCE-4D73-AE07-439FE4439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535960" y="235080"/>
            <a:ext cx="609480" cy="488880"/>
            <a:chOff x="8535960" y="235080"/>
            <a:chExt cx="609480" cy="488880"/>
          </a:xfrm>
        </p:grpSpPr>
        <p:sp>
          <p:nvSpPr>
            <p:cNvPr id="1" name=""/>
            <p:cNvSpPr/>
            <p:nvPr/>
          </p:nvSpPr>
          <p:spPr>
            <a:xfrm>
              <a:off x="8535960" y="519120"/>
              <a:ext cx="609480" cy="204840"/>
            </a:xfrm>
            <a:custGeom>
              <a:avLst/>
              <a:gdLst/>
              <a:ahLst/>
              <a:rect l="l" t="t" r="r" b="b"/>
              <a:pathLst>
                <a:path w="384" h="129">
                  <a:moveTo>
                    <a:pt x="0" y="128"/>
                  </a:moveTo>
                  <a:lnTo>
                    <a:pt x="97" y="128"/>
                  </a:lnTo>
                  <a:lnTo>
                    <a:pt x="110" y="96"/>
                  </a:lnTo>
                  <a:lnTo>
                    <a:pt x="383" y="96"/>
                  </a:lnTo>
                  <a:lnTo>
                    <a:pt x="383" y="0"/>
                  </a:lnTo>
                  <a:lnTo>
                    <a:pt x="147" y="0"/>
                  </a:lnTo>
                  <a:lnTo>
                    <a:pt x="135" y="30"/>
                  </a:lnTo>
                  <a:lnTo>
                    <a:pt x="0" y="30"/>
                  </a:lnTo>
                  <a:lnTo>
                    <a:pt x="0" y="12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35960" y="235080"/>
              <a:ext cx="609480" cy="204480"/>
            </a:xfrm>
            <a:custGeom>
              <a:avLst/>
              <a:gdLst/>
              <a:ahLst/>
              <a:rect l="l" t="t" r="r" b="b"/>
              <a:pathLst>
                <a:path w="384" h="129">
                  <a:moveTo>
                    <a:pt x="0" y="128"/>
                  </a:moveTo>
                  <a:lnTo>
                    <a:pt x="168" y="128"/>
                  </a:lnTo>
                  <a:lnTo>
                    <a:pt x="181" y="96"/>
                  </a:lnTo>
                  <a:lnTo>
                    <a:pt x="383" y="96"/>
                  </a:lnTo>
                  <a:lnTo>
                    <a:pt x="383" y="0"/>
                  </a:lnTo>
                  <a:lnTo>
                    <a:pt x="218" y="0"/>
                  </a:lnTo>
                  <a:lnTo>
                    <a:pt x="206" y="30"/>
                  </a:lnTo>
                  <a:lnTo>
                    <a:pt x="0" y="30"/>
                  </a:lnTo>
                  <a:lnTo>
                    <a:pt x="0" y="128"/>
                  </a:lnTo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2280" y="851040"/>
            <a:ext cx="896328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0972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310360" y="6668640"/>
            <a:ext cx="31096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gelika Steingräber -  LANU 42IZ, 16.05.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915400" y="6645240"/>
            <a:ext cx="1843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1DE8-A9FA-4DE4-BB60-E1572F156F7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259200"/>
            <a:ext cx="1562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ndesamt fü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atur und Umw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des Lan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35960" y="519120"/>
            <a:ext cx="609480" cy="20484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97" y="128"/>
                </a:lnTo>
                <a:lnTo>
                  <a:pt x="110" y="96"/>
                </a:lnTo>
                <a:lnTo>
                  <a:pt x="383" y="96"/>
                </a:lnTo>
                <a:lnTo>
                  <a:pt x="383" y="0"/>
                </a:lnTo>
                <a:lnTo>
                  <a:pt x="147" y="0"/>
                </a:lnTo>
                <a:lnTo>
                  <a:pt x="135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35960" y="235080"/>
            <a:ext cx="609480" cy="20448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168" y="128"/>
                </a:lnTo>
                <a:lnTo>
                  <a:pt x="181" y="96"/>
                </a:lnTo>
                <a:lnTo>
                  <a:pt x="383" y="96"/>
                </a:lnTo>
                <a:lnTo>
                  <a:pt x="383" y="0"/>
                </a:lnTo>
                <a:lnTo>
                  <a:pt x="218" y="0"/>
                </a:lnTo>
                <a:lnTo>
                  <a:pt x="206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108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11760" y="259200"/>
            <a:ext cx="1808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Landesamt fü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atur und Umw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des Lan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3"/>
          </p:nvPr>
        </p:nvSpPr>
        <p:spPr>
          <a:xfrm>
            <a:off x="5310360" y="6652800"/>
            <a:ext cx="31096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915400" y="6645240"/>
            <a:ext cx="1843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1EBA-4593-4F16-A8A1-9EE23D14BFD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de-DE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371600"/>
            <a:ext cx="7850160" cy="40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Dokumentation der Maßnahmen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zur Aufstellung der WRRL-Bewirtschaftungsplä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in Schleswig-Hol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Angelika Steingrä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GIS-Koordinatorin im LANU-Dez. 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6. Beratung der Expertengruppe „Datenmanagement“ (DATA) der Internationalen Kommission zum Schutz der Elbe (IKSE) vom 15.05. bis 16.05.2007 in Glücksta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86840" y="376200"/>
            <a:ext cx="6975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LANU - Abteilung „Gewässer“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8BD8-8ACF-4810-9068-68413F670E10}" type="slidenum">
              <a:t>1</a:t>
            </a:fld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Grundlage des Basislayout </a:t>
            </a:r>
            <a:br>
              <a:rPr sz="1800"/>
            </a:br>
            <a:r>
              <a:rPr b="1" i="1" lang="en-US" sz="1400" spc="-1" strike="noStrike">
                <a:solidFill>
                  <a:srgbClr val="003399"/>
                </a:solidFill>
                <a:latin typeface="Arial"/>
              </a:rPr>
              <a:t>Entwurf  des TP Schlei/Trave als Serie für Schritt 7.1, 8.5</a:t>
            </a:r>
            <a:endParaRPr b="1" i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502000" y="1771560"/>
            <a:ext cx="6413040" cy="4628880"/>
            <a:chOff x="2502000" y="1771560"/>
            <a:chExt cx="6413040" cy="4628880"/>
          </a:xfrm>
        </p:grpSpPr>
        <p:graphicFrame>
          <p:nvGraphicFramePr>
            <p:cNvPr id="191" name=""/>
            <p:cNvGraphicFramePr/>
            <p:nvPr/>
          </p:nvGraphicFramePr>
          <p:xfrm>
            <a:off x="2502000" y="1771560"/>
            <a:ext cx="6413040" cy="462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2000" y="1771560"/>
                      <a:ext cx="6413040" cy="4628880"/>
                    </a:xfrm>
                    <a:prstGeom prst="rect">
                      <a:avLst/>
                    </a:prstGeom>
                    <a:ln w="50760">
                      <a:solidFill>
                        <a:srgbClr val="0099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6922440" y="1852200"/>
              <a:ext cx="1900800" cy="94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chritt 7.1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Zur Zielerreichung notwendige Verbesserungs-maßnahm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0920" y="1125360"/>
            <a:ext cx="6759000" cy="4817880"/>
            <a:chOff x="250920" y="1125360"/>
            <a:chExt cx="6759000" cy="4817880"/>
          </a:xfrm>
        </p:grpSpPr>
        <p:graphicFrame>
          <p:nvGraphicFramePr>
            <p:cNvPr id="195" name=""/>
            <p:cNvGraphicFramePr/>
            <p:nvPr/>
          </p:nvGraphicFramePr>
          <p:xfrm>
            <a:off x="250920" y="1125360"/>
            <a:ext cx="6759000" cy="481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920" y="1125360"/>
                      <a:ext cx="6759000" cy="4817880"/>
                    </a:xfrm>
                    <a:prstGeom prst="rect">
                      <a:avLst/>
                    </a:prstGeom>
                    <a:ln w="507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431240" y="1207800"/>
              <a:ext cx="2490480" cy="116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scheidungsgrundlage für Schritt 8.5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rd mit den verbleibenden ‚anderen Möglichkeiten‘ ein guter ökologischer Zustand erreicht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A044-FAAF-4161-9CAC-BEEF47C12B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704880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Eingabeformular im GIS für die Kartenausgabe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914400"/>
          <a:ext cx="88930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8930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28600" y="4343400"/>
          <a:ext cx="8915400" cy="20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343400"/>
                    <a:ext cx="891540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762120" y="990720"/>
          <a:ext cx="6723000" cy="533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990720"/>
                    <a:ext cx="6723000" cy="5333760"/>
                  </a:xfrm>
                  <a:prstGeom prst="rect">
                    <a:avLst/>
                  </a:prstGeom>
                  <a:ln w="8892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17B6-04CC-4650-99F3-662A3BF995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704880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Maßnahmen-Legende für Schritt 7.1 und 8.5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600200" y="914400"/>
          <a:ext cx="5600880" cy="56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600880" cy="5616720"/>
                  </a:xfrm>
                  <a:prstGeom prst="rect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4960-47B9-4DA0-910A-2BE88E1DE9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Kartendarstellung für Schritt 8.5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4360" y="907920"/>
            <a:ext cx="7773480" cy="5616720"/>
            <a:chOff x="684360" y="907920"/>
            <a:chExt cx="7773480" cy="5616720"/>
          </a:xfrm>
        </p:grpSpPr>
        <p:graphicFrame>
          <p:nvGraphicFramePr>
            <p:cNvPr id="210" name=""/>
            <p:cNvGraphicFramePr/>
            <p:nvPr/>
          </p:nvGraphicFramePr>
          <p:xfrm>
            <a:off x="684360" y="907920"/>
            <a:ext cx="7764120" cy="560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907920"/>
                      <a:ext cx="7764120" cy="56008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6734160" y="5229360"/>
            <a:ext cx="1723680" cy="12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34160" y="5229360"/>
                      <a:ext cx="172368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72B7-BE12-4D27-8C0F-4F1FA39AF3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Einstufungsprozess bis Ende 2007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981000"/>
            <a:ext cx="86868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entral in 34 Bearbeitungsgebieten mit Karten und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e Bearbeitung von 500 bis 600 Wasserkörpern in 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gabe von 1.500 bis 2.000 Karten im Maßstab 1: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lierte Dokumentation des Einstufungsprozess und der Maßnahmenplanung gegenüber der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ierte Moderation der Diskussion unter allen Beteilig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hvollziehbare Präsentation der Arbeitsergeb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1358-AA2C-4040-9858-0D171387D8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Zukünftige Maßnahmen-Datenbank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54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99"/>
                </a:solidFill>
                <a:latin typeface="Arial"/>
              </a:rPr>
              <a:t>Inha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tzung der 1. Ausbaustufe für den Bewirtschaftungsplan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ppelung der Informationen zum Wasserkörper und zu Maßna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ießgewässer, Seen, Küstengewässer, Grundwas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bildung aller Phasen und Aspekte einer Maßnahm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dee, Planung, Finanzierung, Wechselwirkungen, Ausführung, Erfolgskontrolle, Abnahme ..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ichtserstellung in unterschiedlichen Raumebe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99"/>
                </a:solidFill>
                <a:latin typeface="Arial"/>
              </a:rPr>
              <a:t>Strukt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bau ab Juni 2007, Einsatz ab August in den StU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 von K3-Umwelt, landesweite Systemarchitektur für Umweltanwen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r Datenbestand auf Landesserver unter ORA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griff durch: MLUR, LANU, TP, StUÄ, Kommunen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b-Anwendung mit GIS-Anbindung (&gt;&gt;&gt; DAV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nittstelle zum Umweltat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5250-97E4-4FD4-ACE5-19CF4A6B2D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70516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MDB Fließgewässer - Konzept</a:t>
            </a:r>
            <a:endParaRPr b="1" i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976320"/>
            <a:ext cx="7983360" cy="5495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120800" y="2503800"/>
            <a:ext cx="10263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uf Qualitätskomponent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990720"/>
            <a:ext cx="251460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990720"/>
            <a:ext cx="266688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1523880"/>
            <a:ext cx="7621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0" anchor="ctr">
            <a:noAutofit/>
          </a:bodyPr>
          <a:p>
            <a:pPr algn="ctr">
              <a:lnSpc>
                <a:spcPct val="3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_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78200" y="4437360"/>
            <a:ext cx="6436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gt; G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4419720"/>
            <a:ext cx="121896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3F58-97BD-47B1-ADF1-62DD5C81008D}" type="slidenum">
              <a:t>16</a:t>
            </a:fld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Digitale Informationsebenen für Maßnahmen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186840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sweisung erheblich veränderter Gewässer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it September 2005 für über 500 Wasserkörper in 34 Bearbeitungsgebie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tützung durch die dezentra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enbank-Anwend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er Beurteilungsbo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tatistischer Auswertung d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en Anlagenverzeichnis (GIS/D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4606920"/>
            <a:ext cx="8640720" cy="1676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Maßnahmen-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 Juni 2007 landesweit zentrale Datenhaltung i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ORACLE-Datenbank als Web-Anwend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GIS-Anbindung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aller vorliegenden Maßnahmeninform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fassung von der Planungsidee bis zur Abnahme und Erfolgskontro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3048120"/>
            <a:ext cx="8640720" cy="1384920"/>
          </a:xfrm>
          <a:prstGeom prst="rect">
            <a:avLst/>
          </a:prstGeom>
          <a:solidFill>
            <a:srgbClr val="99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igitale Kartenerstellung für Maßna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 Juni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ung der Schritte 7.1 und 8.5 des Einstufungsproz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GIS-Anwend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ur Datenerfassung und Kar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41EB-D68C-4EB9-8F5E-2829876F87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de-DE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1371600"/>
            <a:ext cx="7850160" cy="43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99"/>
                </a:solidFill>
                <a:latin typeface="Arial"/>
              </a:rPr>
              <a:t>Vielen Dank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Dokumentation der Maßnahmen</a:t>
            </a: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zur Aufstellung der WRRL-Bewirtschaftungsplä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in Schleswig-Holst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Angelika Steingrä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GIS-Koordinatorin im LANU-Dez.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. Beratung der Expertengruppe „Datenmanagement“ (DATA) der Internationalen Kommission zum Schutz der Elbe (IKSE) vom 15.05. bis 16.05.2007in Glückstad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86840" y="376200"/>
            <a:ext cx="6975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LANU - Abteilung „Gewässer“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8C3F-3499-4266-91E9-F1B55438B105}" type="slidenum">
              <a:t>18</a:t>
            </a:fld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Digitale Informationsebenen für Maßnahmen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186840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sweisung erheblich veränderter Gewässer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it September 2005 für über 500 Wasserkörper in 34 Bearbeitungsgebie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tützung durch die dezentra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enbank-Anwend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er Beurteilungsbo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tatistischer Auswertung d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en Anlagenverzeichnis (GIS/D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606920"/>
            <a:ext cx="8640720" cy="1676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Maßnahmen-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 Juni 2007 landesweit zentrale Datenhaltung i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ORACLE-Datenbank als Web-Anwend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GIS-Anbindung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aller vorliegenden Maßnahmeninform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fassung von der Planungsidee bis zur Abnahme und Erfolgskontro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3048120"/>
            <a:ext cx="8640720" cy="1384920"/>
          </a:xfrm>
          <a:prstGeom prst="rect">
            <a:avLst/>
          </a:prstGeom>
          <a:solidFill>
            <a:srgbClr val="99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igitale Kartenerstellung für Maßna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 Juni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ung der Schritte 7.1 und 8.5 des Einstufungsproz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GIS-Anwend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ur Datenerfassung und Kar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069D-92AE-4B67-B5AE-118A14558E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7200" y="333360"/>
            <a:ext cx="70516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Ausweisung erheblich veränderter u. künstlicher Wasserkörper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1052640"/>
          <a:ext cx="445284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44528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818240" y="1052640"/>
          <a:ext cx="4232160" cy="518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8240" y="1052640"/>
                    <a:ext cx="42321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-15480" y="6308640"/>
            <a:ext cx="84038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us: Leitfaden zur Identifizierung und Ausweisung erheblich veränderter und künstlicher Wasserkörper, CIS-Arbeitsgruppe 2.2, Nov.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971800"/>
            <a:ext cx="3505320" cy="4572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3048120"/>
            <a:ext cx="3124080" cy="4572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505320"/>
            <a:ext cx="3505320" cy="838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581280"/>
            <a:ext cx="3124080" cy="8384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4C83-6980-4E41-AABA-01D5613CD6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6840" y="376200"/>
            <a:ext cx="67611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Datenbestand „Digitales Anlagenverzeichnis“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457200"/>
            <a:ext cx="9144000" cy="6172200"/>
            <a:chOff x="0" y="457200"/>
            <a:chExt cx="9144000" cy="6172200"/>
          </a:xfrm>
        </p:grpSpPr>
        <p:grpSp>
          <p:nvGrpSpPr>
            <p:cNvPr id="109" name=""/>
            <p:cNvGrpSpPr/>
            <p:nvPr/>
          </p:nvGrpSpPr>
          <p:grpSpPr>
            <a:xfrm>
              <a:off x="295200" y="1116720"/>
              <a:ext cx="8813160" cy="5309280"/>
              <a:chOff x="295200" y="1116720"/>
              <a:chExt cx="8813160" cy="530928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95200" y="1116720"/>
              <a:ext cx="6305040" cy="5309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95200" y="1116720"/>
                        <a:ext cx="6305040" cy="5309280"/>
                      </a:xfrm>
                      <a:prstGeom prst="rect">
                        <a:avLst/>
                      </a:prstGeom>
                      <a:ln w="25560">
                        <a:solidFill>
                          <a:srgbClr val="00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6636600" y="1186560"/>
                <a:ext cx="2471760" cy="12038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Reduziertes Gewässernetz bis März 200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über 7.000 km mit ca. 13.500 Bauwerken erfaßt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(Länge 2006 ca. 6300 km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0" y="457200"/>
              <a:ext cx="9144000" cy="617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228600" y="914400"/>
            <a:ext cx="8915040" cy="5562360"/>
            <a:chOff x="228600" y="914400"/>
            <a:chExt cx="8915040" cy="5562360"/>
          </a:xfrm>
        </p:grpSpPr>
        <p:sp>
          <p:nvSpPr>
            <p:cNvPr id="115" name=""/>
            <p:cNvSpPr/>
            <p:nvPr/>
          </p:nvSpPr>
          <p:spPr>
            <a:xfrm>
              <a:off x="6629400" y="4572360"/>
              <a:ext cx="2209680" cy="1827720"/>
            </a:xfrm>
            <a:prstGeom prst="rect">
              <a:avLst/>
            </a:prstGeom>
            <a:solidFill>
              <a:srgbClr val="eaeaea"/>
            </a:solidFill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28600" y="914400"/>
              <a:ext cx="8915040" cy="5562360"/>
              <a:chOff x="228600" y="914400"/>
              <a:chExt cx="8915040" cy="5562360"/>
            </a:xfrm>
          </p:grpSpPr>
          <p:sp>
            <p:nvSpPr>
              <p:cNvPr id="117" name=""/>
              <p:cNvSpPr/>
              <p:nvPr/>
            </p:nvSpPr>
            <p:spPr>
              <a:xfrm>
                <a:off x="6643440" y="2579400"/>
                <a:ext cx="2500200" cy="10350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Gesamtes Gewässernetz Juli 2004/ Mai 200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über 32.000 km mit ca. 140.000 Bauwerken erfaß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600" y="914400"/>
                <a:ext cx="6377760" cy="5562360"/>
              </a:xfrm>
              <a:prstGeom prst="rect">
                <a:avLst/>
              </a:prstGeom>
              <a:ln w="25560">
                <a:solidFill>
                  <a:srgbClr val="3366ff"/>
                </a:solidFill>
                <a:miter/>
              </a:ln>
            </p:spPr>
          </p:pic>
        </p:grpSp>
      </p:grpSp>
      <p:grpSp>
        <p:nvGrpSpPr>
          <p:cNvPr id="119" name=""/>
          <p:cNvGrpSpPr/>
          <p:nvPr/>
        </p:nvGrpSpPr>
        <p:grpSpPr>
          <a:xfrm>
            <a:off x="228600" y="914400"/>
            <a:ext cx="8915040" cy="5714640"/>
            <a:chOff x="228600" y="914400"/>
            <a:chExt cx="8915040" cy="5714640"/>
          </a:xfrm>
        </p:grpSpPr>
        <p:sp>
          <p:nvSpPr>
            <p:cNvPr id="120" name=""/>
            <p:cNvSpPr/>
            <p:nvPr/>
          </p:nvSpPr>
          <p:spPr>
            <a:xfrm>
              <a:off x="6653160" y="4126680"/>
              <a:ext cx="2490480" cy="1035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ukturgüte-Kartierung DSV, Stand bis Ende 20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. 2.900km des red. Gewässernet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228600" y="914400"/>
              <a:ext cx="6378480" cy="5714640"/>
            </a:xfrm>
            <a:prstGeom prst="rect">
              <a:avLst/>
            </a:prstGeom>
            <a:ln w="25560">
              <a:solidFill>
                <a:srgbClr val="ff9900"/>
              </a:solidFill>
              <a:miter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228600" y="914400"/>
            <a:ext cx="8915040" cy="5714640"/>
            <a:chOff x="228600" y="914400"/>
            <a:chExt cx="8915040" cy="5714640"/>
          </a:xfrm>
        </p:grpSpPr>
        <p:sp>
          <p:nvSpPr>
            <p:cNvPr id="123" name=""/>
            <p:cNvSpPr/>
            <p:nvPr/>
          </p:nvSpPr>
          <p:spPr>
            <a:xfrm>
              <a:off x="6653160" y="5605920"/>
              <a:ext cx="2490480" cy="99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rfassung zum Digitalen Deichverzeichnis (DDV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s Oktober 20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. 1.300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228600" y="914400"/>
            <a:ext cx="6352920" cy="5714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8600" y="914400"/>
                      <a:ext cx="6352920" cy="5714640"/>
                    </a:xfrm>
                    <a:prstGeom prst="rect">
                      <a:avLst/>
                    </a:prstGeom>
                    <a:ln w="25560">
                      <a:solidFill>
                        <a:srgbClr val="ff99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9CC0-2FEE-4345-AA71-17A2172CE2A1}" type="slidenum">
              <a:t>4</a:t>
            </a:fld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6840" y="376200"/>
            <a:ext cx="6975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Digitaler Beurteilungsbogen“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90680" y="907920"/>
            <a:ext cx="2209680" cy="2133720"/>
            <a:chOff x="490680" y="907920"/>
            <a:chExt cx="2209680" cy="2133720"/>
          </a:xfrm>
        </p:grpSpPr>
        <p:sp>
          <p:nvSpPr>
            <p:cNvPr id="128" name=""/>
            <p:cNvSpPr/>
            <p:nvPr/>
          </p:nvSpPr>
          <p:spPr>
            <a:xfrm>
              <a:off x="490680" y="907920"/>
              <a:ext cx="2209680" cy="2133720"/>
            </a:xfrm>
            <a:prstGeom prst="flowChartMagneticDisk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gital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lagenverzeichn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wässernet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uwerke an Gewässe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984240"/>
              <a:ext cx="1143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0" name=""/>
          <p:cNvGraphicFramePr/>
          <p:nvPr/>
        </p:nvGraphicFramePr>
        <p:xfrm>
          <a:off x="3117960" y="1052640"/>
          <a:ext cx="2246040" cy="15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7960" y="1052640"/>
                    <a:ext cx="2246040" cy="1596960"/>
                  </a:xfrm>
                  <a:prstGeom prst="rect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797440" y="1052640"/>
          <a:ext cx="3167280" cy="15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7440" y="1052640"/>
                    <a:ext cx="3167280" cy="1589040"/>
                  </a:xfrm>
                  <a:prstGeom prst="rect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55640" y="3573360"/>
            <a:ext cx="7993080" cy="259884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3581280"/>
            <a:ext cx="403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er Beurteilungsbo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511520"/>
            <a:ext cx="21592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Schritt 4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..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edeute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morphologisc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ränderung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4522680"/>
            <a:ext cx="396072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   </a:t>
            </a:r>
            <a:r>
              <a:rPr b="1" lang="en-US" sz="1600" spc="-1" strike="noStrike" u="sng">
                <a:solidFill>
                  <a:srgbClr val="336600"/>
                </a:solidFill>
                <a:uFillTx/>
                <a:latin typeface="Arial"/>
              </a:rPr>
              <a:t>Schritt 7.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Zur Zielerreich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notwendi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Verbesserungsmaßnah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4502160"/>
            <a:ext cx="230508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   </a:t>
            </a:r>
            <a:r>
              <a:rPr b="1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Schritt 8.5: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Verbleibe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ndere Möglich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= „umsetzb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Maßnahme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1700280"/>
            <a:ext cx="216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1700280"/>
            <a:ext cx="142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62080" y="1974960"/>
            <a:ext cx="3446280" cy="2899080"/>
            <a:chOff x="262080" y="1974960"/>
            <a:chExt cx="3446280" cy="2899080"/>
          </a:xfrm>
        </p:grpSpPr>
        <p:cxnSp>
          <p:nvCxnSpPr>
            <p:cNvPr id="142" name=""/>
            <p:cNvCxnSpPr>
              <a:stCxn id="128" idx="2"/>
              <a:endCxn id="134" idx="2"/>
            </p:cNvCxnSpPr>
            <p:nvPr/>
          </p:nvCxnSpPr>
          <p:spPr>
            <a:xfrm flipH="1" flipV="1" rot="10800000">
              <a:off x="490320" y="1974600"/>
              <a:ext cx="265680" cy="2899440"/>
            </a:xfrm>
            <a:prstGeom prst="bentConnector3">
              <a:avLst>
                <a:gd name="adj1" fmla="val -86160"/>
              </a:avLst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143" name=""/>
            <p:cNvSpPr/>
            <p:nvPr/>
          </p:nvSpPr>
          <p:spPr>
            <a:xfrm>
              <a:off x="324000" y="3141720"/>
              <a:ext cx="338436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marL="355680" indent="-355680">
                <a:lnSpc>
                  <a:spcPct val="8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tatistische Auswert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924360" y="2637000"/>
            <a:ext cx="6476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2610000"/>
            <a:ext cx="648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6172200"/>
            <a:ext cx="648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B12E-BEDE-4DC9-ADA6-E67D72CB49DD}" type="slidenum">
              <a:t>5</a:t>
            </a:fld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Datenbank-Anwendung „Digitaler Beurteilungsbogen“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907920"/>
          <a:ext cx="468000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46800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116000" y="1557360"/>
          <a:ext cx="7848720" cy="483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557360"/>
                    <a:ext cx="784872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724360" y="981000"/>
            <a:ext cx="1440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E284-0361-4E31-8002-C84E2DB34F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Datenbank-Anwendung „Digitaler Beurteilungsbogen“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0920" y="907920"/>
          <a:ext cx="468000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46800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332000" y="1557360"/>
          <a:ext cx="7488000" cy="49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557360"/>
                    <a:ext cx="74880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724360" y="981000"/>
            <a:ext cx="1440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5A9F-F142-41D5-90FA-D06B14E31A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Datenbank-Anwendung „Digitaler Beurteilungsbogen“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907920"/>
          <a:ext cx="468000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46800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258920" y="1538280"/>
          <a:ext cx="7848720" cy="491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38280"/>
                    <a:ext cx="784872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724360" y="981000"/>
            <a:ext cx="1440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EE44-FFC5-470A-848E-FE78B9F6FF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6840" y="376200"/>
            <a:ext cx="69757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Eingangsdaten „Digitales Anlagenverzeichnis“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90680" y="907920"/>
            <a:ext cx="2209680" cy="2133720"/>
            <a:chOff x="490680" y="907920"/>
            <a:chExt cx="2209680" cy="2133720"/>
          </a:xfrm>
        </p:grpSpPr>
        <p:sp>
          <p:nvSpPr>
            <p:cNvPr id="167" name=""/>
            <p:cNvSpPr/>
            <p:nvPr/>
          </p:nvSpPr>
          <p:spPr>
            <a:xfrm>
              <a:off x="490680" y="907920"/>
              <a:ext cx="2209680" cy="2133720"/>
            </a:xfrm>
            <a:prstGeom prst="flowChartMagneticDisk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gital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lagenverzeichn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wässernet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uwerke an Gewässe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984240"/>
              <a:ext cx="1143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3117960" y="1052640"/>
          <a:ext cx="2246040" cy="15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7960" y="1052640"/>
                    <a:ext cx="2246040" cy="1596960"/>
                  </a:xfrm>
                  <a:prstGeom prst="rect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797440" y="1052640"/>
          <a:ext cx="3167280" cy="15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7440" y="1052640"/>
                    <a:ext cx="3167280" cy="1589040"/>
                  </a:xfrm>
                  <a:prstGeom prst="rect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755640" y="3573360"/>
            <a:ext cx="7993080" cy="1727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3500280"/>
            <a:ext cx="403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er Beurteilungsbo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4221000"/>
            <a:ext cx="21592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ritt 4: Bedeute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morphologisc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änderung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98920" y="4221000"/>
            <a:ext cx="39607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ritt 7.1: Zur Zielerreichu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wendi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esserungsmaßna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4221000"/>
            <a:ext cx="23050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ritt 8.5: Verbleibe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ere Möglichkeit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setzbare Maßnahmen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8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67" idx="2"/>
            <a:endCxn id="173" idx="2"/>
          </p:cNvCxnSpPr>
          <p:nvPr/>
        </p:nvCxnSpPr>
        <p:spPr>
          <a:xfrm flipH="1" flipV="1" rot="10800000">
            <a:off x="490320" y="1973880"/>
            <a:ext cx="265680" cy="2462760"/>
          </a:xfrm>
          <a:prstGeom prst="bentConnector3">
            <a:avLst>
              <a:gd name="adj1" fmla="val -86160"/>
            </a:avLst>
          </a:prstGeom>
          <a:ln w="38160">
            <a:solidFill>
              <a:srgbClr val="ff0000"/>
            </a:solidFill>
            <a:miter/>
            <a:tailEnd len="med" type="triangle" w="lg"/>
          </a:ln>
        </p:spPr>
      </p:cxnSp>
      <p:sp>
        <p:nvSpPr>
          <p:cNvPr id="179" name=""/>
          <p:cNvSpPr/>
          <p:nvPr/>
        </p:nvSpPr>
        <p:spPr>
          <a:xfrm>
            <a:off x="2771640" y="1700280"/>
            <a:ext cx="216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1700280"/>
            <a:ext cx="142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3141720"/>
            <a:ext cx="338436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atistische Aus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52720" y="5062680"/>
          <a:ext cx="1511280" cy="13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2720" y="5062680"/>
                    <a:ext cx="1511280" cy="1390680"/>
                  </a:xfrm>
                  <a:prstGeom prst="rect">
                    <a:avLst/>
                  </a:prstGeom>
                  <a:ln w="50760">
                    <a:solidFill>
                      <a:srgbClr val="00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659640" y="5159520"/>
          <a:ext cx="1657440" cy="12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5159520"/>
                    <a:ext cx="1657440" cy="1293840"/>
                  </a:xfrm>
                  <a:prstGeom prst="rect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3924360" y="2637000"/>
            <a:ext cx="6476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2610000"/>
            <a:ext cx="6480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marL="355680" indent="-355680" algn="ctr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ier ist Platz für Organisationsinformati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E1EC-B8B0-479B-8AD0-C247BC3D4465}" type="slidenum">
              <a:t>9</a:t>
            </a:fld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11:00:26Z</dcterms:created>
  <dc:creator>Uwe Rammert</dc:creator>
  <dc:description/>
  <dc:language>en-US</dc:language>
  <cp:lastModifiedBy>asteingr</cp:lastModifiedBy>
  <cp:lastPrinted>2005-01-21T17:00:05Z</cp:lastPrinted>
  <dcterms:modified xsi:type="dcterms:W3CDTF">2007-05-15T19:28:25Z</dcterms:modified>
  <cp:revision>953</cp:revision>
  <dc:subject/>
  <dc:title>Kein Folientitel</dc:title>
</cp:coreProperties>
</file>