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784836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320" y="3852360"/>
            <a:ext cx="784836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1320" y="38523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92880" y="38523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4880" y="106632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78440" y="106632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71320" y="385236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4880" y="385236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78440" y="385236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B1446-43EF-4F22-99E1-C215799159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71320" y="10663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52822-A35C-46C6-A4B4-974F1ED4EB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0AA0F-14FC-41D1-B336-FDF828C16D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B640F-036F-4B74-A421-5E0C6ECE3A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23D50-A158-4755-AAC2-6DA0AF9049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87200" y="376200"/>
            <a:ext cx="6594480" cy="17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6B1BE-48DC-434C-9C74-EB5062B207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71320" y="38523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C65CF-AC67-42D9-AAEC-215EB98C7B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71320" y="10663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92880" y="38523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7BED0-6D37-45EF-BA80-BD1D2395A4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1320" y="3852360"/>
            <a:ext cx="784836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24DA5-6F35-4453-B35E-31A2B448B2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784836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1320" y="3852360"/>
            <a:ext cx="784836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1A6BB-BE85-4E56-B535-42F211FA3B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1320" y="38523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92880" y="38523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C3866-B390-455E-83CD-32DE6EEF25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4880" y="106632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78440" y="106632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71320" y="385236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4880" y="385236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78440" y="3852360"/>
            <a:ext cx="252684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F3128-17C8-43C4-B5D2-7C60F2F05C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87200" y="376200"/>
            <a:ext cx="6594480" cy="176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71320" y="38523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92880" y="385236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2880" y="1066320"/>
            <a:ext cx="382968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320" y="3852360"/>
            <a:ext cx="7848360" cy="25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81080" y="851040"/>
            <a:ext cx="8962920" cy="5702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71320" y="10663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190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09720" indent="-190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09720" indent="-1904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09720" indent="-1904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8535960" y="519120"/>
            <a:ext cx="609480" cy="204840"/>
          </a:xfrm>
          <a:custGeom>
            <a:avLst/>
            <a:gdLst/>
            <a:ahLst/>
            <a:rect l="l" t="t" r="r" b="b"/>
            <a:pathLst>
              <a:path w="384" h="129">
                <a:moveTo>
                  <a:pt x="0" y="128"/>
                </a:moveTo>
                <a:lnTo>
                  <a:pt x="97" y="128"/>
                </a:lnTo>
                <a:lnTo>
                  <a:pt x="110" y="96"/>
                </a:lnTo>
                <a:lnTo>
                  <a:pt x="383" y="96"/>
                </a:lnTo>
                <a:lnTo>
                  <a:pt x="383" y="0"/>
                </a:lnTo>
                <a:lnTo>
                  <a:pt x="147" y="0"/>
                </a:lnTo>
                <a:lnTo>
                  <a:pt x="135" y="30"/>
                </a:lnTo>
                <a:lnTo>
                  <a:pt x="0" y="30"/>
                </a:lnTo>
                <a:lnTo>
                  <a:pt x="0" y="128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8535960" y="235080"/>
            <a:ext cx="609480" cy="204480"/>
          </a:xfrm>
          <a:custGeom>
            <a:avLst/>
            <a:gdLst/>
            <a:ahLst/>
            <a:rect l="l" t="t" r="r" b="b"/>
            <a:pathLst>
              <a:path w="384" h="129">
                <a:moveTo>
                  <a:pt x="0" y="128"/>
                </a:moveTo>
                <a:lnTo>
                  <a:pt x="168" y="128"/>
                </a:lnTo>
                <a:lnTo>
                  <a:pt x="181" y="96"/>
                </a:lnTo>
                <a:lnTo>
                  <a:pt x="383" y="96"/>
                </a:lnTo>
                <a:lnTo>
                  <a:pt x="383" y="0"/>
                </a:lnTo>
                <a:lnTo>
                  <a:pt x="218" y="0"/>
                </a:lnTo>
                <a:lnTo>
                  <a:pt x="206" y="30"/>
                </a:lnTo>
                <a:lnTo>
                  <a:pt x="0" y="30"/>
                </a:lnTo>
                <a:lnTo>
                  <a:pt x="0" y="128"/>
                </a:lnTo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080" y="851040"/>
            <a:ext cx="8962920" cy="5702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16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11760" y="259200"/>
            <a:ext cx="1808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ndesamt für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ur und Umwel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 Land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chleswig-Holste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1"/>
          </p:nvPr>
        </p:nvSpPr>
        <p:spPr>
          <a:xfrm>
            <a:off x="5310360" y="6652800"/>
            <a:ext cx="3109680" cy="18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8915400" y="6645240"/>
            <a:ext cx="184320" cy="2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2CFF-F3AE-4EC4-8917-912A66B56349}" type="slidenum">
              <a:rPr b="1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0"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62120" algn="ctr"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38400" algn="ctr">
              <a:spcBef>
                <a:spcPts val="3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619280" algn="ctr">
              <a:spcBef>
                <a:spcPts val="34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619280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619280"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680" y="214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cs-CZ" sz="3200" spc="-1" strike="noStrike">
                <a:solidFill>
                  <a:srgbClr val="003399"/>
                </a:solidFill>
                <a:latin typeface="Arial"/>
              </a:rPr>
              <a:t>Vyplňování</a:t>
            </a:r>
            <a:r>
              <a:rPr b="1" i="1" lang="de-DE" sz="3200" spc="-1" strike="noStrike">
                <a:solidFill>
                  <a:srgbClr val="003399"/>
                </a:solidFill>
                <a:latin typeface="Arial"/>
              </a:rPr>
              <a:t> „Reporting Sheets“</a:t>
            </a:r>
            <a:br>
              <a:rPr sz="3200"/>
            </a:br>
            <a:r>
              <a:rPr b="1" i="1" lang="cs-CZ" sz="2800" spc="-1" strike="noStrike">
                <a:solidFill>
                  <a:srgbClr val="003399"/>
                </a:solidFill>
                <a:latin typeface="Arial"/>
              </a:rPr>
              <a:t>k analýze charakteristik na základě</a:t>
            </a: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2800"/>
            </a:br>
            <a:r>
              <a:rPr b="1" i="1" lang="cs-CZ" sz="2800" spc="-1" strike="noStrike">
                <a:solidFill>
                  <a:srgbClr val="003399"/>
                </a:solidFill>
                <a:latin typeface="Arial"/>
              </a:rPr>
              <a:t>datových šablon </a:t>
            </a: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1" i="1" lang="cs-CZ" sz="2800" spc="-1" strike="noStrike">
                <a:solidFill>
                  <a:srgbClr val="003399"/>
                </a:solidFill>
                <a:latin typeface="Arial"/>
              </a:rPr>
              <a:t> portálu </a:t>
            </a: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WasserBLIcK</a:t>
            </a:r>
            <a:br>
              <a:rPr sz="2800"/>
            </a:b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-</a:t>
            </a:r>
            <a:br>
              <a:rPr sz="2800"/>
            </a:br>
            <a:r>
              <a:rPr b="1" i="1" lang="cs-CZ" sz="2800" spc="-1" strike="noStrike">
                <a:solidFill>
                  <a:srgbClr val="003399"/>
                </a:solidFill>
                <a:latin typeface="Arial"/>
              </a:rPr>
              <a:t>Postup a stav</a:t>
            </a: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i="1" lang="cs-CZ" sz="2800" spc="-1" strike="noStrike">
                <a:solidFill>
                  <a:srgbClr val="003399"/>
                </a:solidFill>
                <a:latin typeface="Arial"/>
              </a:rPr>
              <a:t>realizace</a:t>
            </a:r>
            <a:br>
              <a:rPr sz="2800"/>
            </a:b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. Pfeif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1B9EB-7555-4981-844E-CEBD71A3F5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87200" y="376200"/>
            <a:ext cx="8956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99"/>
                </a:solidFill>
                <a:latin typeface="Arial"/>
              </a:rPr>
              <a:t>Reporting Sheets – </a:t>
            </a:r>
            <a:r>
              <a:rPr b="1" i="1" lang="cs-CZ" sz="2400" spc="-1" strike="noStrike">
                <a:solidFill>
                  <a:srgbClr val="003399"/>
                </a:solidFill>
                <a:latin typeface="Arial"/>
              </a:rPr>
              <a:t>realizace k analýze charakterist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4560" y="990720"/>
            <a:ext cx="78487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186480" indent="-18648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ení jasné, které z úkolů jsou „mandatory“ a které jsou voliteln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6480" indent="-18648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dle informace pana Bußkampa nezohledňuje tool, který zpracoval WRC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WaterResearchCenter)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 přípravě Reporting Sheets, německé námitky ohledně údajů požadovaných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 bloku „Data“, jinak 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18684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ředání „Geographic Information“ bez problém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18684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 požadavky pro oblast „Data“ mohou být z 95 % splněny pomocí dat, která v datových šablonách již jsou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18684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exty pro Summaries mohou být zadány, resp. nakopírovány do toolu WRC (max. 2000 znaků), tento postup byl již úspěšně otestován pro oblast povodí Vezery (Wese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87200" y="376200"/>
            <a:ext cx="8956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99"/>
                </a:solidFill>
                <a:latin typeface="Arial"/>
              </a:rPr>
              <a:t>Reporting Sheets – </a:t>
            </a:r>
            <a:r>
              <a:rPr b="1" i="1" lang="cs-CZ" sz="2400" spc="-1" strike="noStrike">
                <a:solidFill>
                  <a:srgbClr val="003399"/>
                </a:solidFill>
                <a:latin typeface="Arial"/>
              </a:rPr>
              <a:t>realizace k analýze charakterist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4560" y="990720"/>
            <a:ext cx="78487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dle informace sekretariátu pro Vezeru trvalo převzetí textů do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Summary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pro oblast povodí Vezery cca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acovní týden.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&gt;&gt;&gt; 1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soba pro povrchové vody a 1 osoba pro podzemní vody potřebovaly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2,5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ní na to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y nakopírovaly pasáže z textu Zprávy a zkrátily je v případě potřeby na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2000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naků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exty do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ummary Reporting Sheets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jsou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ice požadovány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 angličtině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otože však němčina je úředním jazykem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jsou texty převzaty v němčině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ezi SRN a Komisí EU bude dohodnuto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že dokud Komise EU nepoprosí o pomoc, nebude překlad do angličtiny proved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87200" y="376200"/>
            <a:ext cx="8956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99"/>
                </a:solidFill>
                <a:latin typeface="Arial"/>
              </a:rPr>
              <a:t>Reporting Sheets – </a:t>
            </a:r>
            <a:r>
              <a:rPr b="1" i="1" lang="cs-CZ" sz="2400" spc="-1" strike="noStrike">
                <a:solidFill>
                  <a:srgbClr val="003399"/>
                </a:solidFill>
                <a:latin typeface="Arial"/>
              </a:rPr>
              <a:t>realizace k analýze charakterist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4560" y="990720"/>
            <a:ext cx="78487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dle odhadu pana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Bußkamp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 lze vycházet z toh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že k získání výstupů (statistiky, mapy atd.) budou využívána všechna pole označená červeným písm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876920" y="2870280"/>
            <a:ext cx="3733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3200400"/>
            <a:ext cx="3733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76920" y="3657600"/>
            <a:ext cx="3733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76920" y="4038480"/>
            <a:ext cx="3733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76920" y="4495680"/>
            <a:ext cx="3733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4838760"/>
            <a:ext cx="3733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76920" y="5257800"/>
            <a:ext cx="3733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5638680"/>
            <a:ext cx="37335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1828800"/>
            <a:ext cx="3504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31240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3886200"/>
            <a:ext cx="7696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76920" y="2590920"/>
            <a:ext cx="3504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00600" y="5765760"/>
            <a:ext cx="3505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91520" y="31240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19920" y="31240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029200" y="4457880"/>
            <a:ext cx="3200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90920" y="228600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274320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342900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411480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4952880"/>
            <a:ext cx="1828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434340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90920" y="1752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915080" y="5575320"/>
            <a:ext cx="3504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5575320"/>
            <a:ext cx="3505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57600" y="187632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915320" y="1866960"/>
            <a:ext cx="533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09480" y="3733920"/>
            <a:ext cx="358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71680" y="990720"/>
            <a:ext cx="784836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spcBef>
                <a:spcPts val="550"/>
              </a:spcBef>
              <a:spcAft>
                <a:spcPts val="550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ta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v realizace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 WasserBLIcK / Reporting Sheets (WISE) – </a:t>
            </a:r>
            <a:r>
              <a:rPr b="1" lang="de-DE" sz="2200" spc="-1" strike="noStrike">
                <a:solidFill>
                  <a:srgbClr val="ff3300"/>
                </a:solidFill>
                <a:latin typeface="Arial"/>
              </a:rPr>
              <a:t>k </a:t>
            </a:r>
            <a:r>
              <a:rPr b="1" lang="cs-CZ" sz="2200" spc="-1" strike="noStrike">
                <a:solidFill>
                  <a:srgbClr val="ff3300"/>
                </a:solidFill>
                <a:latin typeface="Arial"/>
              </a:rPr>
              <a:t>analýze charakteristi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spcBef>
                <a:spcPts val="550"/>
              </a:spcBef>
              <a:spcAft>
                <a:spcPts val="550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spcBef>
                <a:spcPts val="550"/>
              </a:spcBef>
              <a:spcAft>
                <a:spcPts val="550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Výh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10000"/>
              </a:lnSpc>
              <a:spcBef>
                <a:spcPts val="550"/>
              </a:spcBef>
              <a:spcAft>
                <a:spcPts val="550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7200" y="376200"/>
            <a:ext cx="8042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3399"/>
                </a:solidFill>
                <a:latin typeface="Arial"/>
              </a:rPr>
              <a:t>Osno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876920" y="2209680"/>
            <a:ext cx="358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5638680"/>
            <a:ext cx="358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90920" y="14479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4038480"/>
            <a:ext cx="3352680" cy="192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žno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isk_chem + nový atrib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llution_rea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=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= diff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= point and diff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114800" y="1523520"/>
            <a:ext cx="175248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876920" y="2209680"/>
            <a:ext cx="3657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4280" y="5638680"/>
            <a:ext cx="3657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90920" y="144792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4038480"/>
            <a:ext cx="3352680" cy="192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žno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isk_chem + nový atrib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llution_rea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=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= diff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= point and diff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114800" y="1523520"/>
            <a:ext cx="175248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800600" y="4902120"/>
            <a:ext cx="3657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90920" y="160020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75480" y="126036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U_CD_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09480" y="4889520"/>
            <a:ext cx="358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75080" y="1333440"/>
            <a:ext cx="9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prá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5360" y="1371600"/>
            <a:ext cx="9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prá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09480" y="4660920"/>
            <a:ext cx="3657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09480" y="4648320"/>
            <a:ext cx="358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09480" y="4660920"/>
            <a:ext cx="3657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733920" y="190512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724280"/>
            <a:ext cx="358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217188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33920" y="236232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724280" y="5715000"/>
            <a:ext cx="3733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09480" y="3733920"/>
            <a:ext cx="358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876920" y="914400"/>
            <a:ext cx="4114800" cy="57438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4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4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914400"/>
            <a:ext cx="4114800" cy="57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porting She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Geograph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formation 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Summ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z čistě technického pohledu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žádná ucelená zprá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14400"/>
            <a:ext cx="4343400" cy="5734440"/>
          </a:xfrm>
          <a:prstGeom prst="rect">
            <a:avLst/>
          </a:prstGeom>
          <a:solidFill>
            <a:srgbClr val="ccffff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Wasser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f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7200" y="376200"/>
            <a:ext cx="8042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3399"/>
                </a:solidFill>
                <a:latin typeface="Arial"/>
              </a:rPr>
              <a:t>WasserBLIcK / Reporting Sheets (WI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914400"/>
            <a:ext cx="4343400" cy="58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prá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vé šablo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apefi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bráz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ucelená zpráva pro oblast povodí La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2100000">
            <a:off x="4190760" y="3733920"/>
            <a:ext cx="1371600" cy="30456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7080" y="3352680"/>
            <a:ext cx="1371600" cy="304920"/>
          </a:xfrm>
          <a:prstGeom prst="rightArrow">
            <a:avLst>
              <a:gd name="adj1" fmla="val 50000"/>
              <a:gd name="adj2" fmla="val 11245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907920"/>
            <a:ext cx="2592360" cy="1584360"/>
          </a:xfrm>
          <a:prstGeom prst="rightArrow">
            <a:avLst>
              <a:gd name="adj1" fmla="val 50000"/>
              <a:gd name="adj2" fmla="val 40905"/>
            </a:avLst>
          </a:prstGeom>
          <a:gradFill rotWithShape="0">
            <a:gsLst>
              <a:gs pos="0">
                <a:srgbClr val="ff00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876920" y="2057400"/>
            <a:ext cx="3504960" cy="10666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5638680"/>
            <a:ext cx="35812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4038480"/>
            <a:ext cx="3352680" cy="192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žno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isk_chem + nový atrib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llution_rea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=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= diff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= point and diff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114800" y="1523520"/>
            <a:ext cx="175248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3200400"/>
            <a:ext cx="4191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ak to v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porting shee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ení uvede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362320" y="1523520"/>
            <a:ext cx="4572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029200" y="2209680"/>
            <a:ext cx="3429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5638680"/>
            <a:ext cx="3505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3657600"/>
            <a:ext cx="3352680" cy="192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žno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isk_chem + nový atrib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llution_rea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=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= diff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= point and diff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4114800" y="1523520"/>
            <a:ext cx="16765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93080" y="121932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Zprá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733920" y="22096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33920" y="243828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4889520"/>
            <a:ext cx="3657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60020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4038480"/>
            <a:ext cx="3352680" cy="1618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žno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isk_quant + nový atrib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quant_rea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= abs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= re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114800" y="1676160"/>
            <a:ext cx="18288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09480" y="2362320"/>
            <a:ext cx="358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5562720"/>
            <a:ext cx="3657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62320" y="1523880"/>
            <a:ext cx="533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3352680"/>
            <a:ext cx="3352680" cy="1618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žnos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isk_quant + nový atrib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quant_rea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= abst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= re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9200" y="1600200"/>
            <a:ext cx="2286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685800" y="4876920"/>
            <a:ext cx="3505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1371600"/>
            <a:ext cx="9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prá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609480" y="4660920"/>
            <a:ext cx="358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09480" y="4660920"/>
            <a:ext cx="35816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09480" y="4660920"/>
            <a:ext cx="3657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267080" y="5486400"/>
            <a:ext cx="3962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19520" y="1676520"/>
            <a:ext cx="9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prá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95840" y="1981080"/>
            <a:ext cx="9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prá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95840" y="2286000"/>
            <a:ext cx="9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Zprá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80880" y="4724280"/>
            <a:ext cx="38102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87200" y="376200"/>
            <a:ext cx="8956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3399"/>
                </a:solidFill>
                <a:latin typeface="Arial"/>
              </a:rPr>
              <a:t>Reporting Sheets – r</a:t>
            </a:r>
            <a:r>
              <a:rPr b="1" i="1" lang="cs-CZ" sz="2400" spc="-1" strike="noStrike">
                <a:solidFill>
                  <a:srgbClr val="003399"/>
                </a:solidFill>
                <a:latin typeface="Arial"/>
              </a:rPr>
              <a:t>ealizace </a:t>
            </a:r>
            <a:r>
              <a:rPr b="1" i="1" lang="de-DE" sz="2400" spc="-1" strike="noStrike">
                <a:solidFill>
                  <a:srgbClr val="003399"/>
                </a:solidFill>
                <a:latin typeface="Arial"/>
              </a:rPr>
              <a:t>k </a:t>
            </a:r>
            <a:r>
              <a:rPr b="1" i="1" lang="cs-CZ" sz="2400" spc="-1" strike="noStrike">
                <a:solidFill>
                  <a:srgbClr val="003399"/>
                </a:solidFill>
                <a:latin typeface="Arial"/>
              </a:rPr>
              <a:t>analýz</a:t>
            </a:r>
            <a:r>
              <a:rPr b="1" i="1" lang="de-DE" sz="2400" spc="-1" strike="noStrike">
                <a:solidFill>
                  <a:srgbClr val="003399"/>
                </a:solidFill>
                <a:latin typeface="Arial"/>
              </a:rPr>
              <a:t>e</a:t>
            </a:r>
            <a:r>
              <a:rPr b="1" i="1" lang="cs-CZ" sz="2400" spc="-1" strike="noStrike">
                <a:solidFill>
                  <a:srgbClr val="003399"/>
                </a:solidFill>
                <a:latin typeface="Arial"/>
              </a:rPr>
              <a:t> charakterist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4560" y="990720"/>
            <a:ext cx="78487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186480" indent="-18648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obíhá převedení dat z datových šablon do Reporting Sheets, a to pro komponenty „Geographic Information“ a „Data“, na portálu WasserBLIcK jsou k dispozici výsledky pro níže uvedené Reporting Shee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18684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WB1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ypology of surface water bo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18684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WB2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dentification of surface water bo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18684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WB3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visional identification of Artificial and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avily Modified Water Bo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160" indent="-18684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WB1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dentification/delineation of groundwater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o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6480" indent="-186480">
              <a:lnSpc>
                <a:spcPct val="115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atabázi bude zapotřebí provést nepatrné úpravy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6480" indent="-18648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87200" y="376200"/>
            <a:ext cx="8042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Reporting Sheets – </a:t>
            </a:r>
            <a:r>
              <a:rPr b="1" i="1" lang="cs-CZ" sz="2800" spc="-1" strike="noStrike">
                <a:solidFill>
                  <a:srgbClr val="003399"/>
                </a:solidFill>
                <a:latin typeface="Arial"/>
              </a:rPr>
              <a:t>realizace</a:t>
            </a: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87320" y="1282680"/>
            <a:ext cx="78487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71680" y="1066680"/>
            <a:ext cx="8572320" cy="550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25000"/>
              </a:lnSpc>
              <a:spcBef>
                <a:spcPts val="249"/>
              </a:spcBef>
              <a:spcAft>
                <a:spcPts val="24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porting Sheet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 analýze charakteristik obsahují dva termíny pro předání dat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5000"/>
              </a:lnSpc>
              <a:spcBef>
                <a:spcPts val="249"/>
              </a:spcBef>
              <a:spcAft>
                <a:spcPts val="24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2006 (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Zpráva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2005)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- postup v SR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125000"/>
              </a:lnSpc>
              <a:spcBef>
                <a:spcPts val="24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o, co bylo zjištěno v rámci analýzy charakteristik pomocí datových šablon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ude dodáno v roc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200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125000"/>
              </a:lnSpc>
              <a:spcBef>
                <a:spcPts val="24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o … 2005 předají společenství oblastí povodí (FGG) stanovisko k požadavkům přesahujícím směrný dokument GIS Guidance Document a text Rámcové směrn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125000"/>
              </a:lnSpc>
              <a:spcBef>
                <a:spcPts val="24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oporučení pro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Summaries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nalogický postup jako na Vezeř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125000"/>
              </a:lnSpc>
              <a:spcBef>
                <a:spcPts val="24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Zabezpečení kvality dat do března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lnSpc>
                <a:spcPct val="125000"/>
              </a:lnSpc>
              <a:spcBef>
                <a:spcPts val="249"/>
              </a:spcBef>
              <a:spcAft>
                <a:spcPts val="249"/>
              </a:spcAft>
              <a:buClr>
                <a:srgbClr val="0033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yplňování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porting Sheets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o června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lnSpc>
                <a:spcPct val="125000"/>
              </a:lnSpc>
              <a:spcBef>
                <a:spcPts val="249"/>
              </a:spcBef>
              <a:spcAft>
                <a:spcPts val="24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2010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resp</a:t>
            </a: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. 2008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oplňky v souvislosti se zprávami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 monitoringu, resp. plány povodí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71680" y="214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de-DE" sz="3200" spc="-1" strike="noStrike">
                <a:solidFill>
                  <a:srgbClr val="003399"/>
                </a:solidFill>
                <a:latin typeface="Arial"/>
              </a:rPr>
              <a:t>„</a:t>
            </a:r>
            <a:r>
              <a:rPr b="1" i="1" lang="cs-CZ" sz="3200" spc="-1" strike="noStrike">
                <a:solidFill>
                  <a:srgbClr val="003399"/>
                </a:solidFill>
                <a:latin typeface="Arial"/>
              </a:rPr>
              <a:t>Reporting Sheets“</a:t>
            </a:r>
            <a:br>
              <a:rPr sz="3200"/>
            </a:br>
            <a:r>
              <a:rPr b="1" i="1" lang="cs-CZ" sz="3200" spc="-1" strike="noStrike">
                <a:solidFill>
                  <a:srgbClr val="003399"/>
                </a:solidFill>
                <a:latin typeface="Arial"/>
              </a:rPr>
              <a:t>k monitoringu</a:t>
            </a:r>
            <a:br>
              <a:rPr sz="3200"/>
            </a:br>
            <a:r>
              <a:rPr b="1" i="1" lang="cs-CZ" sz="32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i="1" lang="cs-CZ" sz="28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2800"/>
            </a:br>
            <a:r>
              <a:rPr b="1" i="1" lang="cs-CZ" sz="2800" spc="-1" strike="noStrike">
                <a:solidFill>
                  <a:srgbClr val="003399"/>
                </a:solidFill>
                <a:latin typeface="Arial"/>
              </a:rPr>
              <a:t>Stav odsouhlasení na evropské úrovni, </a:t>
            </a:r>
            <a:br>
              <a:rPr sz="2800"/>
            </a:br>
            <a:r>
              <a:rPr b="1" i="1" lang="cs-CZ" sz="2800" spc="-1" strike="noStrike">
                <a:solidFill>
                  <a:srgbClr val="003399"/>
                </a:solidFill>
                <a:latin typeface="Arial"/>
              </a:rPr>
              <a:t>další rozvoj datových šablon v portálu WasserBLIcK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. Pfeiff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2BEEA-A6D6-47D2-91DD-9FDF3DE274D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Reporting Sheets - </a:t>
            </a:r>
            <a:r>
              <a:rPr b="1" i="1" lang="cs-CZ" sz="28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onitoring 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3543" t="37407" r="6200" b="20869"/>
          <a:stretch/>
        </p:blipFill>
        <p:spPr>
          <a:xfrm>
            <a:off x="195120" y="907920"/>
            <a:ext cx="8831520" cy="27766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79280" y="1916280"/>
            <a:ext cx="889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9280" y="2205000"/>
            <a:ext cx="889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71680" y="4560840"/>
            <a:ext cx="78483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Reporting Sheet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3300"/>
                </a:solidFill>
                <a:latin typeface="Arial"/>
              </a:rPr>
              <a:t>mo</a:t>
            </a:r>
            <a:r>
              <a:rPr b="1" lang="de-DE" sz="2400" spc="-1" strike="noStrike">
                <a:solidFill>
                  <a:srgbClr val="ff3300"/>
                </a:solidFill>
                <a:latin typeface="Arial"/>
              </a:rPr>
              <a:t>nitoring</a:t>
            </a:r>
            <a:r>
              <a:rPr b="1" lang="cs-CZ" sz="24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vrchové vody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: SWM1 – SWM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dzemní vody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: GWM1 – GWM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87200" y="376200"/>
            <a:ext cx="8042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3399"/>
                </a:solidFill>
                <a:latin typeface="Arial"/>
              </a:rPr>
              <a:t>Reporting Sheets - moni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4560" y="990720"/>
            <a:ext cx="78487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WM1: Shrnutí programů pro sledování ekologického a chemického stav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9044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e monitorovacích program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9044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pis monitorovacích programů - katego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9044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vodních útvarů (skupin vodních útvarů) - katego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9044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yp a počet chráněných území sledovaných daným monitorovacím program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9044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vedení jednotlivých složek jakosti / seznam prioritních lát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9044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monitorovacích míst pro daný monitorovací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9044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daje o četnosti monitorov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87200" y="376200"/>
            <a:ext cx="8042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Reporting Sheets - </a:t>
            </a:r>
            <a:r>
              <a:rPr b="1" i="1" lang="cs-CZ" sz="28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oni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4560" y="990720"/>
            <a:ext cx="78487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184680" indent="-18468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WM2 - 4: Evidence informací o jednotlivých monitorovacích programech/měřicích sítích (situační, provozní, průzkumný), a sice pro každé monitorovací mí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3760" indent="-18468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daj o typu vodního útva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3760" indent="-18468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daje o parametrech pro každou složku jak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3760" indent="-18468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etnost monitorov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3760" indent="-18468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lší požadavky na měření v souvislosti s prioritními látkami ap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3760" indent="-18468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lší požadavky na měření v souvislosti s chráněnými území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3760" indent="-18468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lší detailní informace, pokud dochází k odchýlení od postupu popsaného ve shrnut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87200" y="376200"/>
            <a:ext cx="8042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Reporting Sheets - </a:t>
            </a:r>
            <a:r>
              <a:rPr b="1" i="1" lang="cs-CZ" sz="28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oni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4560" y="990720"/>
            <a:ext cx="78487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WM1: Program pro sledování kvantitativního stav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904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e monitorovacího progra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904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útvarů (skupin útvarů) podzemních vod - R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904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monitorovacích mí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904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daje o četnosti monitorov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904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monitorovacích míst v oblasti odběru podzemních vod pro úpravu pitné vody, počet ochranných pásem vodního zdroje, pro která jsou monitorovací místa reprezentativ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904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tailní informace o přeshraničních útvarech podzemních vod (počet přeshraničních útvarů podzemních vod, kolik monitorovacích míst ve kterém útvaru podzemních v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9044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hled metodiky a kritéria pro výběr monitorovacích mí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87200" y="376200"/>
            <a:ext cx="8042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Reporting Sheets - </a:t>
            </a:r>
            <a:r>
              <a:rPr b="1" i="1" lang="cs-CZ" sz="28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oni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4560" y="990720"/>
            <a:ext cx="78487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WM2 : Shrnutí programů pro sledování chemického stavu podzemních v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90440">
              <a:lnSpc>
                <a:spcPct val="11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íle monitorovacích programů - situační, provoz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90440">
              <a:lnSpc>
                <a:spcPct val="11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útvarů (skupin útvarů) podzemních vod - R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90440">
              <a:lnSpc>
                <a:spcPct val="11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vedení jednotlivých složek jakosti / seznam prioritních  láte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90440">
              <a:lnSpc>
                <a:spcPct val="11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87200" y="376200"/>
            <a:ext cx="8042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Reporting Sheets - </a:t>
            </a:r>
            <a:r>
              <a:rPr b="1" i="1" lang="cs-CZ" sz="28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oni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4560" y="990720"/>
            <a:ext cx="78487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menová data pro každé monitorovací místo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9044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zev monitorovacího mí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9044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nitorovacího mí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9044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odního útvar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9044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uřadnice x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52560" indent="-190440">
              <a:lnSpc>
                <a:spcPct val="125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daj o tom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da se monitorovací místo nachází ve chráněném územ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87200" y="376200"/>
            <a:ext cx="8042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Reporting Sheets - </a:t>
            </a:r>
            <a:r>
              <a:rPr b="1" i="1" lang="cs-CZ" sz="2800" spc="-1" strike="noStrike">
                <a:solidFill>
                  <a:srgbClr val="003399"/>
                </a:solidFill>
                <a:latin typeface="Arial"/>
              </a:rPr>
              <a:t>výh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4560" y="990720"/>
            <a:ext cx="784872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90440" indent="-19044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ještě v roc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2005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zahájení zpracování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eporting Sheets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o plány povod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006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řevzetí textů do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Summary Reportings Sheets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 analýze charakteristik a tím přechod od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eportingového systému na papíř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 reportingovému systému na bázi we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(WI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2.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řezna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2007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ředat Komisi EU shrnutí o monitorovacích programe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2007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chválení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Reporting Sheets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o plány povodí nejpozději do poloviny roku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50000"/>
              </a:lnSpc>
              <a:spcBef>
                <a:spcPts val="499"/>
              </a:spcBef>
              <a:spcAft>
                <a:spcPts val="499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5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87200" y="368280"/>
            <a:ext cx="6670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3399"/>
                </a:solidFill>
                <a:latin typeface="Arial"/>
              </a:rPr>
              <a:t>Úko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7280" y="1092240"/>
            <a:ext cx="8281800" cy="45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porting Sheets -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onitor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pracování, resp. doplnění a odsouhlasení jednotných datových struktu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ta-Schemes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bázi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Data-Template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7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plnění a odsouhlasení seznamu kódů pro přiřazení hodno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 báz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FD-Codelis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25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formulování požadavků z hlediska možnosti vizualizace d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9844" r="23619" b="9844"/>
          <a:stretch/>
        </p:blipFill>
        <p:spPr>
          <a:xfrm>
            <a:off x="250920" y="765000"/>
            <a:ext cx="7383240" cy="5821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083280" y="2492280"/>
            <a:ext cx="129708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5373720"/>
            <a:ext cx="9367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7200" y="376200"/>
            <a:ext cx="8042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Reporting Sheets – Wasser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71680" y="3200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3399"/>
                </a:solidFill>
                <a:latin typeface="Arial"/>
              </a:rPr>
              <a:t>Děkuji</a:t>
            </a:r>
            <a:r>
              <a:rPr b="1" i="1" lang="de-DE" sz="32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3200"/>
            </a:br>
            <a:r>
              <a:rPr b="1" i="1" lang="cs-CZ" sz="3200" spc="-1" strike="noStrike">
                <a:solidFill>
                  <a:srgbClr val="003399"/>
                </a:solidFill>
                <a:latin typeface="Arial"/>
              </a:rPr>
              <a:t>za Vaši pozornost</a:t>
            </a:r>
            <a:r>
              <a:rPr b="1" i="1" lang="de-DE" sz="3200" spc="-1" strike="noStrike">
                <a:solidFill>
                  <a:srgbClr val="003399"/>
                </a:solidFill>
                <a:latin typeface="Arial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Reporting Sheets – WasserBLIcK</a:t>
            </a: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0" r="10924" b="24413"/>
          <a:stretch/>
        </p:blipFill>
        <p:spPr>
          <a:xfrm>
            <a:off x="163440" y="836640"/>
            <a:ext cx="8971200" cy="5708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771640" y="5877000"/>
            <a:ext cx="100836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3718080"/>
            <a:ext cx="93672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0" t="0" r="8857" b="23626"/>
          <a:stretch/>
        </p:blipFill>
        <p:spPr>
          <a:xfrm>
            <a:off x="179280" y="892080"/>
            <a:ext cx="8964720" cy="5632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79280" y="5877000"/>
            <a:ext cx="1081080" cy="36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7200" y="376200"/>
            <a:ext cx="8042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Reporting Sheets – Wasser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0" r="18305" b="23626"/>
          <a:stretch/>
        </p:blipFill>
        <p:spPr>
          <a:xfrm>
            <a:off x="179280" y="836640"/>
            <a:ext cx="8953560" cy="568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3573360"/>
            <a:ext cx="792000" cy="21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7200" y="376200"/>
            <a:ext cx="8042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Reporting Sheets – Wasser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7200" y="376200"/>
            <a:ext cx="659448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71320" y="10663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alizace se protahuje tím, že Reporting Sheets k analýze charakteristik dosud nejsou definitivní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19. 10. 2005 SCG znovu projedn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Reporting 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7. 11. 2005 deadline for comments of WGD/S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anovisko SRN k verzi 5.0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ylo zohledněno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ostačující míř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27. 9. 2005 – zasedání německého pracovního společenství LAWA se znovu zabývalo Reporting Sheets k analýze charakteristik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vrh Šlesvicka-Holštýns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atím převzít pouze data z datových šablon (vyhovují požadavkům směrného dokumentu GIS Guidance Docu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fG prověří, jaké jsou další požadav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451"/>
              </a:spcBef>
              <a:spcAft>
                <a:spcPts val="451"/>
              </a:spcAft>
              <a:buClr>
                <a:srgbClr val="003399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olkové země prověří, zda a dokdy bude možné předat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7200" y="376200"/>
            <a:ext cx="80424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Reporting Sheets – </a:t>
            </a:r>
            <a:r>
              <a:rPr b="1" i="1" lang="cs-CZ" sz="2800" spc="-1" strike="noStrike">
                <a:solidFill>
                  <a:srgbClr val="003399"/>
                </a:solidFill>
                <a:latin typeface="Arial"/>
              </a:rPr>
              <a:t>realizace</a:t>
            </a:r>
            <a:r>
              <a:rPr b="1" i="1" lang="de-DE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9T11:45:00Z</dcterms:created>
  <dc:creator>aries</dc:creator>
  <dc:description/>
  <dc:language>en-US</dc:language>
  <cp:lastModifiedBy>Knotec</cp:lastModifiedBy>
  <cp:lastPrinted>2005-06-03T14:27:07Z</cp:lastPrinted>
  <dcterms:modified xsi:type="dcterms:W3CDTF">2005-11-24T11:46:51Z</dcterms:modified>
  <cp:revision>313</cp:revision>
  <dc:subject/>
  <dc:title>Kein Folientitel</dc:title>
</cp:coreProperties>
</file>