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0" y="6620040"/>
            <a:ext cx="11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000" spc="-1" strike="noStrike">
                <a:solidFill>
                  <a:srgbClr val="ffff99"/>
                </a:solidFill>
                <a:latin typeface="Times New Roman"/>
              </a:rPr>
              <a:t>Ing. Michael Jakš</a:t>
            </a: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68280" y="65530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2C1E-A6CF-4A02-ABEA-52D5430D045B}" type="slidenum">
              <a:rPr b="1" i="1" lang="en-US" sz="1400" spc="-1" strike="noStrike">
                <a:solidFill>
                  <a:srgbClr val="ffff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53960" y="6613560"/>
            <a:ext cx="24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ccff"/>
                </a:solidFill>
                <a:latin typeface="Times New Roman"/>
              </a:rPr>
              <a:t>MKOL / DATA Praha 13. a 14 října 2005</a:t>
            </a:r>
            <a:endParaRPr b="0" lang="en-US" sz="10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640" y="244440"/>
            <a:ext cx="8854920" cy="131616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Kilometrage </a:t>
            </a: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in environment ArcGIS 9.1 </a:t>
            </a: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with the data  Dibavod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74640" y="1781280"/>
            <a:ext cx="6134400" cy="4600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019160" y="5643720"/>
            <a:ext cx="1212840" cy="65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Input expectations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00" y="1125360"/>
            <a:ext cx="5488560" cy="38955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Dissolved data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Not discontinuous data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Defined longitude of flow kilometers i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Data with correct direc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Consequent topology verification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Use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Are not acceptable converting between </a:t>
            </a:r>
            <a:br>
              <a:rPr sz="2400"/>
            </a:br>
            <a:r>
              <a:rPr b="1" lang="cs-CZ" sz="2400" spc="-1" strike="noStrike">
                <a:solidFill>
                  <a:srgbClr val="ffff00"/>
                </a:solidFill>
                <a:latin typeface="Times New Roman"/>
              </a:rPr>
              <a:t>    Shapefile and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00360" y="5229360"/>
            <a:ext cx="3828960" cy="8190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imes New Roman"/>
              </a:rPr>
              <a:t>DIBAVO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47943" t="17825" r="0" b="9955"/>
          <a:stretch/>
        </p:blipFill>
        <p:spPr>
          <a:xfrm>
            <a:off x="6012000" y="1484280"/>
            <a:ext cx="3009600" cy="2971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2400" y="6093000"/>
            <a:ext cx="80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Layer: toky_s_idvt           117 723 lines       35 MB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imes New Roman"/>
              </a:rPr>
              <a:t>Kilometrage with ArcInfo / ArcEditor 9.1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9793" t="9258" r="24624" b="22819"/>
          <a:stretch/>
        </p:blipFill>
        <p:spPr>
          <a:xfrm>
            <a:off x="4019400" y="1781280"/>
            <a:ext cx="5010480" cy="4591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2400" y="1557360"/>
            <a:ext cx="342684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imes New Roman"/>
              </a:rPr>
              <a:t>1. Route creating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99"/>
                </a:solidFill>
                <a:latin typeface="Times New Roman"/>
              </a:rPr>
              <a:t>2. Hatch definition</a:t>
            </a:r>
            <a:endParaRPr b="0" lang="en-US" sz="32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3933720"/>
            <a:ext cx="2847960" cy="91440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Visualization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47880" y="3086280"/>
            <a:ext cx="542880" cy="630000"/>
          </a:xfrm>
          <a:prstGeom prst="downArrow">
            <a:avLst>
              <a:gd name="adj1" fmla="val 50000"/>
              <a:gd name="adj2" fmla="val 29012"/>
            </a:avLst>
          </a:prstGeom>
          <a:solidFill>
            <a:srgbClr val="cc00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7080" y="508464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Layer: Route_CZ</a:t>
            </a:r>
            <a:br>
              <a:rPr sz="2400"/>
            </a:b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117 323 lines</a:t>
            </a:r>
            <a:br>
              <a:rPr sz="2400"/>
            </a:b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159 MB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Creation of feature „kilometrage“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0480" y="1401840"/>
            <a:ext cx="500256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1. Convert Hatches to Graphic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2. Convert Graphics to Shap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3. Locate point features along routes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1844640"/>
            <a:ext cx="3457440" cy="4190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ArcInfo / ArcEditor 9.1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03640" y="2708280"/>
            <a:ext cx="3889440" cy="39528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XTools Pro for ArcGIS 3.0.0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500280"/>
            <a:ext cx="2879640" cy="400320"/>
          </a:xfrm>
          <a:prstGeom prst="rect">
            <a:avLst/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ETGeoWizards 9.4 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4292640"/>
            <a:ext cx="69231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Layers: Kilometraz_po_1km                  69 667 poi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             </a:t>
            </a: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Kilometraz_po_1km_S            187 256 poi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             </a:t>
            </a:r>
            <a:r>
              <a:rPr b="1" i="1" lang="cs-CZ" sz="2400" spc="-1" strike="noStrike">
                <a:solidFill>
                  <a:srgbClr val="99ccff"/>
                </a:solidFill>
                <a:latin typeface="Times New Roman"/>
              </a:rPr>
              <a:t>Kilometraz_po_5km                    6 187 point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                              </a:t>
            </a:r>
            <a:r>
              <a:rPr b="1" i="1" lang="cs-CZ" sz="2400" spc="-1" strike="noStrike">
                <a:solidFill>
                  <a:srgbClr val="ccccff"/>
                </a:solidFill>
                <a:latin typeface="Times New Roman"/>
              </a:rPr>
              <a:t>36 MB Geodatabas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vents tabl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9673" t="0" r="8675" b="5478"/>
          <a:stretch/>
        </p:blipFill>
        <p:spPr>
          <a:xfrm>
            <a:off x="108000" y="1125360"/>
            <a:ext cx="394344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302720" y="1413000"/>
            <a:ext cx="4739040" cy="173988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Locate point feature along route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Locate polygon feature along route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b2b2b2"/>
                </a:solidFill>
                <a:latin typeface="Times New Roman"/>
              </a:rPr>
              <a:t>Database process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6300360" y="3499920"/>
            <a:ext cx="576360" cy="57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5280" y="5516640"/>
            <a:ext cx="8258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nsequent topology verificatio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4365720"/>
            <a:ext cx="2847960" cy="57456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2f002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Events table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6093000"/>
            <a:ext cx="8258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s be to disposal routes layer (original)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ff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99"/>
                </a:solidFill>
                <a:latin typeface="Times New Roman"/>
              </a:rPr>
              <a:t>Generalization and kilometrage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38960" y="4797360"/>
            <a:ext cx="6868080" cy="5205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99"/>
                </a:solidFill>
                <a:latin typeface="Times New Roman"/>
              </a:rPr>
              <a:t>Route original   </a:t>
            </a:r>
            <a:r>
              <a:rPr b="1" lang="cs-CZ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≠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Route from </a:t>
            </a:r>
            <a:r>
              <a:rPr b="1" lang="cs-CZ" sz="24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</a:rPr>
              <a:t>generalized</a:t>
            </a:r>
            <a:r>
              <a:rPr b="1" lang="cs-CZ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original</a:t>
            </a:r>
            <a:endParaRPr b="0" lang="en-US" sz="2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8360" y="5734080"/>
            <a:ext cx="8258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Has be to disposal routes layer (original)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900000" y="1268280"/>
            <a:ext cx="7344000" cy="3033720"/>
            <a:chOff x="900000" y="1268280"/>
            <a:chExt cx="7344000" cy="30337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7594" t="26430" r="0" b="31560"/>
            <a:stretch/>
          </p:blipFill>
          <p:spPr>
            <a:xfrm>
              <a:off x="900000" y="1268280"/>
              <a:ext cx="7344000" cy="30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flipV="1">
              <a:off x="1476360" y="2563200"/>
              <a:ext cx="1582920" cy="73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24360" y="2925720"/>
              <a:ext cx="1943280" cy="934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35280" y="270828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ca 260 m</a:t>
              </a:r>
              <a:endParaRPr b="0" lang="en-US" sz="1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43640" y="2852640"/>
              <a:ext cx="98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Times New Roman"/>
                </a:rPr>
                <a:t>Cca 370 m</a:t>
              </a:r>
              <a:endParaRPr b="0" lang="en-US" sz="14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21440" y="1412640"/>
              <a:ext cx="251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Times New Roman"/>
                </a:rPr>
                <a:t>BEND_SIMPLIFY      50m</a:t>
              </a:r>
              <a:endParaRPr b="0" lang="en-US" sz="1600" spc="-1" strike="noStrike">
                <a:solidFill>
                  <a:srgbClr val="ffff99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6:30:50Z</dcterms:created>
  <dc:creator>michal</dc:creator>
  <dc:description/>
  <dc:language>en-US</dc:language>
  <cp:lastModifiedBy>Michael Jakš</cp:lastModifiedBy>
  <dcterms:modified xsi:type="dcterms:W3CDTF">2005-10-11T10:22:56Z</dcterms:modified>
  <cp:revision>81</cp:revision>
  <dc:subject/>
  <dc:title>Prezentace aplikace PowerPoint</dc:title>
</cp:coreProperties>
</file>