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F94-6979-4E99-9122-DCF627DC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696-0868-4EB1-B021-6EC476AE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6FE-C2D4-4ADF-BB4D-58EDD0B8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81D-4AD2-4B4A-8FDA-9A717B00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D10-3157-45DA-ACBF-8DB60543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5A97-1218-4E23-A053-43FBA1D7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E33-3553-4941-AED0-5944CF92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5B2-A0E9-47C5-8D7D-E00DB2A6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3788-0271-49B6-B557-5B43C95B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37D-92C1-4821-80C3-383E2466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9645-28E8-43AE-A393-8E785B25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6CC0-630B-45DB-8197-427A7A79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9041-D302-4C65-AAC1-45F2D9A8C8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990720" y="2209680"/>
          <a:ext cx="7162560" cy="37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7162560" cy="37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3"/>
          <p:cNvSpPr/>
          <p:nvPr/>
        </p:nvSpPr>
        <p:spPr>
          <a:xfrm>
            <a:off x="1143000" y="304920"/>
            <a:ext cx="6705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Guidance No. 26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isk assessment and the use of conceptual models for groundwater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371600" y="6154560"/>
            <a:ext cx="6705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Emilie Nedvedova, Hana Prchalova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KOL – GW 10 – 11. November 2010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662840" y="457200"/>
            <a:ext cx="587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Časový a plošný rozsah / Spatial and temporal scale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Oval 3"/>
          <p:cNvSpPr/>
          <p:nvPr/>
        </p:nvSpPr>
        <p:spPr>
          <a:xfrm>
            <a:off x="1447920" y="1981080"/>
            <a:ext cx="759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371600" y="1371600"/>
            <a:ext cx="60958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aměření na problematické oblasti v rámci útvaru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Focused on most problematic parts of groundwater body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457200" y="4419720"/>
            <a:ext cx="7924680" cy="144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ákladní údaje v časovém horizontu – dynamika oběhu podzemních vod, infiltrace, sezónní výkyvy a vlivy lidské činnosti.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Basic information about temporal scale such as dynamics of groundwater flow, infiltration, seasonal effects and anthropogenic influences.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46" name="Group 6"/>
          <p:cNvGrpSpPr/>
          <p:nvPr/>
        </p:nvGrpSpPr>
        <p:grpSpPr>
          <a:xfrm>
            <a:off x="1066680" y="2438280"/>
            <a:ext cx="6172200" cy="1218960"/>
            <a:chOff x="1066680" y="2438280"/>
            <a:chExt cx="6172200" cy="1218960"/>
          </a:xfrm>
        </p:grpSpPr>
        <p:grpSp>
          <p:nvGrpSpPr>
            <p:cNvPr id="147" name="Group 7"/>
            <p:cNvGrpSpPr/>
            <p:nvPr/>
          </p:nvGrpSpPr>
          <p:grpSpPr>
            <a:xfrm>
              <a:off x="1066680" y="2438280"/>
              <a:ext cx="6172200" cy="1218960"/>
              <a:chOff x="1066680" y="2438280"/>
              <a:chExt cx="6172200" cy="1218960"/>
            </a:xfrm>
          </p:grpSpPr>
          <p:sp>
            <p:nvSpPr>
              <p:cNvPr id="148" name="AutoShape 8"/>
              <p:cNvSpPr/>
              <p:nvPr/>
            </p:nvSpPr>
            <p:spPr>
              <a:xfrm>
                <a:off x="5181480" y="2666880"/>
                <a:ext cx="2057400" cy="990360"/>
              </a:xfrm>
              <a:prstGeom prst="cube">
                <a:avLst>
                  <a:gd name="adj" fmla="val 53787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149" name="AutoShape 9"/>
              <p:cNvSpPr/>
              <p:nvPr/>
            </p:nvSpPr>
            <p:spPr>
              <a:xfrm>
                <a:off x="1066680" y="2438280"/>
                <a:ext cx="2590920" cy="1218960"/>
              </a:xfrm>
              <a:prstGeom prst="cube">
                <a:avLst>
                  <a:gd name="adj" fmla="val 63300"/>
                </a:avLst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150" name="Freeform 10"/>
              <p:cNvSpPr/>
              <p:nvPr/>
            </p:nvSpPr>
            <p:spPr>
              <a:xfrm>
                <a:off x="1219320" y="2742840"/>
                <a:ext cx="1422360" cy="444600"/>
              </a:xfrm>
              <a:custGeom>
                <a:avLst/>
                <a:gdLst>
                  <a:gd name="textAreaLeft" fmla="*/ 0 w 1422360"/>
                  <a:gd name="textAreaRight" fmla="*/ 1422720 w 142236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896" h="280">
                    <a:moveTo>
                      <a:pt x="408" y="0"/>
                    </a:moveTo>
                    <a:cubicBezTo>
                      <a:pt x="536" y="0"/>
                      <a:pt x="896" y="200"/>
                      <a:pt x="840" y="240"/>
                    </a:cubicBezTo>
                    <a:cubicBezTo>
                      <a:pt x="784" y="280"/>
                      <a:pt x="144" y="280"/>
                      <a:pt x="72" y="240"/>
                    </a:cubicBezTo>
                    <a:cubicBezTo>
                      <a:pt x="0" y="200"/>
                      <a:pt x="280" y="0"/>
                      <a:pt x="408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151" name="AutoShape 11"/>
              <p:cNvSpPr/>
              <p:nvPr/>
            </p:nvSpPr>
            <p:spPr>
              <a:xfrm>
                <a:off x="1676520" y="2971440"/>
                <a:ext cx="75960" cy="457200"/>
              </a:xfrm>
              <a:prstGeom prst="flowChartMagneticDisk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152" name="Line 12"/>
              <p:cNvSpPr/>
              <p:nvPr/>
            </p:nvSpPr>
            <p:spPr>
              <a:xfrm>
                <a:off x="3657600" y="312408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153" name="Freeform 13"/>
              <p:cNvSpPr/>
              <p:nvPr/>
            </p:nvSpPr>
            <p:spPr>
              <a:xfrm>
                <a:off x="2514600" y="2438280"/>
                <a:ext cx="1143000" cy="68580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720" h="432">
                    <a:moveTo>
                      <a:pt x="0" y="0"/>
                    </a:moveTo>
                    <a:lnTo>
                      <a:pt x="288" y="432"/>
                    </a:lnTo>
                    <a:lnTo>
                      <a:pt x="7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154" name="AutoShape 14"/>
              <p:cNvSpPr/>
              <p:nvPr/>
            </p:nvSpPr>
            <p:spPr>
              <a:xfrm>
                <a:off x="3200400" y="2590560"/>
                <a:ext cx="76320" cy="457200"/>
              </a:xfrm>
              <a:prstGeom prst="flowChartMagneticDisk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155" name="Freeform 15"/>
              <p:cNvSpPr/>
              <p:nvPr/>
            </p:nvSpPr>
            <p:spPr>
              <a:xfrm>
                <a:off x="5334120" y="2742840"/>
                <a:ext cx="1422360" cy="444600"/>
              </a:xfrm>
              <a:custGeom>
                <a:avLst/>
                <a:gdLst>
                  <a:gd name="textAreaLeft" fmla="*/ 0 w 1422360"/>
                  <a:gd name="textAreaRight" fmla="*/ 1422720 w 142236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896" h="280">
                    <a:moveTo>
                      <a:pt x="408" y="0"/>
                    </a:moveTo>
                    <a:cubicBezTo>
                      <a:pt x="536" y="0"/>
                      <a:pt x="896" y="200"/>
                      <a:pt x="840" y="240"/>
                    </a:cubicBezTo>
                    <a:cubicBezTo>
                      <a:pt x="784" y="280"/>
                      <a:pt x="144" y="280"/>
                      <a:pt x="72" y="240"/>
                    </a:cubicBezTo>
                    <a:cubicBezTo>
                      <a:pt x="0" y="200"/>
                      <a:pt x="280" y="0"/>
                      <a:pt x="408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156" name="AutoShape 16"/>
              <p:cNvSpPr/>
              <p:nvPr/>
            </p:nvSpPr>
            <p:spPr>
              <a:xfrm>
                <a:off x="5638680" y="2971440"/>
                <a:ext cx="76320" cy="457200"/>
              </a:xfrm>
              <a:prstGeom prst="flowChartMagneticDisk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157" name="Line 17"/>
              <p:cNvSpPr/>
              <p:nvPr/>
            </p:nvSpPr>
            <p:spPr>
              <a:xfrm>
                <a:off x="1066680" y="3352680"/>
                <a:ext cx="1828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158" name="Line 18"/>
              <p:cNvSpPr/>
              <p:nvPr/>
            </p:nvSpPr>
            <p:spPr>
              <a:xfrm flipV="1">
                <a:off x="2895480" y="2666520"/>
                <a:ext cx="762120" cy="685800"/>
              </a:xfrm>
              <a:prstGeom prst="line">
                <a:avLst/>
              </a:prstGeom>
              <a:ln w="936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</p:grpSp>
        <p:sp>
          <p:nvSpPr>
            <p:cNvPr id="159" name="Freeform 19"/>
            <p:cNvSpPr/>
            <p:nvPr/>
          </p:nvSpPr>
          <p:spPr>
            <a:xfrm>
              <a:off x="1828800" y="2438280"/>
              <a:ext cx="914400" cy="77472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76" h="488">
                  <a:moveTo>
                    <a:pt x="144" y="0"/>
                  </a:moveTo>
                  <a:cubicBezTo>
                    <a:pt x="72" y="76"/>
                    <a:pt x="0" y="152"/>
                    <a:pt x="0" y="192"/>
                  </a:cubicBezTo>
                  <a:cubicBezTo>
                    <a:pt x="0" y="232"/>
                    <a:pt x="80" y="232"/>
                    <a:pt x="144" y="240"/>
                  </a:cubicBezTo>
                  <a:cubicBezTo>
                    <a:pt x="208" y="248"/>
                    <a:pt x="344" y="224"/>
                    <a:pt x="384" y="240"/>
                  </a:cubicBezTo>
                  <a:cubicBezTo>
                    <a:pt x="424" y="256"/>
                    <a:pt x="384" y="304"/>
                    <a:pt x="384" y="336"/>
                  </a:cubicBezTo>
                  <a:cubicBezTo>
                    <a:pt x="384" y="368"/>
                    <a:pt x="360" y="408"/>
                    <a:pt x="384" y="432"/>
                  </a:cubicBezTo>
                  <a:cubicBezTo>
                    <a:pt x="408" y="456"/>
                    <a:pt x="496" y="472"/>
                    <a:pt x="528" y="480"/>
                  </a:cubicBezTo>
                  <a:cubicBezTo>
                    <a:pt x="560" y="488"/>
                    <a:pt x="568" y="480"/>
                    <a:pt x="576" y="48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>
              <a:off x="5867280" y="2666880"/>
              <a:ext cx="838440" cy="53352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6" h="488">
                  <a:moveTo>
                    <a:pt x="144" y="0"/>
                  </a:moveTo>
                  <a:cubicBezTo>
                    <a:pt x="72" y="76"/>
                    <a:pt x="0" y="152"/>
                    <a:pt x="0" y="192"/>
                  </a:cubicBezTo>
                  <a:cubicBezTo>
                    <a:pt x="0" y="232"/>
                    <a:pt x="80" y="232"/>
                    <a:pt x="144" y="240"/>
                  </a:cubicBezTo>
                  <a:cubicBezTo>
                    <a:pt x="208" y="248"/>
                    <a:pt x="344" y="224"/>
                    <a:pt x="384" y="240"/>
                  </a:cubicBezTo>
                  <a:cubicBezTo>
                    <a:pt x="424" y="256"/>
                    <a:pt x="384" y="304"/>
                    <a:pt x="384" y="336"/>
                  </a:cubicBezTo>
                  <a:cubicBezTo>
                    <a:pt x="384" y="368"/>
                    <a:pt x="360" y="408"/>
                    <a:pt x="384" y="432"/>
                  </a:cubicBezTo>
                  <a:cubicBezTo>
                    <a:pt x="408" y="456"/>
                    <a:pt x="496" y="472"/>
                    <a:pt x="528" y="480"/>
                  </a:cubicBezTo>
                  <a:cubicBezTo>
                    <a:pt x="560" y="488"/>
                    <a:pt x="568" y="480"/>
                    <a:pt x="576" y="48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1260360" y="407880"/>
            <a:ext cx="667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 Požadavky RSV a hodnocení rizikovosti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WFD objectives and risk assesmen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52280" y="1600200"/>
            <a:ext cx="876312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IS Guidance Document No. 3 „ Analysis of Pressures and impacts“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Technical report on groundwater body characterisation (2004)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Technical report on Groundwater Risk assessment (2004)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IS Guidance Document No. 16 „ Guidance on Groundwater in Drinking Water Protected Areas (2007)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IS Guidance Document No. 17 „ Guidance on preventing or limiting direct and indirect inputs (2007)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433880" y="407880"/>
            <a:ext cx="63745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mezení a zamezení vstupu znečišťujících látek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Prevent or limit input of pollutant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85800" y="1219320"/>
            <a:ext cx="769608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izikový útvar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Groundwater body at risk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005120" y="1981080"/>
            <a:ext cx="74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groundwater body, where point or diffuse sources are not under sufficient control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to meet WFD objectiv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16240" y="2819520"/>
            <a:ext cx="8425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mezení zhoršování chemického stavu útvaru podzemních vod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Prevent the deterioration of chemical status of groundwater bodie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62120" y="3657600"/>
            <a:ext cx="769608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izikový útvar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Groundwater body at risk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928800" y="4267080"/>
            <a:ext cx="74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groundwater body, where point or diffuse sources are not under sufficient control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to meet WFD objectiv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1000800" y="1676520"/>
            <a:ext cx="729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= útvar, kde nejsou vlivy pod dostatečnou kontrolou tak, aby útvar splnil cíle RSV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924480" y="4038480"/>
            <a:ext cx="729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= útvar, kde nejsou vlivy pod dostatečnou kontrolou tak, aby útvar splnil cíle RSV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914400" y="502920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= útvar, kde jsou vlivy pod dostatečnou kontrolou až nyní ale vzhledem k dlouhé době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držení se mohou projevit až později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914400" y="556272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groundwater body, where risks arising from sources of contamination in the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ground, where the original activity has ceased or is under control but there i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residual contamination that could impact in tim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1295280" y="4724280"/>
            <a:ext cx="64771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třeba modelování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/ Modelling needed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990720" y="152280"/>
            <a:ext cx="69339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osažení dobrého stavu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Achieving good groundwater statu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" name="Rectangle 37"/>
          <p:cNvSpPr/>
          <p:nvPr/>
        </p:nvSpPr>
        <p:spPr>
          <a:xfrm>
            <a:off x="533520" y="3276720"/>
            <a:ext cx="769608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izikový útvar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Groundwater body at risk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55"/>
          <p:cNvSpPr/>
          <p:nvPr/>
        </p:nvSpPr>
        <p:spPr>
          <a:xfrm>
            <a:off x="228600" y="914400"/>
            <a:ext cx="40384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Výsledky přímého hodnocení - monitoring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Results of direct assessment - monitoring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8" name="Rectangle 56"/>
          <p:cNvSpPr/>
          <p:nvPr/>
        </p:nvSpPr>
        <p:spPr>
          <a:xfrm>
            <a:off x="4419720" y="914400"/>
            <a:ext cx="434340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Výsledky nepřímého hodnocení – předpověď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Results of indirect assessment - prediction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Line 57"/>
          <p:cNvSpPr/>
          <p:nvPr/>
        </p:nvSpPr>
        <p:spPr>
          <a:xfrm>
            <a:off x="2743200" y="152388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" name="Line 58"/>
          <p:cNvSpPr/>
          <p:nvPr/>
        </p:nvSpPr>
        <p:spPr>
          <a:xfrm flipH="1">
            <a:off x="5028840" y="152388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" name="Rectangle 59"/>
          <p:cNvSpPr/>
          <p:nvPr/>
        </p:nvSpPr>
        <p:spPr>
          <a:xfrm>
            <a:off x="1676520" y="1828800"/>
            <a:ext cx="56386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romítnutí ve všech testech (podmínkách) dobrého stavu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Reflects in all tests (conditions) of good statu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" name="Line 60"/>
          <p:cNvSpPr/>
          <p:nvPr/>
        </p:nvSpPr>
        <p:spPr>
          <a:xfrm>
            <a:off x="441972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Rectangle 61"/>
          <p:cNvSpPr/>
          <p:nvPr/>
        </p:nvSpPr>
        <p:spPr>
          <a:xfrm>
            <a:off x="2743200" y="2590920"/>
            <a:ext cx="3733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lespoň jeden špatně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At least one bad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Line 63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85" name="Group 64"/>
          <p:cNvGrpSpPr/>
          <p:nvPr/>
        </p:nvGrpSpPr>
        <p:grpSpPr>
          <a:xfrm>
            <a:off x="533520" y="3886200"/>
            <a:ext cx="8001000" cy="2792520"/>
            <a:chOff x="533520" y="3886200"/>
            <a:chExt cx="8001000" cy="2792520"/>
          </a:xfrm>
        </p:grpSpPr>
        <p:sp>
          <p:nvSpPr>
            <p:cNvPr id="186" name="Rectangle 65"/>
            <p:cNvSpPr/>
            <p:nvPr/>
          </p:nvSpPr>
          <p:spPr>
            <a:xfrm>
              <a:off x="1468440" y="3886200"/>
              <a:ext cx="62280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Zvrácení významného a trvalého vzestupného trendu</a:t>
              </a:r>
              <a:endParaRPr b="1" lang="en-US" sz="2000" spc="-1" strike="noStrike">
                <a:solidFill>
                  <a:srgbClr val="3333cc"/>
                </a:solidFill>
                <a:latin typeface="Times New Roman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2000" spc="-1" strike="noStrike">
                  <a:solidFill>
                    <a:srgbClr val="3333cc"/>
                  </a:solidFill>
                  <a:latin typeface="Times New Roman"/>
                </a:rPr>
                <a:t>Reverse any significant and sustained upward trend</a:t>
              </a:r>
              <a:endParaRPr b="1" lang="en-US" sz="2000" spc="-1" strike="noStrike">
                <a:solidFill>
                  <a:srgbClr val="3333cc"/>
                </a:solidFill>
                <a:latin typeface="Times New Roman"/>
              </a:endParaRPr>
            </a:p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87" name="Rectangle 66"/>
            <p:cNvSpPr/>
            <p:nvPr/>
          </p:nvSpPr>
          <p:spPr>
            <a:xfrm>
              <a:off x="533520" y="4697640"/>
              <a:ext cx="7696080" cy="380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Rizikový útvar/ </a:t>
              </a: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Groundwater body at risk 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88" name="Line 67"/>
            <p:cNvSpPr/>
            <p:nvPr/>
          </p:nvSpPr>
          <p:spPr>
            <a:xfrm flipH="1">
              <a:off x="2514600" y="5078520"/>
              <a:ext cx="99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89" name="Line 68"/>
            <p:cNvSpPr/>
            <p:nvPr/>
          </p:nvSpPr>
          <p:spPr>
            <a:xfrm>
              <a:off x="4648320" y="5078520"/>
              <a:ext cx="914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90" name="Rectangle 69"/>
            <p:cNvSpPr/>
            <p:nvPr/>
          </p:nvSpPr>
          <p:spPr>
            <a:xfrm>
              <a:off x="1143000" y="5459400"/>
              <a:ext cx="2133720" cy="533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Současné vlivy </a:t>
              </a: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Current pressures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91" name="Rectangle 70"/>
            <p:cNvSpPr/>
            <p:nvPr/>
          </p:nvSpPr>
          <p:spPr>
            <a:xfrm>
              <a:off x="4800600" y="5459400"/>
              <a:ext cx="2133720" cy="5335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Budoucí vlivy </a:t>
              </a: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Future pressures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92" name="Line 71"/>
            <p:cNvSpPr/>
            <p:nvPr/>
          </p:nvSpPr>
          <p:spPr>
            <a:xfrm>
              <a:off x="6629400" y="568800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93" name="Rectangle 72"/>
            <p:cNvSpPr/>
            <p:nvPr/>
          </p:nvSpPr>
          <p:spPr>
            <a:xfrm>
              <a:off x="6400800" y="6145200"/>
              <a:ext cx="2133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Klimatická změna </a:t>
              </a: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Climate change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94" name="Rectangle 73"/>
            <p:cNvSpPr/>
            <p:nvPr/>
          </p:nvSpPr>
          <p:spPr>
            <a:xfrm>
              <a:off x="3124440" y="6145200"/>
              <a:ext cx="21333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Odběr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Recharge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95" name="Line 74"/>
            <p:cNvSpPr/>
            <p:nvPr/>
          </p:nvSpPr>
          <p:spPr>
            <a:xfrm flipH="1">
              <a:off x="4572000" y="56880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5"/>
          <p:cNvSpPr/>
          <p:nvPr/>
        </p:nvSpPr>
        <p:spPr>
          <a:xfrm>
            <a:off x="380880" y="2819520"/>
            <a:ext cx="8458200" cy="3886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Freeform 38"/>
          <p:cNvSpPr/>
          <p:nvPr/>
        </p:nvSpPr>
        <p:spPr>
          <a:xfrm>
            <a:off x="380880" y="2895480"/>
            <a:ext cx="8458200" cy="3810240"/>
          </a:xfrm>
          <a:custGeom>
            <a:avLst/>
            <a:gdLst>
              <a:gd name="textAreaLeft" fmla="*/ 0 w 8458200"/>
              <a:gd name="textAreaRight" fmla="*/ 8458560 w 8458200"/>
              <a:gd name="textAreaTop" fmla="*/ 0 h 3810240"/>
              <a:gd name="textAreaBottom" fmla="*/ 3810600 h 3810240"/>
            </a:gdLst>
            <a:ahLst/>
            <a:rect l="textAreaLeft" t="textAreaTop" r="textAreaRight" b="textAreaBottom"/>
            <a:pathLst>
              <a:path w="5328" h="2400">
                <a:moveTo>
                  <a:pt x="0" y="2400"/>
                </a:moveTo>
                <a:lnTo>
                  <a:pt x="5328" y="0"/>
                </a:lnTo>
                <a:lnTo>
                  <a:pt x="5328" y="2400"/>
                </a:lnTo>
                <a:lnTo>
                  <a:pt x="0" y="24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533520" y="3049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. Postup v druhém plánovacím cyklu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Elements to consider during the 2nd Planning cycle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Text Box 24"/>
          <p:cNvSpPr/>
          <p:nvPr/>
        </p:nvSpPr>
        <p:spPr>
          <a:xfrm>
            <a:off x="152280" y="1143000"/>
            <a:ext cx="87631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řevymezení útvarů podzemních vod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Refinement of water body delineation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ktualizace vlivů a dopadů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Review of pressures and risks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ohlednění klimatické změny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Factoring in climate change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evize metodiky způsobu charakterizace a hodnocení stavu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Refinement of characterisation procedures to ensure consistency of approach with classification (státu assessment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457200" y="3962520"/>
            <a:ext cx="2362320" cy="1447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fining</a:t>
            </a:r>
            <a:r>
              <a:rPr b="1" lang="cs-CZ" sz="16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lineation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(concistency with respect to)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hydrogeology (3 dimensions)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Surface water bodies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Associated terrestrial ecosystems status assessment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3657600" y="2895480"/>
            <a:ext cx="23623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eck status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&amp;trend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(concistency with respect to)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nitoring results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status assessment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3429000" y="3962520"/>
            <a:ext cx="2971800" cy="1218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view pressur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hanges and new pressures e.g.</a:t>
            </a: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bstractions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urface sealing and land</a:t>
            </a: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Land-use or industrial practices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Surface water interaction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New pollutants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3124080" y="5486400"/>
            <a:ext cx="434340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Times New Roman"/>
              </a:rPr>
              <a:t>Climate Chang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(long-term forecast)trends seasonal changes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temperature, precipitation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Groundwater recharge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Land-use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Water demand</a:t>
            </a:r>
            <a:endParaRPr b="1" lang="en-US" sz="1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6858000" y="3809880"/>
            <a:ext cx="18288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Times New Roman"/>
              </a:rPr>
              <a:t>Risk Appraisal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6858000" y="4114800"/>
            <a:ext cx="685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cc"/>
                </a:solidFill>
                <a:latin typeface="Times New Roman"/>
              </a:rPr>
              <a:t>Not at risk</a:t>
            </a:r>
            <a:endParaRPr b="1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8153280" y="4114800"/>
            <a:ext cx="533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cc"/>
                </a:solidFill>
                <a:latin typeface="Times New Roman"/>
              </a:rPr>
              <a:t>At risk</a:t>
            </a:r>
            <a:endParaRPr b="1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Rectangle 34"/>
          <p:cNvSpPr/>
          <p:nvPr/>
        </p:nvSpPr>
        <p:spPr>
          <a:xfrm>
            <a:off x="7543800" y="4114800"/>
            <a:ext cx="685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cc"/>
                </a:solidFill>
                <a:latin typeface="Times New Roman"/>
              </a:rPr>
              <a:t>Uncertain</a:t>
            </a:r>
            <a:endParaRPr b="1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8" name="Rectangle 35"/>
          <p:cNvSpPr/>
          <p:nvPr/>
        </p:nvSpPr>
        <p:spPr>
          <a:xfrm>
            <a:off x="6858000" y="4495680"/>
            <a:ext cx="18288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isk Evaluation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9" name="Rectangle 36"/>
          <p:cNvSpPr/>
          <p:nvPr/>
        </p:nvSpPr>
        <p:spPr>
          <a:xfrm>
            <a:off x="6858000" y="480060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cc"/>
                </a:solidFill>
                <a:latin typeface="Times New Roman"/>
              </a:rPr>
              <a:t>Not at risk</a:t>
            </a:r>
            <a:endParaRPr b="1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0" name="Rectangle 37"/>
          <p:cNvSpPr/>
          <p:nvPr/>
        </p:nvSpPr>
        <p:spPr>
          <a:xfrm>
            <a:off x="7772400" y="480060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cc"/>
                </a:solidFill>
                <a:latin typeface="Times New Roman"/>
              </a:rPr>
              <a:t>At risk</a:t>
            </a:r>
            <a:endParaRPr b="1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Rectangle 39"/>
          <p:cNvSpPr/>
          <p:nvPr/>
        </p:nvSpPr>
        <p:spPr>
          <a:xfrm>
            <a:off x="533520" y="30481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" name="Rectangle 40"/>
          <p:cNvSpPr/>
          <p:nvPr/>
        </p:nvSpPr>
        <p:spPr>
          <a:xfrm>
            <a:off x="1447920" y="61722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" name="AutoShape 41"/>
          <p:cNvSpPr/>
          <p:nvPr/>
        </p:nvSpPr>
        <p:spPr>
          <a:xfrm>
            <a:off x="2819520" y="4419720"/>
            <a:ext cx="609480" cy="228600"/>
          </a:xfrm>
          <a:prstGeom prst="rightArrow">
            <a:avLst>
              <a:gd name="adj1" fmla="val 0"/>
              <a:gd name="adj2" fmla="val 623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4" name="AutoShape 42"/>
          <p:cNvSpPr/>
          <p:nvPr/>
        </p:nvSpPr>
        <p:spPr>
          <a:xfrm>
            <a:off x="4800600" y="3657600"/>
            <a:ext cx="228600" cy="304920"/>
          </a:xfrm>
          <a:prstGeom prst="downArrow">
            <a:avLst>
              <a:gd name="adj1" fmla="val 0"/>
              <a:gd name="adj2" fmla="val 3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AutoShape 45"/>
          <p:cNvSpPr/>
          <p:nvPr/>
        </p:nvSpPr>
        <p:spPr>
          <a:xfrm>
            <a:off x="6400800" y="4343400"/>
            <a:ext cx="457200" cy="228600"/>
          </a:xfrm>
          <a:prstGeom prst="rightArrow">
            <a:avLst>
              <a:gd name="adj1" fmla="val 0"/>
              <a:gd name="adj2" fmla="val 467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6" name="AutoShape 46"/>
          <p:cNvSpPr/>
          <p:nvPr/>
        </p:nvSpPr>
        <p:spPr>
          <a:xfrm>
            <a:off x="4876920" y="5181480"/>
            <a:ext cx="228600" cy="304920"/>
          </a:xfrm>
          <a:prstGeom prst="upArrow">
            <a:avLst>
              <a:gd name="adj1" fmla="val 0"/>
              <a:gd name="adj2" fmla="val 3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-131040" y="407880"/>
            <a:ext cx="9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evymezení útvarů podzemních vod /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Refinement of water body delineatio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18" name="Group 17"/>
          <p:cNvGrpSpPr/>
          <p:nvPr/>
        </p:nvGrpSpPr>
        <p:grpSpPr>
          <a:xfrm>
            <a:off x="685800" y="1523880"/>
            <a:ext cx="7873200" cy="3018960"/>
            <a:chOff x="685800" y="1523880"/>
            <a:chExt cx="7873200" cy="3018960"/>
          </a:xfrm>
        </p:grpSpPr>
        <p:sp>
          <p:nvSpPr>
            <p:cNvPr id="219" name="Rectangle 4"/>
            <p:cNvSpPr/>
            <p:nvPr/>
          </p:nvSpPr>
          <p:spPr>
            <a:xfrm>
              <a:off x="695880" y="1523880"/>
              <a:ext cx="7863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= změna ve vymezení by měla být taková, aby umožnila kontinuitu sledování plnění RSV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= changes in boundaries should not affect the continuity of meeting WFD objectives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220" name="Rectangle 14"/>
            <p:cNvSpPr/>
            <p:nvPr/>
          </p:nvSpPr>
          <p:spPr>
            <a:xfrm>
              <a:off x="685800" y="2209680"/>
              <a:ext cx="784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= zajistit, že byly vymezeny všechny útvary podzemních vod a na nich závislých   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útvarů povrchových vod/ekosystémů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ensure that all groundwater bodies associated with dependent surface waters and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ecosystems were defined. 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221" name="Rectangle 15"/>
            <p:cNvSpPr/>
            <p:nvPr/>
          </p:nvSpPr>
          <p:spPr>
            <a:xfrm>
              <a:off x="685800" y="3276360"/>
              <a:ext cx="784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= Vymezení útvarů podzemních vod v 3D   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Delineation of groundwater bodies in 3D 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222" name="Rectangle 16"/>
            <p:cNvSpPr/>
            <p:nvPr/>
          </p:nvSpPr>
          <p:spPr>
            <a:xfrm>
              <a:off x="685800" y="3962160"/>
              <a:ext cx="784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= Zohlednění hloubky vodních útvarů a jejich význam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Taking into account the depth of groundwater bodies and its importance 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2171520" y="407880"/>
            <a:ext cx="48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harakterizace /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Characterisation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22080" y="990720"/>
            <a:ext cx="654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= využití všech informací z prvních plánů povodí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= using all information gathered from first river basin management plan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609480" y="167652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= Nová charakterizace v případě jiného vymezení vodních útvarů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New characterisation in case of new delineation of groundwater bodi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 flipH="1">
            <a:off x="3200040" y="274320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3429000" y="2895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609480" y="23623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= Hodnocení rizikovosti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Risk assessment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4343400" y="274320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523880" y="3200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Times New Roman"/>
              </a:rPr>
              <a:t>Užívání půdy / </a:t>
            </a:r>
            <a:r>
              <a:rPr b="1" lang="cs-CZ" sz="1600" spc="-1" strike="noStrike" u="sng">
                <a:solidFill>
                  <a:srgbClr val="3333cc"/>
                </a:solidFill>
                <a:uFillTx/>
                <a:latin typeface="Times New Roman"/>
              </a:rPr>
              <a:t>land us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5410080" y="32767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Times New Roman"/>
              </a:rPr>
              <a:t>Klimatická změna / </a:t>
            </a:r>
            <a:r>
              <a:rPr b="1" lang="cs-CZ" sz="1600" spc="-1" strike="noStrike" u="sng">
                <a:solidFill>
                  <a:srgbClr val="3333cc"/>
                </a:solidFill>
                <a:uFillTx/>
                <a:latin typeface="Times New Roman"/>
              </a:rPr>
              <a:t>Climate chang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228600" y="3733920"/>
            <a:ext cx="4572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změny v zemědělské činnosti a odběrech vody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3333cc"/>
                </a:solidFill>
                <a:latin typeface="Times New Roman"/>
              </a:rPr>
              <a:t>changes in agriculture water demand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zvýšená produkce pro výrobu biopaliv 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cc"/>
                </a:solidFill>
                <a:latin typeface="Times New Roman"/>
              </a:rPr>
              <a:t>increasing production of biofuels and monocultures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budování infrastruktury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cc"/>
                </a:solidFill>
                <a:latin typeface="Times New Roman"/>
              </a:rPr>
              <a:t>building new infrastructure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Snižování zalesněných ploch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cc"/>
                </a:solidFill>
                <a:latin typeface="Times New Roman"/>
              </a:rPr>
              <a:t>ploughing up grassland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5105520" y="3657600"/>
            <a:ext cx="3809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sezónní změny srážek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3333cc"/>
                </a:solidFill>
                <a:latin typeface="Times New Roman"/>
              </a:rPr>
              <a:t>seasonal changes in precipitation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závislost na geografické poloze 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cc"/>
                </a:solidFill>
                <a:latin typeface="Times New Roman"/>
              </a:rPr>
              <a:t>dependency with geographical position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1819440" y="380880"/>
            <a:ext cx="502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odnocení stavu /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Status assesment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985760" y="990720"/>
            <a:ext cx="467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= využití prahových hodnot  z prvních plánů povodí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= using threshold values from first RBMP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380880" y="327672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Využití při 2. Charakterizaci pro vyloučení rizika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cc"/>
                </a:solidFill>
                <a:latin typeface="Times New Roman"/>
              </a:rPr>
              <a:t>Use within 2nd characterisation for bodies not at risk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37" name="Group 14"/>
          <p:cNvGrpSpPr/>
          <p:nvPr/>
        </p:nvGrpSpPr>
        <p:grpSpPr>
          <a:xfrm>
            <a:off x="533520" y="1523880"/>
            <a:ext cx="8076960" cy="1447920"/>
            <a:chOff x="533520" y="1523880"/>
            <a:chExt cx="8076960" cy="1447920"/>
          </a:xfrm>
        </p:grpSpPr>
        <p:sp>
          <p:nvSpPr>
            <p:cNvPr id="238" name="Line 5"/>
            <p:cNvSpPr/>
            <p:nvPr/>
          </p:nvSpPr>
          <p:spPr>
            <a:xfrm flipH="1">
              <a:off x="3047760" y="1523880"/>
              <a:ext cx="11430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239" name="Line 8"/>
            <p:cNvSpPr/>
            <p:nvPr/>
          </p:nvSpPr>
          <p:spPr>
            <a:xfrm>
              <a:off x="4267080" y="1523880"/>
              <a:ext cx="9907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240" name="Rectangle 9"/>
            <p:cNvSpPr/>
            <p:nvPr/>
          </p:nvSpPr>
          <p:spPr>
            <a:xfrm>
              <a:off x="533520" y="2286000"/>
              <a:ext cx="3657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ahové hodnoty byly stanoveny při hodnocení rizikovosti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hreshold values were set up during risk assesment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241" name="Rectangle 13"/>
            <p:cNvSpPr/>
            <p:nvPr/>
          </p:nvSpPr>
          <p:spPr>
            <a:xfrm>
              <a:off x="4724280" y="259056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ahové hodnoty byly stanoveny při hodnocení stavu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Threshold values were set up during status assesment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242" name="Rectangle 15"/>
          <p:cNvSpPr/>
          <p:nvPr/>
        </p:nvSpPr>
        <p:spPr>
          <a:xfrm>
            <a:off x="5029200" y="32767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Využití při 2. Charakterizaci jako indikátor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cc"/>
                </a:solidFill>
                <a:latin typeface="Times New Roman"/>
              </a:rPr>
              <a:t>Use within 2nd characterisation as indicator</a:t>
            </a:r>
            <a:endParaRPr b="1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1676520" y="1905120"/>
            <a:ext cx="5638680" cy="16002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Děkuji za pozornost</a:t>
            </a:r>
            <a:endParaRPr b="1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52280" y="304920"/>
            <a:ext cx="861084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sah / Content</a:t>
            </a:r>
            <a:endParaRPr b="1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vod /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ehled hodnocení rizikovost /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Risk assessment overview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ehled koncepční model /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Conceptual model overview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žadavky RSV a hodnocení rizikovosti /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WFD objectives and risk assesment 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stup v druhém plánovacím cyklu /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Elements to consider during the 2nd Planning cycle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143000" y="304920"/>
            <a:ext cx="6705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52280" y="3733920"/>
            <a:ext cx="8839440" cy="2562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2897280" y="45720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Úvod / Introduction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1143000"/>
            <a:ext cx="84582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l. 5 RSV Analýzy charakteristik/ art. 5 WFD/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Analyses of characteristics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ýstupy/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resul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zhodnocení vlivů a dopadů lidské činnosti / 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Assesment of pressures and impacts  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zranitelnost / 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vulnerability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spolehlivost, předpověď / 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confidence,  forecas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143000" y="304920"/>
            <a:ext cx="6705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49760" y="152280"/>
            <a:ext cx="87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 Přehled hodnocení rizikovost / </a:t>
            </a:r>
            <a:r>
              <a:rPr b="1" lang="cs-CZ" sz="2400" spc="-1" strike="noStrike" u="sng">
                <a:solidFill>
                  <a:srgbClr val="3333cc"/>
                </a:solidFill>
                <a:uFillTx/>
                <a:latin typeface="Times New Roman"/>
              </a:rPr>
              <a:t>Risk assessment overview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2280" y="685800"/>
            <a:ext cx="87631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izikový vodní útvar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= ten, u kterého hrozí nesplnění cílů ochrany vod                                     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Groundwater body at risk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 = risks not to achieve the environmental objectiv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lasické pojetí rizik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= riziko vůči lidskému zdraví nebo životnímu prostředí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Classic perspecive of risk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 = risk to human health and the environment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28600" y="5410080"/>
            <a:ext cx="86104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mezení nebo zamezení vstupu znečišťujících látek / 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Prevent or limit the input of pollutant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vedení opatření ke zvrácení významného a trvalého vzestupného trendu / 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Implement measures to reverse any significatn and sustained upward trend.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228600" y="4038480"/>
            <a:ext cx="8610480" cy="107820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zhoršování stavu útvarů podzemních vod / 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Prevent the deterioration of status of groundwater bodi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osažení dobrého stavu / 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Achieve good groundwater statu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osažení požadavků na chráněná území/ 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Meet the reguirements of protected area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518040" y="2819520"/>
            <a:ext cx="81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odnocení rizikovost v RSV a GWD /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Risk assesment in WFD and GWD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152280" y="3962520"/>
            <a:ext cx="8839440" cy="2514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152280" y="3352680"/>
            <a:ext cx="4343400" cy="38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 hlediska jakosti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Quality issu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4648320" y="3352680"/>
            <a:ext cx="3962160" cy="33732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 hlediska množství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Quanitity issu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143000" y="304920"/>
            <a:ext cx="6705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2280" y="6858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ívání postupného systémů hodnocení / </a:t>
            </a:r>
            <a:r>
              <a:rPr b="0" lang="cs-CZ" sz="1800" spc="-1" strike="noStrike">
                <a:solidFill>
                  <a:srgbClr val="3333cc"/>
                </a:solidFill>
                <a:latin typeface="Times New Roman"/>
              </a:rPr>
              <a:t>Use of tiered risk assesment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69240" y="22860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odnocení rizikovost a spolehlivost / </a:t>
            </a: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Risk assesment and confidence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62" name="Group 19"/>
          <p:cNvGrpSpPr/>
          <p:nvPr/>
        </p:nvGrpSpPr>
        <p:grpSpPr>
          <a:xfrm>
            <a:off x="380880" y="1219320"/>
            <a:ext cx="8305560" cy="961560"/>
            <a:chOff x="380880" y="1219320"/>
            <a:chExt cx="8305560" cy="961560"/>
          </a:xfrm>
        </p:grpSpPr>
        <p:sp>
          <p:nvSpPr>
            <p:cNvPr id="63" name="Rectangle 9"/>
            <p:cNvSpPr/>
            <p:nvPr/>
          </p:nvSpPr>
          <p:spPr>
            <a:xfrm>
              <a:off x="380880" y="1219320"/>
              <a:ext cx="8305560" cy="3808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Předběžné hodnocení ( screening útvarů) / </a:t>
              </a: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qualitative risk screening for GW bodies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grpSp>
          <p:nvGrpSpPr>
            <p:cNvPr id="64" name="Group 14"/>
            <p:cNvGrpSpPr/>
            <p:nvPr/>
          </p:nvGrpSpPr>
          <p:grpSpPr>
            <a:xfrm>
              <a:off x="380880" y="1600200"/>
              <a:ext cx="8305200" cy="580680"/>
              <a:chOff x="380880" y="1600200"/>
              <a:chExt cx="8305200" cy="580680"/>
            </a:xfrm>
          </p:grpSpPr>
          <p:sp>
            <p:nvSpPr>
              <p:cNvPr id="65" name="Rectangle 10"/>
              <p:cNvSpPr/>
              <p:nvPr/>
            </p:nvSpPr>
            <p:spPr>
              <a:xfrm>
                <a:off x="380880" y="1600200"/>
                <a:ext cx="1929240" cy="5806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Nerizikový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3333cc"/>
                    </a:solidFill>
                    <a:latin typeface="Times New Roman"/>
                  </a:rPr>
                  <a:t>Not at risk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66" name="Rectangle 11"/>
              <p:cNvSpPr/>
              <p:nvPr/>
            </p:nvSpPr>
            <p:spPr>
              <a:xfrm>
                <a:off x="2310120" y="1600200"/>
                <a:ext cx="4614120" cy="5806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Nízká spolehlivost, málo informací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3333cc"/>
                    </a:solidFill>
                    <a:latin typeface="Times New Roman"/>
                  </a:rPr>
                  <a:t>Information uncertain/low confidence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67" name="Rectangle 12"/>
              <p:cNvSpPr/>
              <p:nvPr/>
            </p:nvSpPr>
            <p:spPr>
              <a:xfrm>
                <a:off x="6924600" y="1600200"/>
                <a:ext cx="1761480" cy="5806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Rizikový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3333cc"/>
                    </a:solidFill>
                    <a:latin typeface="Times New Roman"/>
                  </a:rPr>
                  <a:t>At risk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AutoShape 13"/>
          <p:cNvSpPr/>
          <p:nvPr/>
        </p:nvSpPr>
        <p:spPr>
          <a:xfrm>
            <a:off x="1905120" y="2286000"/>
            <a:ext cx="510516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běr dat / průzkum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Investigation / data collection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69" name="Group 20"/>
          <p:cNvGrpSpPr/>
          <p:nvPr/>
        </p:nvGrpSpPr>
        <p:grpSpPr>
          <a:xfrm>
            <a:off x="1447920" y="3276720"/>
            <a:ext cx="6400800" cy="961560"/>
            <a:chOff x="1447920" y="3276720"/>
            <a:chExt cx="6400800" cy="961560"/>
          </a:xfrm>
        </p:grpSpPr>
        <p:sp>
          <p:nvSpPr>
            <p:cNvPr id="70" name="Rectangle 21"/>
            <p:cNvSpPr/>
            <p:nvPr/>
          </p:nvSpPr>
          <p:spPr>
            <a:xfrm>
              <a:off x="1447920" y="3276720"/>
              <a:ext cx="6400800" cy="38088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Další hodnocení/semi –quantitative assesment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grpSp>
          <p:nvGrpSpPr>
            <p:cNvPr id="71" name="Group 22"/>
            <p:cNvGrpSpPr/>
            <p:nvPr/>
          </p:nvGrpSpPr>
          <p:grpSpPr>
            <a:xfrm>
              <a:off x="1447920" y="3657600"/>
              <a:ext cx="6400440" cy="580680"/>
              <a:chOff x="1447920" y="3657600"/>
              <a:chExt cx="6400440" cy="580680"/>
            </a:xfrm>
          </p:grpSpPr>
          <p:sp>
            <p:nvSpPr>
              <p:cNvPr id="72" name="Rectangle 23"/>
              <p:cNvSpPr/>
              <p:nvPr/>
            </p:nvSpPr>
            <p:spPr>
              <a:xfrm>
                <a:off x="1447920" y="3657600"/>
                <a:ext cx="1486800" cy="5806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Nerizikový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3333cc"/>
                    </a:solidFill>
                    <a:latin typeface="Times New Roman"/>
                  </a:rPr>
                  <a:t>Not at risk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73" name="Rectangle 24"/>
              <p:cNvSpPr/>
              <p:nvPr/>
            </p:nvSpPr>
            <p:spPr>
              <a:xfrm>
                <a:off x="2934720" y="3657600"/>
                <a:ext cx="3556080" cy="5806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Nízká spolehlivost, málo informací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3333cc"/>
                    </a:solidFill>
                    <a:latin typeface="Times New Roman"/>
                  </a:rPr>
                  <a:t>Information uncertain/low confidence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74" name="Rectangle 25"/>
              <p:cNvSpPr/>
              <p:nvPr/>
            </p:nvSpPr>
            <p:spPr>
              <a:xfrm>
                <a:off x="6490800" y="3657600"/>
                <a:ext cx="1357560" cy="5806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Times New Roman"/>
                  </a:rPr>
                  <a:t>Rizikový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3333cc"/>
                    </a:solidFill>
                    <a:latin typeface="Times New Roman"/>
                  </a:rPr>
                  <a:t>At risk</a:t>
                </a:r>
                <a:endParaRPr b="1" lang="en-US" sz="16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AutoShape 26"/>
          <p:cNvSpPr/>
          <p:nvPr/>
        </p:nvSpPr>
        <p:spPr>
          <a:xfrm>
            <a:off x="2057400" y="4343400"/>
            <a:ext cx="510552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běr dat / průzkum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Investigation / data collection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Rectangle 28"/>
          <p:cNvSpPr/>
          <p:nvPr/>
        </p:nvSpPr>
        <p:spPr>
          <a:xfrm>
            <a:off x="380880" y="5334120"/>
            <a:ext cx="8305920" cy="380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harakterizace a vyhodnocení ( rizikovost)/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characterisation and evaluation (risk assessment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Rectangle 30"/>
          <p:cNvSpPr/>
          <p:nvPr/>
        </p:nvSpPr>
        <p:spPr>
          <a:xfrm>
            <a:off x="380880" y="5715000"/>
            <a:ext cx="419112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Nerizikový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Not at risk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Rectangle 32"/>
          <p:cNvSpPr/>
          <p:nvPr/>
        </p:nvSpPr>
        <p:spPr>
          <a:xfrm>
            <a:off x="4572000" y="5715000"/>
            <a:ext cx="41148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izikový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At risk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9" name="Line 33"/>
          <p:cNvSpPr/>
          <p:nvPr/>
        </p:nvSpPr>
        <p:spPr>
          <a:xfrm>
            <a:off x="609480" y="22096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8458200" y="22096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1676520" y="4267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Line 36"/>
          <p:cNvSpPr/>
          <p:nvPr/>
        </p:nvSpPr>
        <p:spPr>
          <a:xfrm>
            <a:off x="7620120" y="4267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6"/>
          <p:cNvSpPr/>
          <p:nvPr/>
        </p:nvSpPr>
        <p:spPr>
          <a:xfrm>
            <a:off x="152280" y="3429000"/>
            <a:ext cx="4496040" cy="3200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4876920" y="3429000"/>
            <a:ext cx="4114800" cy="3200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1143000" y="304920"/>
            <a:ext cx="6705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609480" y="1522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odnocení rizikovost a princip předběžné opatrnosti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Risk assessment and precautionary principle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52280" y="106668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04920" y="10666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57200" y="990720"/>
            <a:ext cx="8305920" cy="1371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kud hrozí významné a nevratné poškození, potom nedostatek poznání a spolehlivosti nesmí být důvodem k odložení efektivních opatření, která by mohla tento stav zvrátit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Where there are threats of serious or irreversible damage, lack of full scientific certainty shall not be used as a reason for postponing cost – effective measures to prevent environemtnal degradation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Line 12"/>
          <p:cNvSpPr/>
          <p:nvPr/>
        </p:nvSpPr>
        <p:spPr>
          <a:xfrm flipH="1">
            <a:off x="2514240" y="2362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52280" y="31240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ez hodnocení rizikovosti  Without risk assessment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371600" y="3505320"/>
            <a:ext cx="1981080" cy="58068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ata z monitoringu  Monitoring data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23623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1295280" y="4495680"/>
            <a:ext cx="213372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ekročení limitů /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exceedance of limit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2362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838080" y="5638680"/>
            <a:ext cx="3048120" cy="457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ijmutí opatření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Measures to be taken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4724280" y="31240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 hodnocením rizikovosti/ With risk assessment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6095880" y="3505320"/>
            <a:ext cx="1981440" cy="580680"/>
          </a:xfrm>
          <a:prstGeom prst="rect">
            <a:avLst/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ata z monitoringu  Monitoring data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708660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Rectangle 23"/>
          <p:cNvSpPr/>
          <p:nvPr/>
        </p:nvSpPr>
        <p:spPr>
          <a:xfrm>
            <a:off x="5105520" y="4495680"/>
            <a:ext cx="38098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ekročení limitů, ale nehrozí riziko nesplnění cílů ochrany 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exceedance of limits, but not being at risk to fail objectiv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Line 24"/>
          <p:cNvSpPr/>
          <p:nvPr/>
        </p:nvSpPr>
        <p:spPr>
          <a:xfrm>
            <a:off x="708660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Rectangle 25"/>
          <p:cNvSpPr/>
          <p:nvPr/>
        </p:nvSpPr>
        <p:spPr>
          <a:xfrm>
            <a:off x="5486400" y="5867280"/>
            <a:ext cx="32004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nechání opatření, která byla dosud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Measures already in plac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6095880" y="236232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1447920" y="2819520"/>
            <a:ext cx="693396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ré ekologické zátěže /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Old contaminated site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143000" y="304920"/>
            <a:ext cx="6705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609480" y="1522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odnocení rizikovost v plánovacím cyklu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cc"/>
                </a:solidFill>
                <a:latin typeface="Times New Roman"/>
              </a:rPr>
              <a:t>Risk assessment through the river basin pllaning cycle</a:t>
            </a:r>
            <a:endParaRPr b="1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52280" y="106668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04920" y="10666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Line 24"/>
          <p:cNvSpPr/>
          <p:nvPr/>
        </p:nvSpPr>
        <p:spPr>
          <a:xfrm>
            <a:off x="914400" y="365760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10" name="Group 28"/>
          <p:cNvGrpSpPr/>
          <p:nvPr/>
        </p:nvGrpSpPr>
        <p:grpSpPr>
          <a:xfrm>
            <a:off x="1828800" y="1447920"/>
            <a:ext cx="0" cy="4266720"/>
            <a:chOff x="1828800" y="1447920"/>
            <a:chExt cx="0" cy="4266720"/>
          </a:xfrm>
        </p:grpSpPr>
        <p:sp>
          <p:nvSpPr>
            <p:cNvPr id="111" name="Line 26"/>
            <p:cNvSpPr/>
            <p:nvPr/>
          </p:nvSpPr>
          <p:spPr>
            <a:xfrm>
              <a:off x="1828800" y="3351600"/>
              <a:ext cx="0" cy="236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12" name="Line 27"/>
            <p:cNvSpPr/>
            <p:nvPr/>
          </p:nvSpPr>
          <p:spPr>
            <a:xfrm flipV="1">
              <a:off x="1828800" y="1447920"/>
              <a:ext cx="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113" name="Rectangle 29"/>
          <p:cNvSpPr/>
          <p:nvPr/>
        </p:nvSpPr>
        <p:spPr>
          <a:xfrm>
            <a:off x="5791320" y="35812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lánovací cyklus / 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Planning cycl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Rectangle 31"/>
          <p:cNvSpPr/>
          <p:nvPr/>
        </p:nvSpPr>
        <p:spPr>
          <a:xfrm>
            <a:off x="2362320" y="3962520"/>
            <a:ext cx="152388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ozsah a účel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Scale and scop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Rectangle 32"/>
          <p:cNvSpPr/>
          <p:nvPr/>
        </p:nvSpPr>
        <p:spPr>
          <a:xfrm>
            <a:off x="5410080" y="2286000"/>
            <a:ext cx="16765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polehlivost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Confidenc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Rectangle 33"/>
          <p:cNvSpPr/>
          <p:nvPr/>
        </p:nvSpPr>
        <p:spPr>
          <a:xfrm>
            <a:off x="2286000" y="1676520"/>
            <a:ext cx="34290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nformace o vlivech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Information of possible pressur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Rectangle 34"/>
          <p:cNvSpPr/>
          <p:nvPr/>
        </p:nvSpPr>
        <p:spPr>
          <a:xfrm>
            <a:off x="2286000" y="2286000"/>
            <a:ext cx="2438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ozsah dat z monitoringu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Data from monitoring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Rectangle 35"/>
          <p:cNvSpPr/>
          <p:nvPr/>
        </p:nvSpPr>
        <p:spPr>
          <a:xfrm>
            <a:off x="4343400" y="4038480"/>
            <a:ext cx="13716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jistoty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Uncertainti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Rectangle 36"/>
          <p:cNvSpPr/>
          <p:nvPr/>
        </p:nvSpPr>
        <p:spPr>
          <a:xfrm>
            <a:off x="2743200" y="4800600"/>
            <a:ext cx="25909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ole rizikovosti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Role of risk assessment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3809880" y="2971800"/>
            <a:ext cx="243864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Účinnost opatření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Effectiveness of measur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43000" y="304920"/>
            <a:ext cx="6705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094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 Přehled koncepční model/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Conceptual model overview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52280" y="106668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10666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152280" y="1066680"/>
            <a:ext cx="876312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Větší porozumění systému podzemních vod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Better understanding of groundwater system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omunikace s veřejností a podklad pro rozhodování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Communication with public and decision makers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Vizualizace útvarů podzemních vod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Vizualization of groundwater bodies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izika spojená s vodním útvarem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Risks associated to groundwater body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lánování monitoringu a opatření k ochraně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Planning of monitoring system and measur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ředpověď účinnosti opatření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Prediciton of effects of the measur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áklad pro tvorbu složitějších modelů – matematické apod.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Basis for more complex models such as numerical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ůvody nedosažení cílů ochrany vod a předpověď jejich dosažení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Reasons why a groundwater body fails any status objectiv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Návrh krátkodobých efektivních opatření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Draft short –term  measures in and effective and sustainable manner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důvodnění aplikace výjimek nedosažení cílů ochrany vod (nižší cíle, prodloužení doby apod.)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Justifying exemptions/alternative objectives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52280" y="304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oncepční model / </a:t>
            </a: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Conceptual model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27" name="Group 6"/>
          <p:cNvGrpSpPr/>
          <p:nvPr/>
        </p:nvGrpSpPr>
        <p:grpSpPr>
          <a:xfrm>
            <a:off x="990720" y="914400"/>
            <a:ext cx="3657600" cy="947520"/>
            <a:chOff x="990720" y="914400"/>
            <a:chExt cx="3657600" cy="947520"/>
          </a:xfrm>
        </p:grpSpPr>
        <p:sp>
          <p:nvSpPr>
            <p:cNvPr id="128" name="Text Box 4"/>
            <p:cNvSpPr/>
            <p:nvPr/>
          </p:nvSpPr>
          <p:spPr>
            <a:xfrm>
              <a:off x="990720" y="1219320"/>
              <a:ext cx="3657600" cy="6426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Schématické zobrazení</a:t>
              </a:r>
              <a:endParaRPr b="1" lang="en-US" sz="18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3333cc"/>
                  </a:solidFill>
                  <a:latin typeface="Times New Roman"/>
                </a:rPr>
                <a:t>Schematic model</a:t>
              </a:r>
              <a:endParaRPr b="1" lang="en-US" sz="18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29" name="Rectangle 5"/>
            <p:cNvSpPr/>
            <p:nvPr/>
          </p:nvSpPr>
          <p:spPr>
            <a:xfrm>
              <a:off x="2362320" y="914400"/>
              <a:ext cx="1143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Ano / </a:t>
              </a:r>
              <a:r>
                <a:rPr b="1" lang="cs-CZ" sz="1600" spc="-1" strike="noStrike">
                  <a:solidFill>
                    <a:srgbClr val="3333cc"/>
                  </a:solidFill>
                  <a:latin typeface="Times New Roman"/>
                </a:rPr>
                <a:t>Yes</a:t>
              </a:r>
              <a:endParaRPr b="1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4800600" y="1219320"/>
            <a:ext cx="36576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umerický model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Numerical model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6172200" y="91440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Ne /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No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2" name="Line 10"/>
          <p:cNvSpPr/>
          <p:nvPr/>
        </p:nvSpPr>
        <p:spPr>
          <a:xfrm flipH="1">
            <a:off x="3505320" y="762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5334120" y="7621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533520" y="2209680"/>
            <a:ext cx="7924680" cy="916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oncepční model by měl obsahovat takové informace, které jsou pro daný útvar relevantní.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Conceptual model should include information relevant for groundwater body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533520" y="35053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ole koncepčního modelu se liší v jednotlivých plánovacích obdobích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3333cc"/>
                </a:solidFill>
                <a:latin typeface="Times New Roman"/>
              </a:rPr>
              <a:t>Role of the conceptual model is different in planning cycles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" name="Line 18"/>
          <p:cNvSpPr/>
          <p:nvPr/>
        </p:nvSpPr>
        <p:spPr>
          <a:xfrm flipH="1">
            <a:off x="2742840" y="4191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304920" y="44197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ákladní charakterizace/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Basic characterisation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304920" y="4800600"/>
            <a:ext cx="4343400" cy="179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ymezení vodních útvarů /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 Delineation of groundwater bodi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kladní geologické a hydrogeologické charakteristiky / 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Basic hydro and geological information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o všechny vodní útvary /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For all groundwater bodie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4648320" y="44197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alší charakterizace/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Further characterisation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800600" y="4800600"/>
            <a:ext cx="4191120" cy="155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nterakce s ekosystémy /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 Interaction with ecosystems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yužití půdy a další / 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Land and other use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o rizikové vodní útvary /</a:t>
            </a:r>
            <a:r>
              <a:rPr b="0" lang="cs-CZ" sz="1600" spc="-1" strike="noStrike">
                <a:solidFill>
                  <a:srgbClr val="3333cc"/>
                </a:solidFill>
                <a:latin typeface="Times New Roman"/>
              </a:rPr>
              <a:t>For groundwater bodies at risk</a:t>
            </a: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1" name="Line 24"/>
          <p:cNvSpPr/>
          <p:nvPr/>
        </p:nvSpPr>
        <p:spPr>
          <a:xfrm>
            <a:off x="5334120" y="4191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3:57:03Z</dcterms:created>
  <dc:creator>user</dc:creator>
  <dc:description/>
  <dc:language>en-US</dc:language>
  <cp:lastModifiedBy>ladislav</cp:lastModifiedBy>
  <dcterms:modified xsi:type="dcterms:W3CDTF">2010-11-12T08:55:14Z</dcterms:modified>
  <cp:revision>12</cp:revision>
  <dc:subject/>
  <dc:title>Prezentace aplikace PowerPoint</dc:title>
</cp:coreProperties>
</file>