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5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6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7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9413-D526-4B54-AA0B-0C41BD7991A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48DB-9F63-40FB-A31B-2245E3CC63B6}" type="slidenum">
              <a:rPr b="0" lang="de-DE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81727-43E2-49EF-82F4-CB4CE8E418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55C17-C13A-4FF4-9271-768F005F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F57B2-1549-4968-8A97-D675CC19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35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89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81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35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89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52726-0680-4CAC-8356-B0D9549ECA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100C7-FCD1-4A48-A8A5-0AA623889E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CA44D-41D4-4FF3-A6EE-FCC43922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B2FABD-0BB6-49E7-B087-4166E93D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F5043-F364-424E-85A3-A94844EF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88FAFA-F1F3-424C-99D4-37168940B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38120" y="437760"/>
            <a:ext cx="665496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3F78A-F82E-459A-9D10-D9E16B395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7B1616-6124-41AC-94C4-9B413773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87B34-C590-4570-8DD7-647581BD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65C245-10C4-409F-BEEF-A5D7FC72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0C081-019E-4451-A1DB-0D0DB04A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CA622-5644-4728-A69E-5EC03CEB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790BD-A327-44D2-8AA3-4B29ED42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35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89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81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35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89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98F6E-665B-486A-8BCC-DC708559C2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95BE0-61F0-4EAB-9422-ACE7C441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38120" y="437760"/>
            <a:ext cx="665496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35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89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381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35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89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815AE-5AC6-4D9F-BF36-4002022E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38120" y="437760"/>
            <a:ext cx="665496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35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8920" y="238104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381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35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8920" y="4390920"/>
            <a:ext cx="266184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F501D-CAF4-4CFC-B091-9F313B2A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8120" y="437760"/>
            <a:ext cx="665496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7773E-078B-48C8-ADD0-FED12F8F3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2F043-CD91-4905-933E-1CCFE7A3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439092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DA882-63BA-4E23-BDB6-801086A9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812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2381040"/>
            <a:ext cx="403452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8120" y="4390920"/>
            <a:ext cx="8267760" cy="18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D02E3-92DE-4828-B5D9-1A99DF14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1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4000" y="6229440"/>
            <a:ext cx="4537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284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28480"/>
                </a:solidFill>
                <a:latin typeface="Times New Roman"/>
              </a:rPr>
              <a:t>|  </a:t>
            </a:r>
            <a:fld id="{CB6AC361-F59A-4C14-ABDA-40DE4CA1CD68}" type="datetime3">
              <a:rPr b="0" lang="de-DE" sz="1200" spc="-1" strike="noStrike">
                <a:solidFill>
                  <a:srgbClr val="828480"/>
                </a:solidFill>
                <a:latin typeface="Times New Roman"/>
              </a:rPr>
              <a:t>28. Juli 2026</a:t>
            </a:fld>
            <a:r>
              <a:rPr b="0" lang="de-DE" sz="1200" spc="-1" strike="noStrike">
                <a:solidFill>
                  <a:srgbClr val="828480"/>
                </a:solidFill>
                <a:latin typeface="Times New Roman"/>
              </a:rPr>
              <a:t>  |  </a:t>
            </a:r>
            <a:r>
              <a:rPr b="0" lang="de-DE" sz="1200" spc="-1" strike="noStrike">
                <a:solidFill>
                  <a:srgbClr val="008444"/>
                </a:solidFill>
                <a:latin typeface="Times New Roman"/>
              </a:rPr>
              <a:t>Fr. Roh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0" y="6229440"/>
            <a:ext cx="611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284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8B39-5440-498C-9C85-0930513B4F82}" type="slidenum">
              <a:rPr b="0" lang="de-DE" sz="1200" spc="-1" strike="noStrike">
                <a:solidFill>
                  <a:srgbClr val="8284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225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25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225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969920" indent="-355320">
              <a:spcBef>
                <a:spcPts val="225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4" marL="2517840" indent="-368280">
              <a:spcBef>
                <a:spcPts val="225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5" marL="2517840" indent="-368280">
              <a:spcBef>
                <a:spcPts val="225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6" marL="2517840" indent="-368280">
              <a:spcBef>
                <a:spcPts val="225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" name="Picture 11" descr="SMUL_001_O_RGB"/>
          <p:cNvPicPr/>
          <p:nvPr/>
        </p:nvPicPr>
        <p:blipFill>
          <a:blip r:embed="rId2"/>
          <a:stretch/>
        </p:blipFill>
        <p:spPr>
          <a:xfrm>
            <a:off x="5078520" y="404640"/>
            <a:ext cx="362736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684000" y="6229440"/>
            <a:ext cx="80643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284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28480"/>
                </a:solidFill>
                <a:latin typeface="Times New Roman"/>
              </a:rPr>
              <a:t>| 07.09.2011 |  Referat Oberflächen- und Grundwasser; Fr. Roh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0" y="6229440"/>
            <a:ext cx="611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284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8EDF-F2E4-424B-B242-3CFDFC73BA94}" type="slidenum">
              <a:rPr b="0" lang="de-DE" sz="1200" spc="-1" strike="noStrike">
                <a:solidFill>
                  <a:srgbClr val="8284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969920" indent="-35532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4" marL="2517840" indent="-3682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5" marL="2517840" indent="-368280">
              <a:spcBef>
                <a:spcPts val="20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6" marL="2517840" indent="-368280">
              <a:spcBef>
                <a:spcPts val="20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5" name="Picture 6" descr="SMUL_001_O_RGB"/>
          <p:cNvPicPr/>
          <p:nvPr/>
        </p:nvPicPr>
        <p:blipFill>
          <a:blip r:embed="rId2"/>
          <a:stretch/>
        </p:blipFill>
        <p:spPr>
          <a:xfrm>
            <a:off x="5078520" y="404640"/>
            <a:ext cx="362736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SMUL_001_O_RGB"/>
          <p:cNvPicPr/>
          <p:nvPr/>
        </p:nvPicPr>
        <p:blipFill>
          <a:blip r:embed="rId2"/>
          <a:stretch/>
        </p:blipFill>
        <p:spPr>
          <a:xfrm>
            <a:off x="5078520" y="404640"/>
            <a:ext cx="3627360" cy="5050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225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25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225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969920" indent="-355320">
              <a:spcBef>
                <a:spcPts val="225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4" marL="2517840" indent="-368280">
              <a:spcBef>
                <a:spcPts val="225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5" marL="2517840" indent="-368280">
              <a:spcBef>
                <a:spcPts val="225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6" marL="2517840" indent="-368280">
              <a:spcBef>
                <a:spcPts val="225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0" descr="portal51"/>
          <p:cNvPicPr/>
          <p:nvPr/>
        </p:nvPicPr>
        <p:blipFill>
          <a:blip r:embed="rId2"/>
          <a:stretch/>
        </p:blipFill>
        <p:spPr>
          <a:xfrm>
            <a:off x="1440" y="1940040"/>
            <a:ext cx="9144000" cy="5313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WelleOben"/>
          <p:cNvPicPr/>
          <p:nvPr/>
        </p:nvPicPr>
        <p:blipFill>
          <a:blip r:embed="rId3"/>
          <a:srcRect l="0" t="33067" r="0" b="0"/>
          <a:stretch/>
        </p:blipFill>
        <p:spPr>
          <a:xfrm>
            <a:off x="1440" y="22320"/>
            <a:ext cx="9144000" cy="2381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SMUL_001_O_RGB"/>
          <p:cNvPicPr/>
          <p:nvPr/>
        </p:nvPicPr>
        <p:blipFill>
          <a:blip r:embed="rId4"/>
          <a:stretch/>
        </p:blipFill>
        <p:spPr>
          <a:xfrm>
            <a:off x="5078520" y="404640"/>
            <a:ext cx="3627360" cy="505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WelleUnten"/>
          <p:cNvPicPr/>
          <p:nvPr/>
        </p:nvPicPr>
        <p:blipFill>
          <a:blip r:embed="rId5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8120" y="43776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38120" y="2381040"/>
            <a:ext cx="826776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969920" indent="-35532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4" marL="2517840" indent="-3682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5" marL="2517840" indent="-368280">
              <a:spcBef>
                <a:spcPts val="20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6" marL="2517840" indent="-368280">
              <a:spcBef>
                <a:spcPts val="2001"/>
              </a:spcBef>
              <a:buClr>
                <a:srgbClr val="333333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Grafik 10" descr="F:\0_Gewässer_Bilder\Bilder_BfUL\2012_Februar 055.jpg"/>
          <p:cNvPicPr/>
          <p:nvPr/>
        </p:nvPicPr>
        <p:blipFill>
          <a:blip r:embed="rId1"/>
          <a:stretch/>
        </p:blipFill>
        <p:spPr>
          <a:xfrm>
            <a:off x="-15840" y="430200"/>
            <a:ext cx="9050400" cy="6453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3" descr="WelleOben"/>
          <p:cNvPicPr/>
          <p:nvPr/>
        </p:nvPicPr>
        <p:blipFill>
          <a:blip r:embed="rId2"/>
          <a:srcRect l="0" t="33067" r="0" b="0"/>
          <a:stretch/>
        </p:blipFill>
        <p:spPr>
          <a:xfrm>
            <a:off x="-15840" y="246240"/>
            <a:ext cx="9144000" cy="2422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WelleUnten"/>
          <p:cNvPicPr/>
          <p:nvPr/>
        </p:nvPicPr>
        <p:blipFill>
          <a:blip r:embed="rId3"/>
          <a:srcRect l="0" t="0" r="0" b="56159"/>
          <a:stretch/>
        </p:blipFill>
        <p:spPr>
          <a:xfrm>
            <a:off x="0" y="5229360"/>
            <a:ext cx="9144000" cy="20872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0320" y="638280"/>
            <a:ext cx="852660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MPM Labe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- Návrh 2015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zinárodní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ogram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 m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ěření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La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7" descr="SMUL_001_O_RGB"/>
          <p:cNvPicPr/>
          <p:nvPr/>
        </p:nvPicPr>
        <p:blipFill>
          <a:blip r:embed="rId4"/>
          <a:stretch/>
        </p:blipFill>
        <p:spPr>
          <a:xfrm>
            <a:off x="5078520" y="404640"/>
            <a:ext cx="3627360" cy="505080"/>
          </a:xfrm>
          <a:prstGeom prst="rect">
            <a:avLst/>
          </a:prstGeom>
          <a:ln w="0">
            <a:noFill/>
          </a:ln>
        </p:spPr>
      </p:pic>
      <p:sp>
        <p:nvSpPr>
          <p:cNvPr id="175" name="Textfeld 1"/>
          <p:cNvSpPr/>
          <p:nvPr/>
        </p:nvSpPr>
        <p:spPr>
          <a:xfrm>
            <a:off x="1316160" y="6273720"/>
            <a:ext cx="62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33"/>
                </a:solidFill>
                <a:latin typeface="Arial"/>
              </a:rPr>
              <a:t>MKOL-SW 18. /19. února 2014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38120" y="475920"/>
            <a:ext cx="6654960" cy="97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MPM Labe 2015</a:t>
            </a:r>
            <a:br>
              <a:rPr sz="2600"/>
            </a:br>
            <a:r>
              <a:rPr b="1" lang="cs-CZ" sz="2400" spc="-1" strike="noStrike">
                <a:solidFill>
                  <a:srgbClr val="008444"/>
                </a:solidFill>
                <a:latin typeface="Arial"/>
              </a:rPr>
              <a:t> Rozsah ukazatelů</a:t>
            </a:r>
            <a:r>
              <a:rPr b="1" lang="de-DE" sz="2400" spc="-1" strike="noStrike">
                <a:solidFill>
                  <a:srgbClr val="008444"/>
                </a:solidFill>
                <a:latin typeface="Arial"/>
              </a:rPr>
              <a:t>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76280" y="1661760"/>
            <a:ext cx="826776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119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33"/>
                </a:solidFill>
                <a:latin typeface="Arial"/>
              </a:rPr>
              <a:t>Všeobecné ukazatele, mezitím i živiny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119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Arial"/>
              </a:rPr>
              <a:t>na všech měrných profile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119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33"/>
                </a:solidFill>
                <a:latin typeface="Arial"/>
              </a:rPr>
              <a:t>Prioritní látky a národní škodlivé látky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119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Arial"/>
              </a:rPr>
              <a:t>pokud jsou vnášeny, respektive při &gt; ½ NE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119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119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33"/>
                </a:solidFill>
                <a:latin typeface="Arial"/>
              </a:rPr>
              <a:t>Pozměňující rámcová směrnice 2013/39/EU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119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33333"/>
                </a:solidFill>
                <a:latin typeface="Arial"/>
              </a:rPr>
              <a:t>2015 monitorování nových látek počínaje číslem 3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119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33333"/>
                </a:solidFill>
                <a:latin typeface="Arial"/>
              </a:rPr>
              <a:t>biota – pouze na vybraných profilech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119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33333"/>
                </a:solidFill>
                <a:latin typeface="Arial"/>
              </a:rPr>
              <a:t>všechny ukazatele podléhající trendům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Datumsplatzhalter 3"/>
          <p:cNvSpPr/>
          <p:nvPr/>
        </p:nvSpPr>
        <p:spPr>
          <a:xfrm>
            <a:off x="684360" y="6229440"/>
            <a:ext cx="806436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28480"/>
                </a:solidFill>
                <a:latin typeface="Arial"/>
              </a:rPr>
              <a:t>| 18.02.2014 |  Referat Oberflächen- und Grundwasser; Fr. Rohd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9" name="Foliennummernplatzhalter 4"/>
          <p:cNvSpPr/>
          <p:nvPr/>
        </p:nvSpPr>
        <p:spPr>
          <a:xfrm>
            <a:off x="0" y="6229440"/>
            <a:ext cx="6112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ED13-2B12-431A-B82E-A95DB21892D2}" type="slidenum">
              <a:rPr b="0" lang="de-DE" sz="1200" spc="-1" strike="noStrike">
                <a:solidFill>
                  <a:srgbClr val="8284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0" name="Picture 8" descr=""/>
          <p:cNvPicPr/>
          <p:nvPr/>
        </p:nvPicPr>
        <p:blipFill>
          <a:blip r:embed="rId1"/>
          <a:stretch/>
        </p:blipFill>
        <p:spPr>
          <a:xfrm>
            <a:off x="6300720" y="3102120"/>
            <a:ext cx="2220840" cy="1828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"/>
          <p:cNvPicPr/>
          <p:nvPr/>
        </p:nvPicPr>
        <p:blipFill>
          <a:blip r:embed="rId2"/>
          <a:stretch/>
        </p:blipFill>
        <p:spPr>
          <a:xfrm>
            <a:off x="6919920" y="1428840"/>
            <a:ext cx="1841400" cy="1701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"/>
          <p:cNvPicPr/>
          <p:nvPr/>
        </p:nvPicPr>
        <p:blipFill>
          <a:blip r:embed="rId3"/>
          <a:stretch/>
        </p:blipFill>
        <p:spPr>
          <a:xfrm>
            <a:off x="7021440" y="4930920"/>
            <a:ext cx="1959120" cy="1593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38120" y="6120"/>
            <a:ext cx="66549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MPM Labe 2015 </a:t>
            </a:r>
            <a:br>
              <a:rPr sz="2600"/>
            </a:br>
            <a:r>
              <a:rPr b="1" lang="cs-CZ" sz="2400" spc="-1" strike="noStrike">
                <a:solidFill>
                  <a:srgbClr val="008444"/>
                </a:solidFill>
                <a:latin typeface="Arial"/>
              </a:rPr>
              <a:t>Rozsah ukazatelů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38120" y="1483920"/>
            <a:ext cx="8267760" cy="47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-355680">
              <a:spcBef>
                <a:spcPts val="119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33"/>
                </a:solidFill>
                <a:latin typeface="Arial"/>
              </a:rPr>
              <a:t>Další (specifické pro povodí) látk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119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33"/>
                </a:solidFill>
                <a:latin typeface="Arial"/>
              </a:rPr>
              <a:t>16 látek ze seznamu UB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119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33"/>
                </a:solidFill>
                <a:latin typeface="Arial"/>
              </a:rPr>
              <a:t>Další požadavk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119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33333"/>
                </a:solidFill>
                <a:latin typeface="Arial"/>
              </a:rPr>
              <a:t>ukazatele pro zajištění konceptu</a:t>
            </a:r>
            <a:br>
              <a:rPr sz="1600"/>
            </a:br>
            <a:r>
              <a:rPr b="0" lang="cs-CZ" sz="1600" spc="-1" strike="noStrike">
                <a:solidFill>
                  <a:srgbClr val="333333"/>
                </a:solidFill>
                <a:latin typeface="Arial"/>
              </a:rPr>
              <a:t>managementu sedimentů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1199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33333"/>
                </a:solidFill>
                <a:latin typeface="Arial"/>
              </a:rPr>
              <a:t>kovy, celkově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1199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33333"/>
                </a:solidFill>
                <a:latin typeface="Arial"/>
              </a:rPr>
              <a:t>organické látky v sed. plaveninách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119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33"/>
                </a:solidFill>
                <a:latin typeface="Arial"/>
              </a:rPr>
              <a:t>Žádné „zcela“ nové látk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1199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33333"/>
                </a:solidFill>
                <a:latin typeface="Arial"/>
              </a:rPr>
              <a:t>pokračování sledování metabolitů pesticidů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55680" indent="-355680">
              <a:spcBef>
                <a:spcPts val="119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33"/>
                </a:solidFill>
                <a:latin typeface="Arial"/>
              </a:rPr>
              <a:t>Zjednodušení MPM Labe 2015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1199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333333"/>
                </a:solidFill>
                <a:latin typeface="Arial"/>
              </a:rPr>
              <a:t>vyjmutí látek, které byly již v dostateční míře sledovány a které nevykazují žádné  závažné hodnot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901800" indent="-36684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434960" indent="-353880">
              <a:spcBef>
                <a:spcPts val="2001"/>
              </a:spcBef>
              <a:buClr>
                <a:srgbClr val="008444"/>
              </a:buClr>
              <a:buFont typeface="Arial Unicode MS"/>
              <a:buChar char="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Datumsplatzhalter 3"/>
          <p:cNvSpPr/>
          <p:nvPr/>
        </p:nvSpPr>
        <p:spPr>
          <a:xfrm>
            <a:off x="684360" y="6229440"/>
            <a:ext cx="806436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28480"/>
                </a:solidFill>
                <a:latin typeface="Arial"/>
              </a:rPr>
              <a:t>| 18.02.2014 |  Referat Oberflächen- und Grundwasser; Fr. Rohd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Foliennummernplatzhalter 4"/>
          <p:cNvSpPr/>
          <p:nvPr/>
        </p:nvSpPr>
        <p:spPr>
          <a:xfrm>
            <a:off x="0" y="6229440"/>
            <a:ext cx="6112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AA81-5B8A-4B9F-B3C9-1DA3C08C5E4F}" type="slidenum">
              <a:rPr b="0" lang="de-DE" sz="1200" spc="-1" strike="noStrike">
                <a:solidFill>
                  <a:srgbClr val="8284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7" name="Picture 6" descr=""/>
          <p:cNvPicPr/>
          <p:nvPr/>
        </p:nvPicPr>
        <p:blipFill>
          <a:blip r:embed="rId1"/>
          <a:stretch/>
        </p:blipFill>
        <p:spPr>
          <a:xfrm>
            <a:off x="5653080" y="1484280"/>
            <a:ext cx="2665440" cy="26654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07:10:19Z</dcterms:created>
  <dc:creator>Elefant</dc:creator>
  <dc:description/>
  <dc:language>en-US</dc:language>
  <cp:lastModifiedBy>Ladislav</cp:lastModifiedBy>
  <dcterms:modified xsi:type="dcterms:W3CDTF">2014-06-11T07:35:02Z</dcterms:modified>
  <cp:revision>711</cp:revision>
  <dc:subject/>
  <dc:title>Ohne Zweitlogo: Titel der Präsentation Arial 26</dc:title>
</cp:coreProperties>
</file>