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EEF7-41C8-46A1-B387-31823A9B4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638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7E18-5B83-4059-8DAB-E93068FF3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88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638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638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6333-CEBE-461F-887B-F2E36DE61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88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88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638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638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638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E311-E52F-4371-AEE1-BF248381FE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8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AECB-2017-4986-8BF8-B8586D9F3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BFCA-68E6-4D6C-AEE2-AC35EE25B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88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2323-5EEA-4FE3-8B09-3A1497A5A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6C38-6A8E-43A7-ABAD-38535A304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6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F050-F858-4755-B4FC-3A68F5758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8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638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02E5-7041-4425-9211-FC42B032B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8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638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A636-9E8E-4095-BB71-BB7ADC0A1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88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638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E1FB-73EC-4780-804F-B0208F003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0"/>
            <a:ext cx="9144000" cy="803160"/>
          </a:xfrm>
          <a:prstGeom prst="rect">
            <a:avLst/>
          </a:prstGeom>
          <a:solidFill>
            <a:srgbClr val="bc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8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6040">
              <a:spcBef>
                <a:spcPts val="1375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177840">
              <a:spcBef>
                <a:spcPts val="1375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184320">
              <a:spcBef>
                <a:spcPts val="1375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41200" y="6619680"/>
            <a:ext cx="53676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28960" y="6593040"/>
            <a:ext cx="9892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EC66-EF6A-4E00-B28E-81F802FB99D1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222120" y="312840"/>
            <a:ext cx="16200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3"/>
          <p:cNvSpPr/>
          <p:nvPr/>
        </p:nvSpPr>
        <p:spPr>
          <a:xfrm rot="16200000">
            <a:off x="-394560" y="4728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2d8e6"/>
                </a:solidFill>
                <a:latin typeface="Arial"/>
              </a:rPr>
              <a:t>AG 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4" descr="Wappenleiste_neu"/>
          <p:cNvPicPr/>
          <p:nvPr/>
        </p:nvPicPr>
        <p:blipFill>
          <a:blip r:embed="rId2"/>
          <a:stretch/>
        </p:blipFill>
        <p:spPr>
          <a:xfrm>
            <a:off x="179280" y="6219720"/>
            <a:ext cx="6626160" cy="6206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6" descr="Logo_transparent"/>
          <p:cNvPicPr/>
          <p:nvPr/>
        </p:nvPicPr>
        <p:blipFill>
          <a:blip r:embed="rId3"/>
          <a:stretch/>
        </p:blipFill>
        <p:spPr>
          <a:xfrm>
            <a:off x="8335800" y="-88920"/>
            <a:ext cx="770040" cy="107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9"/>
          <p:cNvSpPr/>
          <p:nvPr/>
        </p:nvSpPr>
        <p:spPr>
          <a:xfrm>
            <a:off x="465120" y="5791320"/>
            <a:ext cx="7924680" cy="312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8"/>
          <p:cNvSpPr/>
          <p:nvPr/>
        </p:nvSpPr>
        <p:spPr>
          <a:xfrm flipV="1">
            <a:off x="8388360" y="1190160"/>
            <a:ext cx="0" cy="490716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7"/>
          <p:cNvSpPr/>
          <p:nvPr/>
        </p:nvSpPr>
        <p:spPr>
          <a:xfrm flipV="1">
            <a:off x="6727680" y="1189080"/>
            <a:ext cx="0" cy="490680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46"/>
          <p:cNvSpPr/>
          <p:nvPr/>
        </p:nvSpPr>
        <p:spPr>
          <a:xfrm flipV="1">
            <a:off x="4954680" y="1192320"/>
            <a:ext cx="0" cy="490680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5"/>
          <p:cNvSpPr/>
          <p:nvPr/>
        </p:nvSpPr>
        <p:spPr>
          <a:xfrm flipV="1">
            <a:off x="3224160" y="1190160"/>
            <a:ext cx="0" cy="490716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5800" y="15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99"/>
                </a:solidFill>
                <a:latin typeface="Arial"/>
              </a:rPr>
              <a:t>Návaznost termínů MPM a NPM Labe 201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630520" y="1028880"/>
          <a:ext cx="6219720" cy="542880"/>
        </p:xfrm>
        <a:graphic>
          <a:graphicData uri="http://schemas.openxmlformats.org/drawingml/2006/table">
            <a:tbl>
              <a:tblPr/>
              <a:tblGrid>
                <a:gridCol w="621972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8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vrh </a:t>
                      </a:r>
                      <a:r>
                        <a:rPr b="1" lang="cs-CZ" sz="14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NPM Lab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zde národní část </a:t>
                      </a:r>
                      <a:r>
                        <a:rPr b="1" lang="cs-CZ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MPM Lab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ze sekr. FGG Elbe ad hoc prac. skupinám Sedi a Hydrochemie + hydrobiologie ve spolk. zem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630520" y="1598760"/>
          <a:ext cx="6218280" cy="731520"/>
        </p:xfrm>
        <a:graphic>
          <a:graphicData uri="http://schemas.openxmlformats.org/drawingml/2006/table">
            <a:tbl>
              <a:tblPr/>
              <a:tblGrid>
                <a:gridCol w="6218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 hoc prac. sk. Sedi, Hydrochemie/hydrobiologie a sekret. FGG Elbe: příprava / odsouhlasení změn </a:t>
                      </a:r>
                      <a:r>
                        <a:rPr b="1" lang="cs-CZ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PM Lab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z toho národní část </a:t>
                      </a:r>
                      <a:r>
                        <a:rPr b="1" lang="cs-CZ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MPM Lab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, předání ze sekr. FGG Elbe prac. skupině 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53" name="Line 20"/>
          <p:cNvSpPr/>
          <p:nvPr/>
        </p:nvSpPr>
        <p:spPr>
          <a:xfrm flipV="1">
            <a:off x="1508040" y="1190160"/>
            <a:ext cx="0" cy="490716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4"/>
          <p:cNvSpPr/>
          <p:nvPr/>
        </p:nvSpPr>
        <p:spPr>
          <a:xfrm>
            <a:off x="606600" y="5070600"/>
            <a:ext cx="5019480" cy="987480"/>
          </a:xfrm>
          <a:prstGeom prst="rightArrow">
            <a:avLst>
              <a:gd name="adj1" fmla="val 50000"/>
              <a:gd name="adj2" fmla="val 12707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4"/>
          <p:cNvSpPr/>
          <p:nvPr/>
        </p:nvSpPr>
        <p:spPr>
          <a:xfrm>
            <a:off x="576360" y="5413320"/>
            <a:ext cx="16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rvene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82840" y="2360520"/>
          <a:ext cx="5565960" cy="517680"/>
        </p:xfrm>
        <a:graphic>
          <a:graphicData uri="http://schemas.openxmlformats.org/drawingml/2006/table">
            <a:tbl>
              <a:tblPr/>
              <a:tblGrid>
                <a:gridCol w="55659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. skup. OW: schválení návrhu </a:t>
                      </a:r>
                      <a:r>
                        <a:rPr b="1" lang="cs-CZ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PM Labe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ání pracovní předlohy MK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284640" y="2871720"/>
          <a:ext cx="5564160" cy="366840"/>
        </p:xfrm>
        <a:graphic>
          <a:graphicData uri="http://schemas.openxmlformats.org/drawingml/2006/table">
            <a:tbl>
              <a:tblPr/>
              <a:tblGrid>
                <a:gridCol w="556416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dy skupin expertů  Hydrochemie / Hydrobiologie MKO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394160" y="4067280"/>
          <a:ext cx="4444920" cy="517320"/>
        </p:xfrm>
        <a:graphic>
          <a:graphicData uri="http://schemas.openxmlformats.org/drawingml/2006/table">
            <a:tbl>
              <a:tblPr/>
              <a:tblGrid>
                <a:gridCol w="4444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a expertů SW MKOL: harmonizace návrhu </a:t>
                      </a:r>
                      <a:r>
                        <a:rPr b="1" lang="cs-CZ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PM La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56280" y="4537080"/>
          <a:ext cx="3670200" cy="731880"/>
        </p:xfrm>
        <a:graphic>
          <a:graphicData uri="http://schemas.openxmlformats.org/drawingml/2006/table">
            <a:tbl>
              <a:tblPr/>
              <a:tblGrid>
                <a:gridCol w="3670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pracování návrhu </a:t>
                      </a:r>
                      <a:r>
                        <a:rPr b="1" lang="cs-CZ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PM Lab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ekretariát FGG Elbe) a </a:t>
                      </a:r>
                      <a:r>
                        <a:rPr b="1" lang="cs-CZ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PM Lab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ekretariát MKOL), usnesení Koordinační r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661000" y="5324400"/>
          <a:ext cx="3165480" cy="517680"/>
        </p:xfrm>
        <a:graphic>
          <a:graphicData uri="http://schemas.openxmlformats.org/drawingml/2006/table">
            <a:tbl>
              <a:tblPr/>
              <a:tblGrid>
                <a:gridCol w="31654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. sk. WFD MKOL: předloha </a:t>
                      </a:r>
                      <a:r>
                        <a:rPr b="1" lang="cs-CZ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PM Lab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 zasedání MKOL na podz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61" name="AutoShape 53"/>
          <p:cNvSpPr/>
          <p:nvPr/>
        </p:nvSpPr>
        <p:spPr>
          <a:xfrm>
            <a:off x="604800" y="4427640"/>
            <a:ext cx="4483080" cy="987480"/>
          </a:xfrm>
          <a:prstGeom prst="rightArrow">
            <a:avLst>
              <a:gd name="adj1" fmla="val 50000"/>
              <a:gd name="adj2" fmla="val 113498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2"/>
          <p:cNvSpPr/>
          <p:nvPr/>
        </p:nvSpPr>
        <p:spPr>
          <a:xfrm>
            <a:off x="603360" y="3794040"/>
            <a:ext cx="3786120" cy="987480"/>
          </a:xfrm>
          <a:prstGeom prst="rightArrow">
            <a:avLst>
              <a:gd name="adj1" fmla="val 50000"/>
              <a:gd name="adj2" fmla="val 9585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1"/>
          <p:cNvSpPr/>
          <p:nvPr/>
        </p:nvSpPr>
        <p:spPr>
          <a:xfrm>
            <a:off x="428760" y="4167360"/>
            <a:ext cx="17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rven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3"/>
          <p:cNvSpPr/>
          <p:nvPr/>
        </p:nvSpPr>
        <p:spPr>
          <a:xfrm>
            <a:off x="576360" y="4795920"/>
            <a:ext cx="18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o července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92"/>
          <p:cNvGrpSpPr/>
          <p:nvPr/>
        </p:nvGrpSpPr>
        <p:grpSpPr>
          <a:xfrm>
            <a:off x="581040" y="816120"/>
            <a:ext cx="915840" cy="987120"/>
            <a:chOff x="581040" y="816120"/>
            <a:chExt cx="915840" cy="987120"/>
          </a:xfrm>
        </p:grpSpPr>
        <p:sp>
          <p:nvSpPr>
            <p:cNvPr id="66" name="AutoShape 7"/>
            <p:cNvSpPr/>
            <p:nvPr/>
          </p:nvSpPr>
          <p:spPr>
            <a:xfrm>
              <a:off x="581040" y="816120"/>
              <a:ext cx="915840" cy="987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55"/>
            <p:cNvSpPr/>
            <p:nvPr/>
          </p:nvSpPr>
          <p:spPr>
            <a:xfrm>
              <a:off x="668160" y="1074600"/>
              <a:ext cx="681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s.  </a:t>
              </a: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87"/>
          <p:cNvSpPr/>
          <p:nvPr/>
        </p:nvSpPr>
        <p:spPr>
          <a:xfrm>
            <a:off x="1639800" y="583236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/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8"/>
          <p:cNvSpPr/>
          <p:nvPr/>
        </p:nvSpPr>
        <p:spPr>
          <a:xfrm>
            <a:off x="3557520" y="584532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I/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9"/>
          <p:cNvSpPr/>
          <p:nvPr/>
        </p:nvSpPr>
        <p:spPr>
          <a:xfrm>
            <a:off x="5322960" y="583236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II/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90"/>
          <p:cNvSpPr/>
          <p:nvPr/>
        </p:nvSpPr>
        <p:spPr>
          <a:xfrm>
            <a:off x="7012080" y="585792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V/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91"/>
          <p:cNvSpPr/>
          <p:nvPr/>
        </p:nvSpPr>
        <p:spPr>
          <a:xfrm>
            <a:off x="636480" y="583236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V/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00"/>
          <p:cNvSpPr/>
          <p:nvPr/>
        </p:nvSpPr>
        <p:spPr>
          <a:xfrm>
            <a:off x="603360" y="3152880"/>
            <a:ext cx="3201840" cy="987480"/>
          </a:xfrm>
          <a:prstGeom prst="rightArrow">
            <a:avLst>
              <a:gd name="adj1" fmla="val 50000"/>
              <a:gd name="adj2" fmla="val 810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0"/>
          <p:cNvSpPr/>
          <p:nvPr/>
        </p:nvSpPr>
        <p:spPr>
          <a:xfrm>
            <a:off x="4394160" y="3403440"/>
            <a:ext cx="4444920" cy="307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pracování návrhu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</a:rPr>
              <a:t>MPM Lab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ekretariátem MK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11"/>
          <p:cNvSpPr/>
          <p:nvPr/>
        </p:nvSpPr>
        <p:spPr>
          <a:xfrm>
            <a:off x="738360" y="352260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15.  květen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0"/>
          <p:cNvSpPr/>
          <p:nvPr/>
        </p:nvSpPr>
        <p:spPr>
          <a:xfrm>
            <a:off x="614520" y="2514600"/>
            <a:ext cx="2627280" cy="987480"/>
          </a:xfrm>
          <a:prstGeom prst="rightArrow">
            <a:avLst>
              <a:gd name="adj1" fmla="val 50000"/>
              <a:gd name="adj2" fmla="val 665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8"/>
          <p:cNvSpPr/>
          <p:nvPr/>
        </p:nvSpPr>
        <p:spPr>
          <a:xfrm>
            <a:off x="614520" y="2909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ouběžně  březen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598320" y="2119320"/>
            <a:ext cx="2627640" cy="987480"/>
          </a:xfrm>
          <a:prstGeom prst="rightArrow">
            <a:avLst>
              <a:gd name="adj1" fmla="val 50000"/>
              <a:gd name="adj2" fmla="val 66524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7"/>
          <p:cNvSpPr/>
          <p:nvPr/>
        </p:nvSpPr>
        <p:spPr>
          <a:xfrm>
            <a:off x="657360" y="2449440"/>
            <a:ext cx="10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1. 3.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93"/>
          <p:cNvGrpSpPr/>
          <p:nvPr/>
        </p:nvGrpSpPr>
        <p:grpSpPr>
          <a:xfrm>
            <a:off x="596880" y="1474920"/>
            <a:ext cx="1743120" cy="987120"/>
            <a:chOff x="596880" y="1474920"/>
            <a:chExt cx="1743120" cy="987120"/>
          </a:xfrm>
        </p:grpSpPr>
        <p:sp>
          <p:nvSpPr>
            <p:cNvPr id="81" name="AutoShape 22"/>
            <p:cNvSpPr/>
            <p:nvPr/>
          </p:nvSpPr>
          <p:spPr>
            <a:xfrm>
              <a:off x="596880" y="1474920"/>
              <a:ext cx="1743120" cy="987120"/>
            </a:xfrm>
            <a:prstGeom prst="rightArrow">
              <a:avLst>
                <a:gd name="adj1" fmla="val 50000"/>
                <a:gd name="adj2" fmla="val 4414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56"/>
            <p:cNvSpPr/>
            <p:nvPr/>
          </p:nvSpPr>
          <p:spPr>
            <a:xfrm>
              <a:off x="655560" y="1819440"/>
              <a:ext cx="103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15. 2. 20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6"/>
          <p:cNvSpPr/>
          <p:nvPr/>
        </p:nvSpPr>
        <p:spPr>
          <a:xfrm>
            <a:off x="465120" y="932040"/>
            <a:ext cx="158760" cy="517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vel</cp:lastModifiedBy>
  <dcterms:modified xsi:type="dcterms:W3CDTF">2010-07-21T10:33:55Z</dcterms:modified>
  <cp:revision>9</cp:revision>
  <dc:subject/>
  <dc:title>Folie 1</dc:title>
</cp:coreProperties>
</file>