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917640" y="754200"/>
            <a:ext cx="4959360" cy="3720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48040" cy="4953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47680" y="0"/>
            <a:ext cx="2948040" cy="4953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9429840"/>
            <a:ext cx="2948040" cy="495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7680" y="9429840"/>
            <a:ext cx="2948040" cy="495360"/>
          </a:xfrm>
          <a:prstGeom prst="rect">
            <a:avLst/>
          </a:prstGeom>
          <a:noFill/>
          <a:ln w="0">
            <a:noFill/>
          </a:ln>
        </p:spPr>
        <p:txBody>
          <a:bodyPr lIns="0" rIns="0" tIns="0" bIns="0" anchor="b">
            <a:noAutofit/>
          </a:bodyPr>
          <a:lstStyle>
            <a:lvl1pPr indent="0" algn="r">
              <a:lnSpc>
                <a:spcPct val="95000"/>
              </a:lnSpc>
              <a:buNone/>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300" spc="-1" strike="noStrike">
                <a:solidFill>
                  <a:srgbClr val="000000"/>
                </a:solidFill>
                <a:latin typeface="Times New Roman"/>
              </a:defRPr>
            </a:lvl1pPr>
          </a:lstStyle>
          <a:p>
            <a:pPr indent="0" algn="r">
              <a:lnSpc>
                <a:spcPct val="95000"/>
              </a:lnSpc>
              <a:buNone/>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64D04-CAA3-4BF2-B5EE-E6E23B9A7A5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3848040" y="9429840"/>
            <a:ext cx="29480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FE4142-9FB3-499F-9EFA-09130406F23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78" name="PlaceHolder 1"/>
          <p:cNvSpPr>
            <a:spLocks noGrp="1"/>
          </p:cNvSpPr>
          <p:nvPr>
            <p:ph type="sldImg"/>
          </p:nvPr>
        </p:nvSpPr>
        <p:spPr>
          <a:xfrm>
            <a:off x="917640" y="754200"/>
            <a:ext cx="4960800" cy="3722400"/>
          </a:xfrm>
          <a:prstGeom prst="rect">
            <a:avLst/>
          </a:prstGeom>
          <a:ln w="0">
            <a:noFill/>
          </a:ln>
        </p:spPr>
      </p:sp>
      <p:sp>
        <p:nvSpPr>
          <p:cNvPr id="79"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Beobachtungen an der Tideelbe, Bericht an die AG WFD der IK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848040" y="9429840"/>
            <a:ext cx="29480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6F5FD6-B99E-40E0-89E0-34BC22B1D1D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81" name="PlaceHolder 1"/>
          <p:cNvSpPr>
            <a:spLocks noGrp="1"/>
          </p:cNvSpPr>
          <p:nvPr>
            <p:ph type="sldImg"/>
          </p:nvPr>
        </p:nvSpPr>
        <p:spPr>
          <a:xfrm>
            <a:off x="917640" y="754200"/>
            <a:ext cx="4960800" cy="3722400"/>
          </a:xfrm>
          <a:prstGeom prst="rect">
            <a:avLst/>
          </a:prstGeom>
          <a:ln w="0">
            <a:noFill/>
          </a:ln>
        </p:spPr>
      </p:sp>
      <p:sp>
        <p:nvSpPr>
          <p:cNvPr id="82"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RdE beobachtet die Wassergüte der Tideelbe vor allem durch die Daten der Messstationen des Wassergütemessnetzes Hamburg. Dabei wurde seit Jahren deutlich, dass nach der letzten Elbvertiefung „Sauerstofflöcher“ auftraten, die den Hafen Hamburg zu einem unüberwindlichen Hindernis für wandernde Fische machen. Im Bewirtschaftungsplan werden Maßnahmen zur Lösung des Problems geforder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iskutiert werden Sauerstoffhaushalt und Salinität der Tideelbe auch wegen der geplanten erneuten Vertiefung der Fahrrinn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Neben den Daten des WGMN, die online verfügbar sind, wurden diesmal die Daten vom NLWKN für die Messstation Grauerort abgerufen. Begleitende Informationen werden durch die Beweissicherung der WSV zur letzten Elbvertiefung ausgewert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3848040" y="9429840"/>
            <a:ext cx="29480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FC6172-F080-4085-A95D-A71F4670B2A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84" name="PlaceHolder 1"/>
          <p:cNvSpPr>
            <a:spLocks noGrp="1"/>
          </p:cNvSpPr>
          <p:nvPr>
            <p:ph type="sldImg"/>
          </p:nvPr>
        </p:nvSpPr>
        <p:spPr>
          <a:xfrm>
            <a:off x="917640" y="754200"/>
            <a:ext cx="4960800" cy="3722400"/>
          </a:xfrm>
          <a:prstGeom prst="rect">
            <a:avLst/>
          </a:prstGeom>
          <a:ln w="0">
            <a:noFill/>
          </a:ln>
        </p:spPr>
      </p:sp>
      <p:sp>
        <p:nvSpPr>
          <p:cNvPr id="85"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Tiefenmodell mit Fahrrinne und Lage der Dauermessstation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as Tiefenmodell der Tideelbe wurde aus den Peildaten der Beweissicherung von RdE erstellt. Es demonstriert den morphologischen Unterschied zur limnischen Elbe oberhalb Hambur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3848040" y="9429840"/>
            <a:ext cx="29480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774870-322E-4337-ADF0-B50DE67F741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87" name="PlaceHolder 1"/>
          <p:cNvSpPr>
            <a:spLocks noGrp="1"/>
          </p:cNvSpPr>
          <p:nvPr>
            <p:ph type="sldImg"/>
          </p:nvPr>
        </p:nvSpPr>
        <p:spPr>
          <a:xfrm>
            <a:off x="917640" y="754200"/>
            <a:ext cx="4960800" cy="3722400"/>
          </a:xfrm>
          <a:prstGeom prst="rect">
            <a:avLst/>
          </a:prstGeom>
          <a:ln w="0">
            <a:noFill/>
          </a:ln>
        </p:spPr>
      </p:sp>
      <p:sp>
        <p:nvSpPr>
          <p:cNvPr id="88"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Tagesmittelwerte Sauerstoffkonzentration im Sommerhalbjahr 201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as Wasser der Elbe erreicht Hamburg bei Bunthaus mit hohen Sauerstoffgehalten, die von lebenden Algen erzeugt werden. Im seeschifftiefen Wasser sterben die meisten Algen ab und werden bakteriell abgebaut, so dass am Ausgang des Hafens in Blankenese der Sauerstoffgehalt bis unter die fischkritische Grenze von 3 mg/l fällt. Bis Grauerort bessert sich die Lage, aber eine volle sauerstoffproduzierende Algenpopulation entwickelt sich auf der Strecke nicht meh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3848040" y="9429840"/>
            <a:ext cx="29480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0861B6-62E5-44B8-A9C5-A1A111CCAE9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90" name="PlaceHolder 1"/>
          <p:cNvSpPr>
            <a:spLocks noGrp="1"/>
          </p:cNvSpPr>
          <p:nvPr>
            <p:ph type="sldImg"/>
          </p:nvPr>
        </p:nvSpPr>
        <p:spPr>
          <a:xfrm>
            <a:off x="917640" y="754200"/>
            <a:ext cx="4960800" cy="3722400"/>
          </a:xfrm>
          <a:prstGeom prst="rect">
            <a:avLst/>
          </a:prstGeom>
          <a:ln w="0">
            <a:noFill/>
          </a:ln>
        </p:spPr>
      </p:sp>
      <p:sp>
        <p:nvSpPr>
          <p:cNvPr id="91"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Zahl der Tage mit Mittelwert unter 3 mg/l; Sauerstoffzehrung durch schlecht geklärte Abwässer bis 1990, Rückgang bis 1998, Wiederanstieg nach Elbvertiefung 199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848040" y="9429840"/>
            <a:ext cx="29480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21ED62-BB2B-4CF2-80B3-F0912AFAD22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93" name="PlaceHolder 1"/>
          <p:cNvSpPr>
            <a:spLocks noGrp="1"/>
          </p:cNvSpPr>
          <p:nvPr>
            <p:ph type="sldImg"/>
          </p:nvPr>
        </p:nvSpPr>
        <p:spPr>
          <a:xfrm>
            <a:off x="917640" y="754200"/>
            <a:ext cx="4960800" cy="3722400"/>
          </a:xfrm>
          <a:prstGeom prst="rect">
            <a:avLst/>
          </a:prstGeom>
          <a:ln w="0">
            <a:noFill/>
          </a:ln>
        </p:spPr>
      </p:sp>
      <p:sp>
        <p:nvSpPr>
          <p:cNvPr id="94"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Grenze des guten Zustands wird häufig unterschritten, Auswirkung bis Grauerort (Messwerte aber erst ab 1996 vorhand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3848040" y="9429840"/>
            <a:ext cx="29480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0AE477-AD51-4559-BD37-BD1AC707713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96" name="PlaceHolder 1"/>
          <p:cNvSpPr>
            <a:spLocks noGrp="1"/>
          </p:cNvSpPr>
          <p:nvPr>
            <p:ph type="sldImg"/>
          </p:nvPr>
        </p:nvSpPr>
        <p:spPr>
          <a:xfrm>
            <a:off x="917640" y="754200"/>
            <a:ext cx="4960800" cy="3722400"/>
          </a:xfrm>
          <a:prstGeom prst="rect">
            <a:avLst/>
          </a:prstGeom>
          <a:ln w="0">
            <a:noFill/>
          </a:ln>
        </p:spPr>
      </p:sp>
      <p:sp>
        <p:nvSpPr>
          <p:cNvPr id="97"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Während in Blankenese unter 3 mg/l gemessen wurde, wurde (nur) mit ablaufendem Wasser auch die Konzentration in Grauerort gedrückt, wenn auch nicht auf fischkritische Wer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3848040" y="9429840"/>
            <a:ext cx="29480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7CCCBF-30AA-4702-A4C4-3E94D685011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99" name="PlaceHolder 1"/>
          <p:cNvSpPr>
            <a:spLocks noGrp="1"/>
          </p:cNvSpPr>
          <p:nvPr>
            <p:ph type="sldImg"/>
          </p:nvPr>
        </p:nvSpPr>
        <p:spPr>
          <a:xfrm>
            <a:off x="917640" y="754200"/>
            <a:ext cx="4960800" cy="3722400"/>
          </a:xfrm>
          <a:prstGeom prst="rect">
            <a:avLst/>
          </a:prstGeom>
          <a:ln w="0">
            <a:noFill/>
          </a:ln>
        </p:spPr>
      </p:sp>
      <p:sp>
        <p:nvSpPr>
          <p:cNvPr id="100"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Leitfähigkeit in µS/cm, Tagesmittelwert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Grauerort schon höher als Blankenese, aber noch nicht versalzen; „Salztage“ treten bei niedrigem Oberwasserzufluss auf.</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Aktuell wird bei der Diskussion um die Planfeststellung der Fahrrinnenvertiefung die Sorge der Obstbauern geäußert, die Salzwassergrenze könne sich aufwärts verlagern. Aus den Daten der Messstationen und Beweissicherungsstichproben ist nicht ableitbar, ob Salzwasser mit höherer Geschwindigkeit weiter aufwärts schwapp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Für die Beurteilung des ökologischen Zustands ist die Salinität von besonderer Bedeutung, weil der Süßwasser-Tide-Abschnitt bereits durch das Wehr Geesthacht begrenzt ist, und eine Aufwärtsverschiebung der Salzwasserzone ihn signifikant verkleinern wür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848040" y="9429840"/>
            <a:ext cx="29480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B58B67-4C1F-48E1-9E77-19B26483719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02" name="PlaceHolder 1"/>
          <p:cNvSpPr>
            <a:spLocks noGrp="1"/>
          </p:cNvSpPr>
          <p:nvPr>
            <p:ph type="sldImg"/>
          </p:nvPr>
        </p:nvSpPr>
        <p:spPr>
          <a:xfrm>
            <a:off x="917640" y="754200"/>
            <a:ext cx="4959360" cy="3720960"/>
          </a:xfrm>
          <a:prstGeom prst="rect">
            <a:avLst/>
          </a:prstGeom>
          <a:ln w="0">
            <a:noFill/>
          </a:ln>
        </p:spPr>
      </p:sp>
      <p:sp>
        <p:nvSpPr>
          <p:cNvPr id="10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ie Daten aller Dauermessstationen online stellen und möglichst mit den Pegeldaten (PegelOnline) verbind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Wie im Bericht der IKSE zum Fischbestand dargestellt, sollten Fische mit Sendern ausgerüstet und ihre Wanderungen im Tideelbeabschnitt aufgezeichnet werden, besonders in Perioden mit Sauerstoffdefizit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er Staat Hamburg nimmt sich das Recht heraus, die Elbe prioritär für den Hafen zu nutzen. Die Forderungen der WRRL werden missachtet (Baggerungen im Sauerstoffloch 2011 durch die Hafenbehörde), und von der Umweltbehörde wird nicht widersprochen. Weder für strukturelle Verbesserungen des Gewässers noch eine Minderung des Eintrags der Nährstoffe hat die Umweltbehörde bisher den Bewirtschaftungsplan in die Tat umgesetz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CF603-FBEC-4BF0-B88D-516871032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C346A-4C8D-4C01-90C4-E476C2ABC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E9A9D-C0B5-41F1-9A8D-6A5AD8BB1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4157F-D3D8-4562-B1B1-D28AFE554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13AA0-CB35-430F-8CD1-83765C279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DB2DA-8445-4E46-B0AB-D659CCF30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E8613-6586-426C-96A5-CA7B01E02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7DE3D-A160-451C-806B-CA00CB090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947F3-0E67-4944-A891-A1D38570C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1DDAE-EBC8-4B14-9188-AA9807B54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E034-AAC9-4934-BD7D-B3E7FDE2D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6539-7CBE-4642-937B-FC08B5600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10C39E-4B25-427B-89AE-412E349C1A2B}"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Arial"/>
              </a:rPr>
              <a:t>Sauerstoffdefizite und Salinität in der Tideelbe</a:t>
            </a:r>
            <a:endParaRPr b="0" lang="en-US" sz="4400" spc="-1" strike="noStrike">
              <a:solidFill>
                <a:srgbClr val="000000"/>
              </a:solidFill>
              <a:latin typeface="Arial"/>
            </a:endParaRPr>
          </a:p>
        </p:txBody>
      </p:sp>
      <p:pic>
        <p:nvPicPr>
          <p:cNvPr id="49" name="Picture 2" descr=""/>
          <p:cNvPicPr/>
          <p:nvPr/>
        </p:nvPicPr>
        <p:blipFill>
          <a:blip r:embed="rId1"/>
          <a:stretch/>
        </p:blipFill>
        <p:spPr>
          <a:xfrm>
            <a:off x="3240000" y="1728720"/>
            <a:ext cx="3600360" cy="2772000"/>
          </a:xfrm>
          <a:prstGeom prst="rect">
            <a:avLst/>
          </a:prstGeom>
          <a:ln w="0">
            <a:noFill/>
          </a:ln>
        </p:spPr>
      </p:pic>
      <p:sp>
        <p:nvSpPr>
          <p:cNvPr id="50" name="Text Box 3"/>
          <p:cNvSpPr/>
          <p:nvPr/>
        </p:nvSpPr>
        <p:spPr>
          <a:xfrm>
            <a:off x="576360" y="5327640"/>
            <a:ext cx="8928000" cy="82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800" spc="-1" strike="noStrike">
                <a:solidFill>
                  <a:srgbClr val="280099"/>
                </a:solidFill>
                <a:latin typeface="Futura XBlkCn BT"/>
              </a:rPr>
              <a:t>Förderkreis »Rettet die Elbe« eV</a:t>
            </a: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Arial"/>
              </a:rPr>
              <a:t>Datengrundlage, Messpunkte</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3200" spc="-1" strike="noStrike">
                <a:solidFill>
                  <a:srgbClr val="000000"/>
                </a:solidFill>
                <a:latin typeface="Arial"/>
              </a:rPr>
              <a:t>Automatische Messstatione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Arial"/>
              </a:rPr>
              <a:t>Wassergütemessnetz Hamburg onl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Arial"/>
              </a:rPr>
              <a:t>Nds. Landesamt Wasser, Küsten, Natur (Sta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3200" spc="-1" strike="noStrike">
                <a:solidFill>
                  <a:srgbClr val="000000"/>
                </a:solidFill>
                <a:latin typeface="Arial"/>
              </a:rPr>
              <a:t>Beweissicherung Elbvertiefung 1998</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Arial"/>
              </a:rPr>
              <a:t>Peildate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Arial"/>
              </a:rPr>
              <a:t>Stichprobe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925640" y="0"/>
            <a:ext cx="6230880" cy="706320"/>
          </a:xfrm>
          <a:prstGeom prst="rect">
            <a:avLst/>
          </a:prstGeom>
          <a:noFill/>
          <a:ln w="0">
            <a:noFill/>
          </a:ln>
        </p:spPr>
        <p:style>
          <a:lnRef idx="0"/>
          <a:fillRef idx="0"/>
          <a:effectRef idx="0"/>
          <a:fontRef idx="minor"/>
        </p:style>
        <p:txBody>
          <a:bodyPr wrap="none"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Morphologie und Messstationen</a:t>
            </a:r>
            <a:endParaRPr b="0" lang="en-US" sz="3200" spc="-1" strike="noStrike">
              <a:solidFill>
                <a:srgbClr val="000000"/>
              </a:solidFill>
              <a:latin typeface="Arial"/>
            </a:endParaRPr>
          </a:p>
        </p:txBody>
      </p:sp>
      <p:grpSp>
        <p:nvGrpSpPr>
          <p:cNvPr id="54" name="Group 2"/>
          <p:cNvGrpSpPr/>
          <p:nvPr/>
        </p:nvGrpSpPr>
        <p:grpSpPr>
          <a:xfrm>
            <a:off x="130320" y="1112760"/>
            <a:ext cx="9897840" cy="5460480"/>
            <a:chOff x="130320" y="1112760"/>
            <a:chExt cx="9897840" cy="5460480"/>
          </a:xfrm>
        </p:grpSpPr>
        <p:pic>
          <p:nvPicPr>
            <p:cNvPr id="55" name="Picture 3" descr=""/>
            <p:cNvPicPr/>
            <p:nvPr/>
          </p:nvPicPr>
          <p:blipFill>
            <a:blip r:embed="rId1"/>
            <a:stretch/>
          </p:blipFill>
          <p:spPr>
            <a:xfrm>
              <a:off x="130320" y="1112760"/>
              <a:ext cx="9897840" cy="5438880"/>
            </a:xfrm>
            <a:prstGeom prst="rect">
              <a:avLst/>
            </a:prstGeom>
            <a:ln w="0">
              <a:noFill/>
            </a:ln>
          </p:spPr>
        </p:pic>
        <p:sp>
          <p:nvSpPr>
            <p:cNvPr id="56" name="AutoShape 4"/>
            <p:cNvSpPr/>
            <p:nvPr/>
          </p:nvSpPr>
          <p:spPr>
            <a:xfrm>
              <a:off x="5195160" y="5231160"/>
              <a:ext cx="1268640" cy="396000"/>
            </a:xfrm>
            <a:prstGeom prst="wedgeRectCallout">
              <a:avLst>
                <a:gd name="adj1" fmla="val -13236"/>
                <a:gd name="adj2" fmla="val -314574"/>
              </a:avLst>
            </a:prstGeom>
            <a:noFill/>
            <a:ln w="36000">
              <a:solidFill>
                <a:srgbClr val="008000"/>
              </a:solidFill>
              <a:round/>
            </a:ln>
          </p:spPr>
          <p:style>
            <a:lnRef idx="0"/>
            <a:fillRef idx="0"/>
            <a:effectRef idx="0"/>
            <a:fontRef idx="minor"/>
          </p:style>
          <p:txBody>
            <a:bodyPr wrap="none" lIns="108000" rIns="108000" tIns="78840" bIns="63000" anchor="ctr">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800" spc="-1" strike="noStrike">
                  <a:solidFill>
                    <a:srgbClr val="000000"/>
                  </a:solidFill>
                  <a:latin typeface="Arial"/>
                </a:rPr>
                <a:t>Grauerort</a:t>
              </a:r>
              <a:endParaRPr b="0" lang="en-US" sz="1800" spc="-1" strike="noStrike">
                <a:solidFill>
                  <a:srgbClr val="000000"/>
                </a:solidFill>
                <a:latin typeface="Arial"/>
              </a:endParaRPr>
            </a:p>
          </p:txBody>
        </p:sp>
        <p:sp>
          <p:nvSpPr>
            <p:cNvPr id="57" name="AutoShape 5"/>
            <p:cNvSpPr/>
            <p:nvPr/>
          </p:nvSpPr>
          <p:spPr>
            <a:xfrm>
              <a:off x="6714720" y="4369320"/>
              <a:ext cx="1483560" cy="396000"/>
            </a:xfrm>
            <a:prstGeom prst="wedgeRectCallout">
              <a:avLst>
                <a:gd name="adj1" fmla="val -12861"/>
                <a:gd name="adj2" fmla="val 139189"/>
              </a:avLst>
            </a:prstGeom>
            <a:noFill/>
            <a:ln w="36000">
              <a:solidFill>
                <a:srgbClr val="ff0000"/>
              </a:solidFill>
              <a:round/>
            </a:ln>
          </p:spPr>
          <p:style>
            <a:lnRef idx="0"/>
            <a:fillRef idx="0"/>
            <a:effectRef idx="0"/>
            <a:fontRef idx="minor"/>
          </p:style>
          <p:txBody>
            <a:bodyPr wrap="none" lIns="108000" rIns="108000" tIns="78840" bIns="63000" anchor="ctr">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1800" spc="-1" strike="noStrike">
                  <a:solidFill>
                    <a:srgbClr val="000000"/>
                  </a:solidFill>
                  <a:latin typeface="Arial"/>
                </a:rPr>
                <a:t>Blankenese</a:t>
              </a:r>
              <a:endParaRPr b="0" lang="en-US" sz="1800" spc="-1" strike="noStrike">
                <a:solidFill>
                  <a:srgbClr val="000000"/>
                </a:solidFill>
                <a:latin typeface="Arial"/>
              </a:endParaRPr>
            </a:p>
          </p:txBody>
        </p:sp>
        <p:sp>
          <p:nvSpPr>
            <p:cNvPr id="58" name="AutoShape 6"/>
            <p:cNvSpPr/>
            <p:nvPr/>
          </p:nvSpPr>
          <p:spPr>
            <a:xfrm>
              <a:off x="6867000" y="6177240"/>
              <a:ext cx="1789920" cy="396000"/>
            </a:xfrm>
            <a:prstGeom prst="wedgeRectCallout">
              <a:avLst>
                <a:gd name="adj1" fmla="val -4273"/>
                <a:gd name="adj2" fmla="val -279879"/>
              </a:avLst>
            </a:prstGeom>
            <a:noFill/>
            <a:ln w="36000">
              <a:solidFill>
                <a:srgbClr val="ff0000"/>
              </a:solidFill>
              <a:round/>
            </a:ln>
          </p:spPr>
          <p:style>
            <a:lnRef idx="0"/>
            <a:fillRef idx="0"/>
            <a:effectRef idx="0"/>
            <a:fontRef idx="minor"/>
          </p:style>
          <p:txBody>
            <a:bodyPr wrap="none" lIns="108000" rIns="108000" tIns="78840" bIns="63000" anchor="ctr">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1800" spc="-1" strike="noStrike">
                  <a:solidFill>
                    <a:srgbClr val="000000"/>
                  </a:solidFill>
                  <a:latin typeface="Arial"/>
                </a:rPr>
                <a:t>Seemannshöft</a:t>
              </a:r>
              <a:endParaRPr b="0" lang="en-US" sz="1800" spc="-1" strike="noStrike">
                <a:solidFill>
                  <a:srgbClr val="000000"/>
                </a:solidFill>
                <a:latin typeface="Arial"/>
              </a:endParaRPr>
            </a:p>
          </p:txBody>
        </p:sp>
        <p:sp>
          <p:nvSpPr>
            <p:cNvPr id="59" name="AutoShape 7"/>
            <p:cNvSpPr/>
            <p:nvPr/>
          </p:nvSpPr>
          <p:spPr>
            <a:xfrm>
              <a:off x="8701920" y="5150160"/>
              <a:ext cx="1271160" cy="396000"/>
            </a:xfrm>
            <a:prstGeom prst="wedgeRectCallout">
              <a:avLst>
                <a:gd name="adj1" fmla="val -60615"/>
                <a:gd name="adj2" fmla="val 111578"/>
              </a:avLst>
            </a:prstGeom>
            <a:noFill/>
            <a:ln w="36000">
              <a:solidFill>
                <a:srgbClr val="ff0000"/>
              </a:solidFill>
              <a:round/>
            </a:ln>
          </p:spPr>
          <p:style>
            <a:lnRef idx="0"/>
            <a:fillRef idx="0"/>
            <a:effectRef idx="0"/>
            <a:fontRef idx="minor"/>
          </p:style>
          <p:txBody>
            <a:bodyPr wrap="none" lIns="108000" rIns="108000" tIns="78840" bIns="63000" anchor="ctr">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1800" spc="-1" strike="noStrike">
                  <a:solidFill>
                    <a:srgbClr val="000000"/>
                  </a:solidFill>
                  <a:latin typeface="Arial"/>
                </a:rPr>
                <a:t>Bunthaus</a:t>
              </a:r>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833480" y="0"/>
            <a:ext cx="641376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Sauerstoffgehalt - Sauerstoffloch</a:t>
            </a:r>
            <a:endParaRPr b="0" lang="en-US" sz="3200" spc="-1" strike="noStrike">
              <a:solidFill>
                <a:srgbClr val="000000"/>
              </a:solidFill>
              <a:latin typeface="Arial"/>
            </a:endParaRPr>
          </a:p>
        </p:txBody>
      </p:sp>
      <p:pic>
        <p:nvPicPr>
          <p:cNvPr id="61" name="Picture 2" descr=""/>
          <p:cNvPicPr/>
          <p:nvPr/>
        </p:nvPicPr>
        <p:blipFill>
          <a:blip r:embed="rId1"/>
          <a:stretch/>
        </p:blipFill>
        <p:spPr>
          <a:xfrm>
            <a:off x="322200" y="704880"/>
            <a:ext cx="9436320" cy="6854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833480" y="0"/>
            <a:ext cx="641376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Sauerstoffgehalt - Sauerstoffloch</a:t>
            </a:r>
            <a:endParaRPr b="0" lang="en-US" sz="3200" spc="-1" strike="noStrike">
              <a:solidFill>
                <a:srgbClr val="000000"/>
              </a:solidFill>
              <a:latin typeface="Arial"/>
            </a:endParaRPr>
          </a:p>
        </p:txBody>
      </p:sp>
      <p:pic>
        <p:nvPicPr>
          <p:cNvPr id="63" name="Picture 3" descr=""/>
          <p:cNvPicPr/>
          <p:nvPr/>
        </p:nvPicPr>
        <p:blipFill>
          <a:blip r:embed="rId1"/>
          <a:stretch/>
        </p:blipFill>
        <p:spPr>
          <a:xfrm>
            <a:off x="331920" y="1407960"/>
            <a:ext cx="9416880" cy="6153480"/>
          </a:xfrm>
          <a:prstGeom prst="rect">
            <a:avLst/>
          </a:prstGeom>
          <a:ln w="0">
            <a:noFill/>
          </a:ln>
        </p:spPr>
      </p:pic>
      <p:sp>
        <p:nvSpPr>
          <p:cNvPr id="64" name="Textfeld 18"/>
          <p:cNvSpPr/>
          <p:nvPr/>
        </p:nvSpPr>
        <p:spPr>
          <a:xfrm>
            <a:off x="360360" y="666720"/>
            <a:ext cx="928836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ff0000"/>
                </a:solidFill>
                <a:latin typeface="Arial"/>
              </a:rPr>
              <a:t>Jährlich treten im Hamburger Abschnitt der Elbe Perioden von Tagen bis</a:t>
            </a:r>
            <a:endParaRPr b="0" lang="en-US" sz="20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000" spc="-1" strike="noStrike">
                <a:solidFill>
                  <a:srgbClr val="ff0000"/>
                </a:solidFill>
                <a:latin typeface="Arial"/>
              </a:rPr>
              <a:t>Wochen auf, in denen der Sauerstoffgehalt unter 3 mg/l sinkt.</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833480" y="0"/>
            <a:ext cx="641376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Sauerstoffgehalt - Sauerstoffloch</a:t>
            </a:r>
            <a:endParaRPr b="0" lang="en-US" sz="3200" spc="-1" strike="noStrike">
              <a:solidFill>
                <a:srgbClr val="000000"/>
              </a:solidFill>
              <a:latin typeface="Arial"/>
            </a:endParaRPr>
          </a:p>
        </p:txBody>
      </p:sp>
      <p:sp>
        <p:nvSpPr>
          <p:cNvPr id="66" name="Text Box 2"/>
          <p:cNvSpPr/>
          <p:nvPr/>
        </p:nvSpPr>
        <p:spPr>
          <a:xfrm>
            <a:off x="0" y="617400"/>
            <a:ext cx="10080720" cy="35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de-DE" sz="1800" spc="-1" strike="noStrike">
                <a:solidFill>
                  <a:srgbClr val="ff0000"/>
                </a:solidFill>
                <a:latin typeface="Arial"/>
              </a:rPr>
              <a:t>Die Wasserrahmenrichtlinie erfordert für den guten Zustand eine Konzentration von 6 mg/l.</a:t>
            </a:r>
            <a:endParaRPr b="0" lang="en-US" sz="1800" spc="-1" strike="noStrike">
              <a:solidFill>
                <a:srgbClr val="000000"/>
              </a:solidFill>
              <a:latin typeface="Arial"/>
            </a:endParaRPr>
          </a:p>
        </p:txBody>
      </p:sp>
      <p:pic>
        <p:nvPicPr>
          <p:cNvPr id="67" name="Picture 3" descr=""/>
          <p:cNvPicPr/>
          <p:nvPr/>
        </p:nvPicPr>
        <p:blipFill>
          <a:blip r:embed="rId1"/>
          <a:stretch/>
        </p:blipFill>
        <p:spPr>
          <a:xfrm>
            <a:off x="716040" y="1255680"/>
            <a:ext cx="8647200" cy="6303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833480" y="0"/>
            <a:ext cx="641376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Sauerstoffgehalt - Sauerstoffloch</a:t>
            </a:r>
            <a:endParaRPr b="0" lang="en-US" sz="3200" spc="-1" strike="noStrike">
              <a:solidFill>
                <a:srgbClr val="000000"/>
              </a:solidFill>
              <a:latin typeface="Arial"/>
            </a:endParaRPr>
          </a:p>
        </p:txBody>
      </p:sp>
      <p:sp>
        <p:nvSpPr>
          <p:cNvPr id="69" name="Text Box 2"/>
          <p:cNvSpPr/>
          <p:nvPr/>
        </p:nvSpPr>
        <p:spPr>
          <a:xfrm>
            <a:off x="0" y="576360"/>
            <a:ext cx="10080720" cy="35388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de-DE" sz="1800" spc="-1" strike="noStrike">
                <a:solidFill>
                  <a:srgbClr val="ff0000"/>
                </a:solidFill>
                <a:latin typeface="Arial"/>
              </a:rPr>
              <a:t>Der schlechte Einfluss kommt aus Hamburg.</a:t>
            </a:r>
            <a:endParaRPr b="0" lang="en-US" sz="1800" spc="-1" strike="noStrike">
              <a:solidFill>
                <a:srgbClr val="000000"/>
              </a:solidFill>
              <a:latin typeface="Arial"/>
            </a:endParaRPr>
          </a:p>
        </p:txBody>
      </p:sp>
      <p:pic>
        <p:nvPicPr>
          <p:cNvPr id="70" name="Picture 3" descr=""/>
          <p:cNvPicPr/>
          <p:nvPr/>
        </p:nvPicPr>
        <p:blipFill>
          <a:blip r:embed="rId1"/>
          <a:stretch/>
        </p:blipFill>
        <p:spPr>
          <a:xfrm>
            <a:off x="438120" y="911160"/>
            <a:ext cx="9239400" cy="574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035240" y="0"/>
            <a:ext cx="201132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3200" spc="-1" strike="noStrike">
                <a:solidFill>
                  <a:srgbClr val="000000"/>
                </a:solidFill>
                <a:latin typeface="Arial"/>
              </a:rPr>
              <a:t>Salzgehalt</a:t>
            </a:r>
            <a:endParaRPr b="0" lang="en-US" sz="3200" spc="-1" strike="noStrike">
              <a:solidFill>
                <a:srgbClr val="000000"/>
              </a:solidFill>
              <a:latin typeface="Arial"/>
            </a:endParaRPr>
          </a:p>
        </p:txBody>
      </p:sp>
      <p:sp>
        <p:nvSpPr>
          <p:cNvPr id="72" name="Text Box 2"/>
          <p:cNvSpPr/>
          <p:nvPr/>
        </p:nvSpPr>
        <p:spPr>
          <a:xfrm>
            <a:off x="4319640" y="576360"/>
            <a:ext cx="5472000" cy="157644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ff0000"/>
                </a:solidFill>
                <a:latin typeface="Arial"/>
              </a:rPr>
              <a:t>Leitfähigkeit setzt sich aus allen gelösten Salzen zusammen. Der Anteil der marinen Versalzung muss durch weitere Analysen aufgeschlüsselt werden.</a:t>
            </a:r>
            <a:endParaRPr b="0" lang="en-US" sz="1800" spc="-1" strike="noStrike">
              <a:solidFill>
                <a:srgbClr val="000000"/>
              </a:solidFill>
              <a:latin typeface="Arial"/>
            </a:endParaRPr>
          </a:p>
        </p:txBody>
      </p:sp>
      <p:graphicFrame>
        <p:nvGraphicFramePr>
          <p:cNvPr id="73" name=""/>
          <p:cNvGraphicFramePr/>
          <p:nvPr/>
        </p:nvGraphicFramePr>
        <p:xfrm>
          <a:off x="98280" y="565200"/>
          <a:ext cx="3884760" cy="1263600"/>
        </p:xfrm>
        <a:graphic>
          <a:graphicData uri="http://schemas.openxmlformats.org/drawingml/2006/table">
            <a:tbl>
              <a:tblPr/>
              <a:tblGrid>
                <a:gridCol w="1167120"/>
                <a:gridCol w="1376280"/>
                <a:gridCol w="1341360"/>
              </a:tblGrid>
              <a:tr h="304200">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funktion</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bl_lf_ab1996</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grau_lf</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r>
              <a:tr h="304200">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n werte</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5460</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5604</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r>
              <a:tr h="304200">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mittelwert</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881</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1267</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r>
              <a:tr h="502200">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90 Perzentil</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1096</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1688</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r>
            </a:tbl>
          </a:graphicData>
        </a:graphic>
      </p:graphicFrame>
      <p:pic>
        <p:nvPicPr>
          <p:cNvPr id="74" name="Picture 47" descr=""/>
          <p:cNvPicPr/>
          <p:nvPr/>
        </p:nvPicPr>
        <p:blipFill>
          <a:blip r:embed="rId1"/>
          <a:stretch/>
        </p:blipFill>
        <p:spPr>
          <a:xfrm>
            <a:off x="1133640" y="2152800"/>
            <a:ext cx="8945280" cy="5406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Arial"/>
              </a:rPr>
              <a:t>Vorschläge</a:t>
            </a: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Arial"/>
              </a:rPr>
              <a:t>Die Daten aller Dauermessstationen online stellen</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Arial"/>
              </a:rPr>
              <a:t>Fischwanderungen bei Sauerstoffdefiziten beobachten</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Arial"/>
              </a:rPr>
              <a:t>Hamburg zu Respekt vor der WRRL anhal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7:44:47Z</dcterms:created>
  <dc:creator>baumgardt </dc:creator>
  <dc:description/>
  <dc:language>en-US</dc:language>
  <cp:lastModifiedBy>pavel</cp:lastModifiedBy>
  <dcterms:modified xsi:type="dcterms:W3CDTF">2012-05-15T14:41:38Z</dcterms:modified>
  <cp:revision>14</cp:revision>
  <dc:subject/>
  <dc:title>Auswirkungen der Elbvertiefung auf die Wasserbeschaffenheit</dc:title>
</cp:coreProperties>
</file>