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45AB-B253-426E-8A30-FEBDDC3576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EC1-8B57-47F0-AABF-6DE050DB6F2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EF98-A556-4AF6-932C-E316126A759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87EA-423B-40FC-BCCC-822AE373DFF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A637-C39F-4301-A60D-F1AF18E67C5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0A0F-02CC-4EB1-9797-D78854C941B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B386-78DD-4B07-8911-546AF579ECFB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EAA3-5B53-45F5-938A-507947FB777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5C6F-5A15-4547-BA38-63991D2DAAE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6CA-FEC0-4439-936E-3BE9277B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453-51A0-4CC3-8D2A-D9160D22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90D-14B3-4791-8659-06A75767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239-DB44-4B61-A5D6-1CFEF5B0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EEE2-23E9-47A7-A3CE-6BF26D5A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9D73-5267-44CB-B9F0-0D09369E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3A73-4605-4190-9854-B3528283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4475-C45F-41CF-98CA-D5EEA14A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BE32-2B19-487E-863E-4B593D77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2A96-64A9-498E-83C1-B04C6F58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0F6E-3029-42F3-8CD0-61AA3700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C79-0D48-4900-AC63-86259978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7CDA-1EFD-4B3A-B4FA-BD02806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99B2-636D-4060-8E99-4EAA4F5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3390-7B90-40C8-841D-46AB767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E0BC-94D6-4F16-9474-563F8A0D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FCD4-1011-4803-B206-6CC552C6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B6A-33A6-427C-97B5-11C3FC77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D5F-9D67-464F-9C1E-0EB722B8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967-EDCB-4E93-8073-CF753D3A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466-60C7-40AC-8683-528E750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73D-2476-4381-A5EB-4FC22FA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3DA-CD84-4DCD-A3C4-3B3C9D4E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B38-50D9-4668-AAB9-5A5FFEEB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66E7-7651-4B8B-9A21-0D011F356C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7C7B-F01D-4FC8-B67A-B43788D0382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164268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Ergebnisse der Prüfung wirtschaftliche Analy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her oberflächliche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Vergleichbarkeit aktuell kaum mögl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zahlreiche (weit verbreitete) Mängel bzgl. WRRL angeris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rzeit keine Einzelaussagen für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IS-Workshop 2010 (für 2. BP) ge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Annahme der Reportingsheets E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erste Ergebnisse des Compliance Check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Ergebnisse SCG-Sitzung</a:t>
            </a:r>
            <a:br>
              <a:rPr sz="40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 11.03.2009 in Brüs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A3_surfacewater_500dpi"/>
          <p:cNvPicPr/>
          <p:nvPr/>
        </p:nvPicPr>
        <p:blipFill>
          <a:blip r:embed="rId1"/>
          <a:srcRect l="4354" t="28086" r="18644" b="18005"/>
          <a:stretch/>
        </p:blipFill>
        <p:spPr>
          <a:xfrm>
            <a:off x="826920" y="0"/>
            <a:ext cx="7561440" cy="6846840"/>
          </a:xfrm>
          <a:prstGeom prst="rect">
            <a:avLst/>
          </a:prstGeom>
          <a:ln w="0">
            <a:noFill/>
          </a:ln>
        </p:spPr>
      </p:pic>
      <p:sp>
        <p:nvSpPr>
          <p:cNvPr id="172" name="Oval 8"/>
          <p:cNvSpPr/>
          <p:nvPr/>
        </p:nvSpPr>
        <p:spPr>
          <a:xfrm rot="18703200">
            <a:off x="4535640" y="1593360"/>
            <a:ext cx="1297080" cy="2519280"/>
          </a:xfrm>
          <a:prstGeom prst="ellipse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rcRect l="32500" t="21815" r="3528" b="12792"/>
          <a:stretch/>
        </p:blipFill>
        <p:spPr>
          <a:xfrm>
            <a:off x="0" y="476280"/>
            <a:ext cx="9144000" cy="5842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198144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620720" y="3933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25440" y="4437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3440" y="13413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8644680" y="62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3852720" y="465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826200" y="6192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Number of monitoring sites per 1000 km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878520" y="4365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25990" t="21730" r="4623" b="11186"/>
          <a:stretch/>
        </p:blipFill>
        <p:spPr>
          <a:xfrm>
            <a:off x="0" y="620640"/>
            <a:ext cx="9144000" cy="5524560"/>
          </a:xfrm>
          <a:prstGeom prst="rect">
            <a:avLst/>
          </a:prstGeom>
          <a:ln w="0">
            <a:noFill/>
          </a:ln>
        </p:spPr>
      </p:pic>
      <p:sp>
        <p:nvSpPr>
          <p:cNvPr id="184" name="Oval 5"/>
          <p:cNvSpPr/>
          <p:nvPr/>
        </p:nvSpPr>
        <p:spPr>
          <a:xfrm>
            <a:off x="1979640" y="578808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866880" y="76500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Number of SWB at risk with operational monitoring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273040" y="1365120"/>
            <a:ext cx="27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99"/>
                </a:solidFill>
                <a:latin typeface="Arial"/>
              </a:rPr>
              <a:t>=&gt; explain in RBM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1644480" y="578808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324000" y="5805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732720" y="5805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ercentage of surveillance monitonigsites with all biological quality elements mea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Figure 7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068800"/>
          </a:xfrm>
          <a:prstGeom prst="rect">
            <a:avLst/>
          </a:prstGeom>
          <a:ln w="0">
            <a:noFill/>
          </a:ln>
        </p:spPr>
      </p:pic>
      <p:sp>
        <p:nvSpPr>
          <p:cNvPr id="193" name="Oval 11"/>
          <p:cNvSpPr/>
          <p:nvPr/>
        </p:nvSpPr>
        <p:spPr>
          <a:xfrm>
            <a:off x="2124000" y="621972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1789200" y="621972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468360" y="6237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6732720" y="6237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20938" t="21229" r="17239" b="12084"/>
          <a:stretch/>
        </p:blipFill>
        <p:spPr>
          <a:xfrm>
            <a:off x="0" y="404640"/>
            <a:ext cx="9144000" cy="61642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76040" y="765000"/>
            <a:ext cx="56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Number of GWB with monitoring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1979640" y="578808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2268360" y="580536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84360" y="587700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6877080" y="5805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HMWB-Worksh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16823" t="26459" r="13176" b="8357"/>
          <a:stretch/>
        </p:blipFill>
        <p:spPr>
          <a:xfrm>
            <a:off x="0" y="1197000"/>
            <a:ext cx="9144000" cy="53229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78880" y="2060640"/>
            <a:ext cx="234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EU 23 % (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880920" y="4836960"/>
            <a:ext cx="813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5651640" y="6021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2268360" y="602136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1979640" y="6021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7236000" y="6021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rcRect l="17708" t="23624" r="15547" b="7398"/>
          <a:stretch/>
        </p:blipFill>
        <p:spPr>
          <a:xfrm>
            <a:off x="0" y="620640"/>
            <a:ext cx="9144000" cy="59072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3278880" y="2060640"/>
            <a:ext cx="234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EU 16 % (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895320" y="4232160"/>
            <a:ext cx="813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2484360" y="602136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2124000" y="6021360"/>
            <a:ext cx="43200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684360" y="6021360"/>
            <a:ext cx="431640" cy="360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00:13Z</dcterms:created>
  <dc:creator>Diening_H</dc:creator>
  <dc:description/>
  <dc:language>en-US</dc:language>
  <cp:lastModifiedBy>IKSE</cp:lastModifiedBy>
  <dcterms:modified xsi:type="dcterms:W3CDTF">2009-03-25T08:20:48Z</dcterms:modified>
  <cp:revision>21</cp:revision>
  <dc:subject/>
  <dc:title>Arbeitsweise EU-Net</dc:title>
</cp:coreProperties>
</file>