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F672-BDCF-4866-B65E-E8F1033C6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8D28-8969-49A7-8BDC-95C536928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7321-FA61-4E94-848D-38CE941B8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160A-C2A7-46EF-BD6A-008DCBB32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A84A-C94A-408A-B09E-3FE5201BB4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CE46-7070-42E3-8C78-99195DD3D3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CC0A-C373-495F-BFB7-2CBB56433D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D8D9-B837-466F-BE54-D5859C22E4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B4C9-9A23-4169-8484-8986B31BF2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9600" y="0"/>
            <a:ext cx="680400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008B-44BD-43D4-AD1F-889C01A7B6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7CDE-A237-4428-ADE9-170ECC708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F55F-F516-4B70-9C9B-6029DAC03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A891-42E3-4F5B-918B-07B08C0240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B768-C7B0-48A4-9C5E-830665D8F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230C-0ABC-4731-B5D2-406FE0F377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FC43-A942-442E-B55D-538F9AE344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9FE1-3648-4CE4-B679-B18C1E64BB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C019-AF90-46A9-B520-C1BA19CCB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2B04-5701-4F5C-911E-F68DD9A5F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0060-49D0-4183-9BBE-FB3B48B17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9600" y="0"/>
            <a:ext cx="680400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92D2-984E-40C7-AB01-2B2B7E230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915D-CAA4-4625-A159-6E3B9B57B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C054-F4FA-46FF-A37E-C5A9262DD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FF8E-68FF-4874-A098-A942F5A90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-261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3656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7400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74200" y="473040"/>
            <a:ext cx="469800" cy="469800"/>
          </a:xfrm>
          <a:prstGeom prst="rect">
            <a:avLst/>
          </a:prstGeom>
          <a:solidFill>
            <a:srgbClr val="2a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205840" y="4680"/>
            <a:ext cx="469800" cy="470160"/>
          </a:xfrm>
          <a:prstGeom prst="rect">
            <a:avLst/>
          </a:prstGeom>
          <a:solidFill>
            <a:srgbClr val="d5e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35480" y="11448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B625-85DB-4EC3-8CC7-829B132AFA3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-261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3656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7400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674200" y="473040"/>
            <a:ext cx="469800" cy="469800"/>
          </a:xfrm>
          <a:prstGeom prst="rect">
            <a:avLst/>
          </a:prstGeom>
          <a:solidFill>
            <a:srgbClr val="2a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05840" y="4680"/>
            <a:ext cx="469800" cy="470160"/>
          </a:xfrm>
          <a:prstGeom prst="rect">
            <a:avLst/>
          </a:prstGeom>
          <a:solidFill>
            <a:srgbClr val="d5e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492760" y="114480"/>
            <a:ext cx="6764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C46D-F92A-4686-AE8D-2DBF6E84C14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4.wmf"/><Relationship Id="rId8" Type="http://schemas.openxmlformats.org/officeDocument/2006/relationships/package" Target="../embeddings/oleObject3.docx"/><Relationship Id="rId9" Type="http://schemas.openxmlformats.org/officeDocument/2006/relationships/image" Target="../media/image4.wmf"/><Relationship Id="rId10" Type="http://schemas.openxmlformats.org/officeDocument/2006/relationships/package" Target="../embeddings/oleObject4.docx"/><Relationship Id="rId11" Type="http://schemas.openxmlformats.org/officeDocument/2006/relationships/image" Target="../media/image4.wmf"/><Relationship Id="rId12" Type="http://schemas.openxmlformats.org/officeDocument/2006/relationships/package" Target="../embeddings/oleObject5.docx"/><Relationship Id="rId13" Type="http://schemas.openxmlformats.org/officeDocument/2006/relationships/image" Target="../media/image4.wmf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42720" y="1798560"/>
            <a:ext cx="844524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S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hod for setting up a Programme of Measur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ording to EU Water Framework Directiv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628640" y="4351320"/>
            <a:ext cx="588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r. Bernd Kl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02000" y="2287440"/>
            <a:ext cx="23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02000" y="2287440"/>
            <a:ext cx="23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4280" y="2287440"/>
            <a:ext cx="5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02000" y="2287440"/>
            <a:ext cx="23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5040" y="139680"/>
            <a:ext cx="40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MKOL, WFD, Erfurt, 7.-8. </a:t>
            </a:r>
            <a:r>
              <a:rPr b="1" lang="cs-CZ" sz="1400" spc="-1" strike="noStrike">
                <a:solidFill>
                  <a:srgbClr val="808080"/>
                </a:solidFill>
                <a:latin typeface="Arial"/>
              </a:rPr>
              <a:t>září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 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805" t="0" r="0" b="0"/>
          <a:stretch/>
        </p:blipFill>
        <p:spPr>
          <a:xfrm>
            <a:off x="2739960" y="5284800"/>
            <a:ext cx="3662280" cy="696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22480" y="390240"/>
            <a:ext cx="3260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UFZ-Umweltforschungsz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Leipzig-Halle Gmb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in der Helmholtz-Gemeinsch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2360" y="250920"/>
            <a:ext cx="7588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Impact assessment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4400" y="911160"/>
            <a:ext cx="876924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impact of all pre-selected measures is estimated with respect to target for action, costs, and other criteria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Results from modelling and expert judgement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42880" y="2502000"/>
          <a:ext cx="8163000" cy="2789280"/>
        </p:xfrm>
        <a:graphic>
          <a:graphicData uri="http://schemas.openxmlformats.org/drawingml/2006/table">
            <a:tbl>
              <a:tblPr/>
              <a:tblGrid>
                <a:gridCol w="837000"/>
                <a:gridCol w="621000"/>
                <a:gridCol w="298800"/>
                <a:gridCol w="647640"/>
                <a:gridCol w="933480"/>
                <a:gridCol w="954000"/>
                <a:gridCol w="959040"/>
                <a:gridCol w="638280"/>
                <a:gridCol w="216000"/>
                <a:gridCol w="625680"/>
                <a:gridCol w="1217880"/>
                <a:gridCol w="216000"/>
              </a:tblGrid>
              <a:tr h="64152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mpact on target for 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st-effectiveness re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ther impa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ge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get 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ment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ge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get 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[unit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[unit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[€/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[€/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[€/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[unit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[unit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[description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469800" y="2049480"/>
            <a:ext cx="44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ified impact table (sche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040" y="5283360"/>
            <a:ext cx="866772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impact table contains further columns, where e.g. information can be given abo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conflicts with other measur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conflicts with other water uses (relevant for HMWB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conflicts with Flora-Fauna-Habitat Framework Directive and Strategic Environmental Plann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excep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Support from third parti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4400" y="1480680"/>
            <a:ext cx="876924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27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gration of Water sewage treatment concept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27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Responsible sewage treatment organisation 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2720" indent="-25272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s requested to set up or update their plans according to the identified causes for the failing of the good status and the determined targets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2720" indent="-25272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pports justification of disproportional costs - if relevant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27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Competent authority 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2720" indent="-25272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ses their proposed measures and cost estimations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2720" indent="-25272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imates impacts of measures and compares them with targets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2720" indent="-25272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ives feed-back to sewage treatment organisatio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27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27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-operation during the selection process rises acceptance for final decisions.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Selection of measures (1)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4400" y="910800"/>
            <a:ext cx="87692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bining measures to bundl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sing a cost efficiency tool the single measures are combined to cost-effective bundles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f there are trade-offs between objectives or conflicts between interests, several cost-effective combinations will be proposed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96920" y="2330280"/>
          <a:ext cx="6143400" cy="2984760"/>
        </p:xfrm>
        <a:graphic>
          <a:graphicData uri="http://schemas.openxmlformats.org/drawingml/2006/table">
            <a:tbl>
              <a:tblPr/>
              <a:tblGrid>
                <a:gridCol w="1444680"/>
                <a:gridCol w="671400"/>
                <a:gridCol w="669960"/>
                <a:gridCol w="671400"/>
                <a:gridCol w="671400"/>
                <a:gridCol w="671760"/>
                <a:gridCol w="671400"/>
                <a:gridCol w="6714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tion of organic matter (BSB</a:t>
                      </a:r>
                      <a:r>
                        <a:rPr b="0" lang="en-GB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[t/a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c matter cost effectiveness [T€/t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-Reduc-tion [t/a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-cost-effectiveness [T€/t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-Reduc-tion [t/a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-cost-effectiveness [T€/t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s [T€/a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wage treatment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wage treatmen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al system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al system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parian buffer stri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mediate cro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mp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551640" y="3200400"/>
            <a:ext cx="1677960" cy="304920"/>
          </a:xfrm>
          <a:custGeom>
            <a:avLst/>
            <a:gdLst>
              <a:gd name="textAreaLeft" fmla="*/ 289440 w 1677960"/>
              <a:gd name="textAreaRight" fmla="*/ 1237680 w 16779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52" hR="21600" stAng="10800000" swAng="5400000"/>
                <a:lnTo>
                  <a:pt x="12204" y="0"/>
                </a:lnTo>
                <a:arcTo wR="7452" hR="21600" stAng="-5400000" swAng="2657909"/>
                <a:lnTo>
                  <a:pt x="21174" y="14400"/>
                </a:lnTo>
                <a:lnTo>
                  <a:pt x="17280" y="21600"/>
                </a:lnTo>
                <a:lnTo>
                  <a:pt x="12534" y="14400"/>
                </a:lnTo>
                <a:lnTo>
                  <a:pt x="14478" y="14400"/>
                </a:lnTo>
                <a:arcTo wR="7452" hR="21600" stAng="-2742091" swAng="-2260710"/>
                <a:lnTo>
                  <a:pt x="9828" y="1127"/>
                </a:lnTo>
                <a:arcTo wR="7452" hR="21600" stAng="-5797198" swAng="-5002802"/>
                <a:close/>
              </a:path>
              <a:path fill="darkenLess" w="21600" h="21600">
                <a:moveTo>
                  <a:pt x="0" y="21600"/>
                </a:moveTo>
                <a:arcTo wR="7452" hR="21600" stAng="10800000" swAng="5400000"/>
                <a:lnTo>
                  <a:pt x="7452" y="0"/>
                </a:lnTo>
                <a:arcTo wR="7452" hR="21600" stAng="-5400000" swAng="397198"/>
                <a:lnTo>
                  <a:pt x="9828" y="1127"/>
                </a:lnTo>
                <a:arcTo wR="7452" hR="21600" stAng="-5797198" swAng="-5002802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969240" y="3921120"/>
            <a:ext cx="1995480" cy="2603520"/>
            <a:chOff x="6969240" y="3921120"/>
            <a:chExt cx="1995480" cy="2603520"/>
          </a:xfrm>
        </p:grpSpPr>
        <p:sp>
          <p:nvSpPr>
            <p:cNvPr id="198" name=""/>
            <p:cNvSpPr/>
            <p:nvPr/>
          </p:nvSpPr>
          <p:spPr>
            <a:xfrm>
              <a:off x="6969240" y="3921120"/>
              <a:ext cx="1995480" cy="260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7194600" y="4179960"/>
            <a:ext cx="1546200" cy="2085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94600" y="4179960"/>
                      <a:ext cx="1546200" cy="20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Selection of measures (2)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4400" y="910800"/>
            <a:ext cx="87692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3976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lection of a “best” combination of measur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9760" indent="-23976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rom the list of cost-effective combinations a “best” combination is selected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9760" indent="-23976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iteria for the final selection may be among others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-31212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otal costs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-31212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distribution of costs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-31212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vailable budget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-31212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conflicts with other measures or water uses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-31212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easiness of implementatio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9760" indent="-23976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This combination describes the best way to reach the good statu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9760" indent="0">
              <a:spcBef>
                <a:spcPts val="400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9760" indent="0">
              <a:spcBef>
                <a:spcPts val="45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xceptions, Heavily Modified Water Bodies etc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9760" indent="-23976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ased on the “best” combination (its costs and conflicts) the concrete environmental objective for a water body will be determined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9760" indent="-23976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ifferent approaches to the check for HMWB are possibl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9760" indent="-23976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f a less stringent environmental objective is determined the selection of measures will be modified (by modifying or omitting certain measures)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9760" indent="-23976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f deadlines are extended the measures that will be realised until 2015 are selected (priorisation)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9760" indent="-23976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irst assessment whether problems with FFH-Framework Directive or Strategic Environmental Planning will occur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Aggregation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74400" y="1758960"/>
            <a:ext cx="876924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Last step: Aggregation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Use of data and databank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5600" indent="-255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ta may be used for internal planning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5600" indent="-255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ppropriate aggregation of the selected measures and reached environmental objectives in lists and maps for the Programme of Measures and the River Basin Management Pla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lots of details can be omitted)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5600" indent="-255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rther aggregation for other reporting and communication with politicians, stakeholders and public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Summary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4400" y="1758960"/>
            <a:ext cx="876924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AS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ORM 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ers a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ramework concep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for selecting measures and setting up a Programme of measures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not a completed tool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ready to start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s a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lexible concep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open for adjustments and modifications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805" t="0" r="0" b="0"/>
          <a:stretch/>
        </p:blipFill>
        <p:spPr>
          <a:xfrm>
            <a:off x="2406600" y="4522680"/>
            <a:ext cx="36622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8000"/>
                </a:solidFill>
                <a:latin typeface="Tahoma"/>
              </a:rPr>
              <a:t>Objectiv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5440" y="1863360"/>
            <a:ext cx="8818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4160" indent="0"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AS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ORM 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41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tructur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he decision processes for the selection of measures by a management scheme,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41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scribes the different steps and provides the necessary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valuation method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41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es not replace but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upports decision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41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kes decisions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and creates a basis for supervision and public participation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41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n be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lexibl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adjusted to the needs of other Bundesländer and Member States,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41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pports a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heren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lanning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41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ansferabl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for the entire Elbe River basin and beyond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805" t="0" r="0" b="0"/>
          <a:stretch/>
        </p:blipFill>
        <p:spPr>
          <a:xfrm>
            <a:off x="4125960" y="1266840"/>
            <a:ext cx="3219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681120" y="4929120"/>
            <a:ext cx="23112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Aggre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1120" y="1297080"/>
            <a:ext cx="2311200" cy="39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dentification of causes,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determination of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681120" y="2239920"/>
            <a:ext cx="23112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Pre-selection of mea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1120" y="3306600"/>
            <a:ext cx="231120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Selection of a “best” combination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of mea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1120" y="5294160"/>
            <a:ext cx="231120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Programme of Measures and River Basin Management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1120" y="3814920"/>
            <a:ext cx="23112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Post-selection optim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1120" y="932040"/>
            <a:ext cx="23112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valuation of water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1120" y="4179960"/>
            <a:ext cx="2311200" cy="30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heck for exce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1120" y="2604960"/>
            <a:ext cx="2314080" cy="623880"/>
            <a:chOff x="681120" y="2604960"/>
            <a:chExt cx="2314080" cy="623880"/>
          </a:xfrm>
        </p:grpSpPr>
        <p:sp>
          <p:nvSpPr>
            <p:cNvPr id="106" name=""/>
            <p:cNvSpPr/>
            <p:nvPr/>
          </p:nvSpPr>
          <p:spPr>
            <a:xfrm>
              <a:off x="681120" y="2604960"/>
              <a:ext cx="1334520" cy="6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ombination of measures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(Cost-effectivenes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15640" y="2604960"/>
              <a:ext cx="979560" cy="6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heck for HMWB in module  “structure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8" name=""/>
          <p:cNvCxnSpPr>
            <a:stCxn id="104" idx="3"/>
            <a:endCxn id="98" idx="3"/>
          </p:cNvCxnSpPr>
          <p:nvPr/>
        </p:nvCxnSpPr>
        <p:spPr>
          <a:xfrm flipV="1">
            <a:off x="2991960" y="1493280"/>
            <a:ext cx="1080" cy="2840760"/>
          </a:xfrm>
          <a:prstGeom prst="bentConnector3">
            <a:avLst>
              <a:gd name="adj1" fmla="val 14500000"/>
            </a:avLst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109" name=""/>
          <p:cNvCxnSpPr>
            <a:stCxn id="107" idx="3"/>
            <a:endCxn id="98" idx="3"/>
          </p:cNvCxnSpPr>
          <p:nvPr/>
        </p:nvCxnSpPr>
        <p:spPr>
          <a:xfrm flipH="1" flipV="1">
            <a:off x="2991600" y="1493280"/>
            <a:ext cx="3960" cy="1424520"/>
          </a:xfrm>
          <a:prstGeom prst="bentConnector3">
            <a:avLst>
              <a:gd name="adj1" fmla="val -72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6200000">
            <a:off x="2839320" y="2378880"/>
            <a:ext cx="974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 case of HMW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777400" y="3836160"/>
            <a:ext cx="11462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 case of less stringent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nvironmental objec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4" idx="3"/>
            <a:endCxn id="98" idx="3"/>
          </p:cNvCxnSpPr>
          <p:nvPr/>
        </p:nvCxnSpPr>
        <p:spPr>
          <a:xfrm flipV="1">
            <a:off x="2991960" y="1493280"/>
            <a:ext cx="2520" cy="2840760"/>
          </a:xfrm>
          <a:prstGeom prst="bentConnector3">
            <a:avLst>
              <a:gd name="adj1" fmla="val 11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7" idx="3"/>
            <a:endCxn id="98" idx="3"/>
          </p:cNvCxnSpPr>
          <p:nvPr/>
        </p:nvCxnSpPr>
        <p:spPr>
          <a:xfrm flipH="1" flipV="1">
            <a:off x="2991600" y="1493280"/>
            <a:ext cx="3960" cy="1424520"/>
          </a:xfrm>
          <a:prstGeom prst="bentConnector3">
            <a:avLst>
              <a:gd name="adj1" fmla="val -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81120" y="1768320"/>
            <a:ext cx="2311200" cy="3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onsideration of baseline scenario, calculation of targets for 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1120" y="4564080"/>
            <a:ext cx="23112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Priorisation of mea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7113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Elements of BAS</a:t>
            </a:r>
            <a:r>
              <a:rPr b="1" i="1" lang="en-GB" sz="2800" spc="-1" strike="noStrike">
                <a:solidFill>
                  <a:srgbClr val="008000"/>
                </a:solidFill>
                <a:latin typeface="Tahoma"/>
              </a:rPr>
              <a:t>IN</a:t>
            </a: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FORM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5760" y="6107040"/>
            <a:ext cx="29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pts u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03760" y="993600"/>
          <a:ext cx="1187280" cy="1673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3760" y="993600"/>
                    <a:ext cx="1187280" cy="167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53966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959280" y="273996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21360" y="1546200"/>
            <a:ext cx="5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24720" y="852480"/>
          <a:ext cx="995400" cy="1434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4720" y="852480"/>
                    <a:ext cx="995400" cy="143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783480" y="1011240"/>
          <a:ext cx="995400" cy="1434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3480" y="1011240"/>
                    <a:ext cx="995400" cy="143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942240" y="1170000"/>
          <a:ext cx="995400" cy="14349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942240" y="1170000"/>
                    <a:ext cx="995400" cy="143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101000" y="1328760"/>
          <a:ext cx="995400" cy="14349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01000" y="1328760"/>
                    <a:ext cx="995400" cy="143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278400" y="275256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3400" y="622620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6230880" y="1541160"/>
            <a:ext cx="344520" cy="3351240"/>
          </a:xfrm>
          <a:custGeom>
            <a:avLst/>
            <a:gdLst>
              <a:gd name="textAreaLeft" fmla="*/ 220320 w 344520"/>
              <a:gd name="textAreaRight" fmla="*/ 344880 w 344520"/>
              <a:gd name="textAreaTop" fmla="*/ 70560 h 3351240"/>
              <a:gd name="textAreaBottom" fmla="*/ 3280680 h 335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0"/>
                  <a:pt x="10800" y="1460"/>
                </a:cubicBezTo>
                <a:lnTo>
                  <a:pt x="10800" y="9417"/>
                </a:lnTo>
                <a:cubicBezTo>
                  <a:pt x="10800" y="10147"/>
                  <a:pt x="5400" y="10877"/>
                  <a:pt x="0" y="10877"/>
                </a:cubicBezTo>
                <a:cubicBezTo>
                  <a:pt x="5400" y="10877"/>
                  <a:pt x="10800" y="11607"/>
                  <a:pt x="10800" y="12337"/>
                </a:cubicBezTo>
                <a:lnTo>
                  <a:pt x="10800" y="20140"/>
                </a:lnTo>
                <a:cubicBezTo>
                  <a:pt x="10800" y="2087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65800" y="3319560"/>
            <a:ext cx="21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494240" y="4438800"/>
            <a:ext cx="1355760" cy="1484280"/>
            <a:chOff x="4494240" y="4438800"/>
            <a:chExt cx="1355760" cy="1484280"/>
          </a:xfrm>
        </p:grpSpPr>
        <p:sp>
          <p:nvSpPr>
            <p:cNvPr id="135" name="computr1"/>
            <p:cNvSpPr/>
            <p:nvPr/>
          </p:nvSpPr>
          <p:spPr>
            <a:xfrm>
              <a:off x="4494240" y="4438800"/>
              <a:ext cx="1355760" cy="148428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4"/>
            <a:stretch/>
          </p:blipFill>
          <p:spPr>
            <a:xfrm>
              <a:off x="4776840" y="4597560"/>
              <a:ext cx="797040" cy="622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137" name="" descr=""/>
          <p:cNvPicPr/>
          <p:nvPr/>
        </p:nvPicPr>
        <p:blipFill>
          <a:blip r:embed="rId15"/>
          <a:stretch/>
        </p:blipFill>
        <p:spPr>
          <a:xfrm>
            <a:off x="6356520" y="4573440"/>
            <a:ext cx="1644480" cy="128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 rot="16200000">
            <a:off x="6098040" y="4165920"/>
            <a:ext cx="344520" cy="3835440"/>
          </a:xfrm>
          <a:custGeom>
            <a:avLst/>
            <a:gdLst>
              <a:gd name="textAreaLeft" fmla="*/ 220320 w 344520"/>
              <a:gd name="textAreaRight" fmla="*/ 344880 w 344520"/>
              <a:gd name="textAreaTop" fmla="*/ 81000 h 3835440"/>
              <a:gd name="textAreaBottom" fmla="*/ 3754440 h 383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0"/>
                  <a:pt x="10800" y="1460"/>
                </a:cubicBezTo>
                <a:lnTo>
                  <a:pt x="10800" y="9417"/>
                </a:lnTo>
                <a:cubicBezTo>
                  <a:pt x="10800" y="10147"/>
                  <a:pt x="5400" y="10877"/>
                  <a:pt x="0" y="10877"/>
                </a:cubicBezTo>
                <a:cubicBezTo>
                  <a:pt x="5400" y="10877"/>
                  <a:pt x="10800" y="11607"/>
                  <a:pt x="10800" y="12337"/>
                </a:cubicBezTo>
                <a:lnTo>
                  <a:pt x="10800" y="20140"/>
                </a:lnTo>
                <a:cubicBezTo>
                  <a:pt x="10800" y="2087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1741680" y="4556160"/>
            <a:ext cx="344160" cy="2697120"/>
          </a:xfrm>
          <a:custGeom>
            <a:avLst/>
            <a:gdLst>
              <a:gd name="textAreaLeft" fmla="*/ 219960 w 344160"/>
              <a:gd name="textAreaRight" fmla="*/ 344520 w 344160"/>
              <a:gd name="textAreaTop" fmla="*/ 56880 h 2697120"/>
              <a:gd name="textAreaBottom" fmla="*/ 2640240 h 269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0"/>
                  <a:pt x="10800" y="1460"/>
                </a:cubicBezTo>
                <a:lnTo>
                  <a:pt x="10800" y="9417"/>
                </a:lnTo>
                <a:cubicBezTo>
                  <a:pt x="10800" y="10147"/>
                  <a:pt x="5400" y="10877"/>
                  <a:pt x="0" y="10877"/>
                </a:cubicBezTo>
                <a:cubicBezTo>
                  <a:pt x="5400" y="10877"/>
                  <a:pt x="10800" y="11607"/>
                  <a:pt x="10800" y="12337"/>
                </a:cubicBezTo>
                <a:lnTo>
                  <a:pt x="10800" y="20140"/>
                </a:lnTo>
                <a:cubicBezTo>
                  <a:pt x="10800" y="2087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70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Spatial units of river basin management according to WFD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4400" y="3979440"/>
            <a:ext cx="8769240" cy="27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asic spatial unit of selection of measures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ater body or a group of water bodies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-operation between Bundesländer and Member States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S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RM makes proposals for organisation of necessary co-ordinated actions of the different Bundesländer and Member States within the national and international river basin organisations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-2617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t up of reduction targets for pollutants for up-stream and down-stream riparian stat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alphaModFix amt="80000"/>
          </a:blip>
          <a:srcRect l="-1395" t="3132" r="280" b="19584"/>
          <a:stretch/>
        </p:blipFill>
        <p:spPr>
          <a:xfrm>
            <a:off x="752400" y="1182600"/>
            <a:ext cx="1793880" cy="18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>
            <a:alphaModFix amt="80000"/>
          </a:blip>
          <a:srcRect l="5863" t="17032" r="29825" b="38706"/>
          <a:stretch/>
        </p:blipFill>
        <p:spPr>
          <a:xfrm>
            <a:off x="3017880" y="1190520"/>
            <a:ext cx="196848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>
            <a:alphaModFix amt="80000"/>
          </a:blip>
          <a:srcRect l="28372" t="35121" r="46370" b="38013"/>
          <a:stretch/>
        </p:blipFill>
        <p:spPr>
          <a:xfrm>
            <a:off x="5459400" y="1203480"/>
            <a:ext cx="127476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>
            <a:alphaModFix amt="80000"/>
          </a:blip>
          <a:srcRect l="42315" t="39960" r="55611" b="57922"/>
          <a:stretch/>
        </p:blipFill>
        <p:spPr>
          <a:xfrm>
            <a:off x="7207200" y="1209600"/>
            <a:ext cx="1325520" cy="182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523800" y="30258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be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68480" y="302724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man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9800" y="302904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ringian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97520" y="3017880"/>
            <a:ext cx="23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body or group of water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Five decision modul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400" y="1316160"/>
            <a:ext cx="876924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causes for failing the good water status are divided in five modules in order to simplify the decision making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each module measures can be selected independently of the selection in other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s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Groundwat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-261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1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trients and Pesticides in groundwa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-261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2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ther pressures on groundwa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Surface wat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-261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3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trients, organic matter and pesticides in surface wa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-261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4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ructure and hydro morphology of surface wa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6320" indent="-261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5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ther pressures on surface wa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74400" y="1657080"/>
            <a:ext cx="876924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4160" indent="-2541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aus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sed on the results of the monitoring and other data the causes are classified with respect to their relevance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4160" indent="-2541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atalogue of caus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simplify the work a standardised catalogue of causes is used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4160" indent="-2541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environmental objective “good status” and particularly the biological components of the objective are translated for each water body into quantitative target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Necessary for cost-effectiveness analysi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99520" y="0"/>
            <a:ext cx="6804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Identification of causes and determination of target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1400" y="5216400"/>
            <a:ext cx="900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5216400"/>
            <a:ext cx="2344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agement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96840" y="5216400"/>
            <a:ext cx="1951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1840" y="5216400"/>
            <a:ext cx="1657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 for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52200" y="55897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-Im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56480" y="5216400"/>
            <a:ext cx="1364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4840" y="558972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otal-P-concen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29520" y="558972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reshold concen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55760" y="558972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reshold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15360" y="5589720"/>
            <a:ext cx="158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cessary reduction of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4" idx="3"/>
            <a:endCxn id="155" idx="1"/>
          </p:cNvCxnSpPr>
          <p:nvPr/>
        </p:nvCxnSpPr>
        <p:spPr>
          <a:xfrm>
            <a:off x="941400" y="5389200"/>
            <a:ext cx="192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5" idx="3"/>
            <a:endCxn id="156" idx="1"/>
          </p:cNvCxnSpPr>
          <p:nvPr/>
        </p:nvCxnSpPr>
        <p:spPr>
          <a:xfrm>
            <a:off x="3497040" y="5389200"/>
            <a:ext cx="19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6" idx="3"/>
            <a:endCxn id="159" idx="1"/>
          </p:cNvCxnSpPr>
          <p:nvPr/>
        </p:nvCxnSpPr>
        <p:spPr>
          <a:xfrm>
            <a:off x="5655960" y="5389200"/>
            <a:ext cx="19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9" idx="3"/>
            <a:endCxn id="157" idx="1"/>
          </p:cNvCxnSpPr>
          <p:nvPr/>
        </p:nvCxnSpPr>
        <p:spPr>
          <a:xfrm>
            <a:off x="7229520" y="5389200"/>
            <a:ext cx="19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 rot="16200000">
            <a:off x="2696400" y="3508920"/>
            <a:ext cx="344160" cy="5318280"/>
          </a:xfrm>
          <a:custGeom>
            <a:avLst/>
            <a:gdLst>
              <a:gd name="textAreaLeft" fmla="*/ 219960 w 344160"/>
              <a:gd name="textAreaRight" fmla="*/ 344520 w 344160"/>
              <a:gd name="textAreaTop" fmla="*/ 112320 h 5318280"/>
              <a:gd name="textAreaBottom" fmla="*/ 5205960 h 531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0"/>
                  <a:pt x="10800" y="1460"/>
                </a:cubicBezTo>
                <a:lnTo>
                  <a:pt x="10800" y="9417"/>
                </a:lnTo>
                <a:cubicBezTo>
                  <a:pt x="10800" y="10147"/>
                  <a:pt x="5400" y="10877"/>
                  <a:pt x="0" y="10877"/>
                </a:cubicBezTo>
                <a:cubicBezTo>
                  <a:pt x="5400" y="10877"/>
                  <a:pt x="10800" y="11607"/>
                  <a:pt x="10800" y="12337"/>
                </a:cubicBezTo>
                <a:lnTo>
                  <a:pt x="10800" y="20140"/>
                </a:lnTo>
                <a:cubicBezTo>
                  <a:pt x="10800" y="2087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7139880" y="4439160"/>
            <a:ext cx="344520" cy="3460680"/>
          </a:xfrm>
          <a:custGeom>
            <a:avLst/>
            <a:gdLst>
              <a:gd name="textAreaLeft" fmla="*/ 220320 w 344520"/>
              <a:gd name="textAreaRight" fmla="*/ 344880 w 344520"/>
              <a:gd name="textAreaTop" fmla="*/ 73080 h 3460680"/>
              <a:gd name="textAreaBottom" fmla="*/ 3387600 h 346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0"/>
                  <a:pt x="10800" y="1460"/>
                </a:cubicBezTo>
                <a:lnTo>
                  <a:pt x="10800" y="9417"/>
                </a:lnTo>
                <a:cubicBezTo>
                  <a:pt x="10800" y="10147"/>
                  <a:pt x="5400" y="10877"/>
                  <a:pt x="0" y="10877"/>
                </a:cubicBezTo>
                <a:cubicBezTo>
                  <a:pt x="5400" y="10877"/>
                  <a:pt x="10800" y="11607"/>
                  <a:pt x="10800" y="12337"/>
                </a:cubicBezTo>
                <a:lnTo>
                  <a:pt x="10800" y="20140"/>
                </a:lnTo>
                <a:cubicBezTo>
                  <a:pt x="10800" y="2087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39000" y="62913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38240" y="6299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/FGG/IKSE/LAWA/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0160" y="0"/>
            <a:ext cx="6804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Example for catalogue of causes  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2680" y="974880"/>
          <a:ext cx="8373600" cy="5827680"/>
        </p:xfrm>
        <a:graphic>
          <a:graphicData uri="http://schemas.openxmlformats.org/drawingml/2006/table">
            <a:tbl>
              <a:tblPr/>
              <a:tblGrid>
                <a:gridCol w="3076200"/>
                <a:gridCol w="3216240"/>
                <a:gridCol w="992880"/>
                <a:gridCol w="1088280"/>
              </a:tblGrid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ment 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-ment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e 1: Nutrients and pesticides in ground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e im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 Total N (90 percenti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ticide im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e 2: Other pressures of ground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undwater abstr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 of abstraction or 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-recharge minus abstr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t im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s of different sa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ority subst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 of the different priority subst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e 3: Nutrients, organic matter and pesticides in surface wa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issions of organic mat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SB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or 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H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phate im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 (90 Percenti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e im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 (90 Percenti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issions of pestici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 different pestici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e 4: Structure and hydro morphology of surface wa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cits of the river flo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ØSK 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rier-freeness for migratory f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e 5: Other pressures of surface wa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issions of Sa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s of different sa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80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Determination of targets 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0680" y="657360"/>
          <a:ext cx="8696160" cy="6167160"/>
        </p:xfrm>
        <a:graphic>
          <a:graphicData uri="http://schemas.openxmlformats.org/drawingml/2006/table">
            <a:tbl>
              <a:tblPr/>
              <a:tblGrid>
                <a:gridCol w="512640"/>
                <a:gridCol w="4032360"/>
                <a:gridCol w="1052640"/>
                <a:gridCol w="1050840"/>
                <a:gridCol w="1000080"/>
                <a:gridCol w="1047600"/>
              </a:tblGrid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face water body Zwieselb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rmination of target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issions of  organic mat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e im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phorus im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evance of cause with respect to the current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ant 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c. 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.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ment 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SB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H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-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rget – charac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rget – un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t/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t/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t/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t/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rget – val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quo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ation of baseline scenario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line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ected invest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mpacts of future develop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acts of decided groundwater meas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s of the selection of measures for connected groundwater bo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Groundwater body Zwieselb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acts of derivation from target for action at upstream water bo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s from selection of measures at the upstream water bo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o upstream water body exis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ion of target for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rget for action = Status quo-A1-A2-A3-target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-1449360" y="6190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9600" y="0"/>
            <a:ext cx="680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</a:rPr>
              <a:t>Pre-selection of measures 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901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e-selection of measur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tep: Select those measures from the catalogue of measures that in principle mitigate the pressures and support reaching the good statu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spcBef>
                <a:spcPts val="7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. Step: Specify these measure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spcBef>
                <a:spcPts val="7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3171960" y="4003560"/>
            <a:ext cx="2452680" cy="290520"/>
          </a:xfrm>
          <a:custGeom>
            <a:avLst/>
            <a:gdLst>
              <a:gd name="textAreaLeft" fmla="*/ 429120 w 2452680"/>
              <a:gd name="textAreaRight" fmla="*/ 1778400 w 245268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28227" b="0"/>
          <a:stretch/>
        </p:blipFill>
        <p:spPr>
          <a:xfrm>
            <a:off x="5792760" y="3303720"/>
            <a:ext cx="2898720" cy="279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1" name=""/>
          <p:cNvGrpSpPr/>
          <p:nvPr/>
        </p:nvGrpSpPr>
        <p:grpSpPr>
          <a:xfrm>
            <a:off x="838080" y="3044880"/>
            <a:ext cx="2022480" cy="3116160"/>
            <a:chOff x="838080" y="3044880"/>
            <a:chExt cx="2022480" cy="3116160"/>
          </a:xfrm>
        </p:grpSpPr>
        <p:sp>
          <p:nvSpPr>
            <p:cNvPr id="182" name=""/>
            <p:cNvSpPr/>
            <p:nvPr/>
          </p:nvSpPr>
          <p:spPr>
            <a:xfrm>
              <a:off x="838080" y="3044880"/>
              <a:ext cx="2022480" cy="311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1002600" y="3258000"/>
            <a:ext cx="1693080" cy="269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02600" y="3258000"/>
                      <a:ext cx="1693080" cy="26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5:49:29Z</dcterms:created>
  <dc:creator>.</dc:creator>
  <dc:description/>
  <dc:language>en-US</dc:language>
  <cp:lastModifiedBy>Knotek</cp:lastModifiedBy>
  <dcterms:modified xsi:type="dcterms:W3CDTF">2006-11-03T07:51:37Z</dcterms:modified>
  <cp:revision>91</cp:revision>
  <dc:subject/>
  <dc:title>Folie 1</dc:title>
</cp:coreProperties>
</file>