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EDB38-1D3D-4CAF-9E26-22FF2CC66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70212-1CAA-4396-AE04-C63940E2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836AA-2371-493A-A630-3B0BAF73F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F4A17-04CA-44E9-B8DF-4E312E201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0539-FAB7-4429-BA75-4D6198C77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E8B0-27F1-42F2-A9F8-61096A6B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9705-BD12-4E68-A893-339C38AE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0E4A-564C-40ED-BF4E-F818959F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07D9-5021-49F2-8240-5427D758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B7C0-7DEC-4448-B155-AC1ABBAB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4D63-043E-4043-9012-83C0B010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491CF-0988-466B-9832-A6B98B6B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6D7C-C23C-4B2E-8ECB-9D227FE1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A93B-5B42-4F74-8C75-E57DE07F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4B1D-AD92-490C-9B5A-E0791D9A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1C9A-B792-4593-9F5D-73E9988A6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2CBA-90A4-4127-AD16-FF018D4A8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7C114-265D-45D6-9C8B-5F51631D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502F6-F992-4E76-8B65-CB233AF6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63B37-CB29-4826-A91F-4FAFA526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AAE73-AB21-4299-B04F-116D99BB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CECE9-64FA-4C17-93BC-69DDAC10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B92EA-157B-498B-94FD-C55A27D2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4197C-5871-41F8-9FBD-6EA5C561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FCB4-3745-4231-A58B-B62172FCF835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5A31-3CEB-493D-AB39-7E94BD02ACC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Suggestions </a:t>
            </a:r>
            <a:br>
              <a:rPr sz="4400"/>
            </a:b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for the establishment of the River Basin Management Pla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5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nternational aspects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che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Which milestones need to be fixed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5640" y="2420640"/>
            <a:ext cx="7826400" cy="33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Early fixing of important, common milestones at least 1-2 years ahe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Implementing these milestones in national planning proces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Decisions: 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IKSE/ICG WFD, AG WF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Administration / Controlling: 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Secretaria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"/>
          <p:cNvSpPr/>
          <p:nvPr/>
        </p:nvSpPr>
        <p:spPr>
          <a:xfrm rot="20368200">
            <a:off x="3347640" y="1341000"/>
            <a:ext cx="1873440" cy="79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Garamond"/>
              </a:rPr>
              <a:t>Wroclaw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Garamond"/>
              </a:rPr>
              <a:t>June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Which milestones need to be fixed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Milestones for monitoring are fixed (IKS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Fixing is needed f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Coordination of international concerns, guidelines, documents (needed for the establishment of RBMP) (WG/EG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Completion of drafts of the member states and data transfer to Wasserblick (M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Completion of the draft of the int. RBMP (WG/EG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Decision of the RMBP-draft and RMBP (on several level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The German draft was based on thes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Garamond"/>
              </a:rPr>
              <a:t>assumptions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Discuss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How is the general structure of the international river basin management plan (RBMP)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What are the international concern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How to draw up the RBMP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What about the programme of measure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How to realise the international aspects of  Art. 14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How to realise the data management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Which milestones need to be fixed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General ques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How is the general structure of the international river basin management plan (RBMP)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What are the international concern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How to draw up the RBMP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What about the programme of measure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How to realise the international aspects of  Art. 14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How to realise the data management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Which milestones need to be fixed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How is the general structure of the international RBMP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Garamond"/>
              </a:rPr>
              <a:t>According to the decision of the IKSE/MKOL the MS will draw up </a:t>
            </a:r>
            <a:r>
              <a:rPr b="0" lang="en-GB" sz="2800" spc="-1" strike="noStrike" u="sng">
                <a:solidFill>
                  <a:srgbClr val="ffcc00"/>
                </a:solidFill>
                <a:uFillTx/>
                <a:latin typeface="Garamond"/>
              </a:rPr>
              <a:t>one</a:t>
            </a:r>
            <a:r>
              <a:rPr b="0" lang="en-GB" sz="2800" spc="-1" strike="noStrike">
                <a:solidFill>
                  <a:srgbClr val="ffcc00"/>
                </a:solidFill>
                <a:latin typeface="Garamond"/>
              </a:rPr>
              <a:t> common international RBMP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Following the previous reports the RBMP will be divided in three sections, which together for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Garamond"/>
              </a:rPr>
              <a:t>one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 pla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international level (international concerns)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whole river basin district, draw up by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Garamond"/>
              </a:rPr>
              <a:t>IKSE/MK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national level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national part of RBD, draw up by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Garamond"/>
              </a:rPr>
              <a:t>Member Sta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legally required data (as templates, maps), provided 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by t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Garamond"/>
              </a:rPr>
              <a:t>Member Sta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What are the international concerns?</a:t>
            </a:r>
            <a:br>
              <a:rPr sz="4000"/>
            </a:b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(A-Part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Concerns, whose solutions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Garamond"/>
              </a:rPr>
              <a:t>need to be coordinated on an international level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=&gt; Agenda item: 4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Garamond"/>
              </a:rPr>
              <a:t>A-problems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: int. sol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Concerns, whose specific solutions can be managed on a national/regional level, but who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Garamond"/>
              </a:rPr>
              <a:t>on the whole have a significant effect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 on a large part of the river basin district (e.g. diffuse pressures by agricultural use).</a:t>
            </a:r>
            <a:br>
              <a:rPr sz="2800"/>
            </a:br>
            <a:r>
              <a:rPr b="0" lang="en-GB" sz="2800" spc="-1" strike="noStrike" u="sng">
                <a:solidFill>
                  <a:srgbClr val="ffffff"/>
                </a:solidFill>
                <a:uFillTx/>
                <a:latin typeface="Garamond"/>
              </a:rPr>
              <a:t>B-problems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: national solution, int. summa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How to draw up the RBMP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4358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chedul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Early fixing of important milestone (Agenda item 5.1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Dates for meetings and tasks to be derived from these milestones; lay down responsibiliti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tructure / cont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Fixing of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Garamond"/>
              </a:rPr>
              <a:t>structure and contents</a:t>
            </a: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 for the part 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Fixing of a common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Garamond"/>
              </a:rPr>
              <a:t>structure</a:t>
            </a: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 for part B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Decision, which maps/data templates are includ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Procedu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Identification of international concer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Coordination of international concerns / Setting of Guidelines, where necessary (top dow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Regional implementation (bottom up) and data transfer to common data ba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National evaluation, coordination and summary (B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International evaluation, coordination and summary (A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Decision in which languages the parts will be availab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5e5ff"/>
                </a:solidFill>
                <a:latin typeface="Garamond"/>
              </a:rPr>
              <a:t>What about the programme of measures</a:t>
            </a:r>
            <a:r>
              <a:rPr b="1" lang="en-GB" sz="2800" spc="-1" strike="noStrike">
                <a:solidFill>
                  <a:srgbClr val="e5e5ff"/>
                </a:solidFill>
                <a:latin typeface="Garamond"/>
              </a:rPr>
              <a:t>?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Garamond"/>
              </a:rPr>
              <a:t>“</a:t>
            </a:r>
            <a:r>
              <a:rPr b="0" lang="en-GB" sz="2400" spc="-1" strike="noStrike">
                <a:solidFill>
                  <a:srgbClr val="ffcc00"/>
                </a:solidFill>
                <a:latin typeface="Garamond"/>
              </a:rPr>
              <a:t>Each </a:t>
            </a:r>
            <a:r>
              <a:rPr b="0" lang="en-GB" sz="2400" spc="-1" strike="noStrike" u="sng">
                <a:solidFill>
                  <a:srgbClr val="ffcc00"/>
                </a:solidFill>
                <a:uFillTx/>
                <a:latin typeface="Garamond"/>
              </a:rPr>
              <a:t>Member State</a:t>
            </a:r>
            <a:r>
              <a:rPr b="0" lang="en-GB" sz="2400" spc="-1" strike="noStrike">
                <a:solidFill>
                  <a:srgbClr val="ffcc00"/>
                </a:solidFill>
                <a:latin typeface="Garamond"/>
              </a:rPr>
              <a:t> shall ensure the establishment … of a programme of measures, taking account of the results of the analyses required under Article 5, in order to achieve the objectives established under Article 4.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Garamond"/>
              </a:rPr>
              <a:t>The river basin management plan includes “a summary of the programme or programmes of measures adopted under Article 11, including the ways in which the objectives established under Article 4 are thereby to be achieved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uggestion: T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Garamond"/>
              </a:rPr>
              <a:t>programmes of measures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Garamond"/>
              </a:rPr>
              <a:t>and its strategic environmental compatibility examination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is drafted by t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Garamond"/>
              </a:rPr>
              <a:t>Member States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. Its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Garamond"/>
              </a:rPr>
              <a:t>coordination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(about international concerns)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Garamond"/>
              </a:rPr>
              <a:t>is included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into the process of drawing up the international river basin management pla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68360" y="1844640"/>
            <a:ext cx="3598920" cy="4248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lan / Programm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1916280"/>
            <a:ext cx="3456000" cy="13683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BMP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art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3284640"/>
            <a:ext cx="3456000" cy="1368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BMP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art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3357720"/>
            <a:ext cx="3456000" cy="1368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Garamond"/>
              </a:rPr>
              <a:t>Programme of measures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4653000"/>
            <a:ext cx="3456000" cy="1368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Garamond"/>
              </a:rPr>
              <a:t>Data ann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987280" y="3933720"/>
            <a:ext cx="2089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2916000" y="2708280"/>
            <a:ext cx="2160360" cy="1225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88000" y="4724280"/>
            <a:ext cx="3456000" cy="1368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Garamond"/>
              </a:rPr>
              <a:t>Data ann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268360" y="285264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5e5ff"/>
                </a:solidFill>
                <a:latin typeface="Garamond"/>
              </a:rPr>
              <a:t>How to realise </a:t>
            </a:r>
            <a:br>
              <a:rPr sz="3600"/>
            </a:br>
            <a:r>
              <a:rPr b="1" lang="en-GB" sz="3600" spc="-1" strike="noStrike">
                <a:solidFill>
                  <a:srgbClr val="e5e5ff"/>
                </a:solidFill>
                <a:latin typeface="Garamond"/>
              </a:rPr>
              <a:t>the international aspects of  Art. 14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Generally th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Garamond"/>
              </a:rPr>
              <a:t>MS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 are responsible for realising the implementation of Art. 14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But it will be necessary to include the international concerns adequately in the implementation of Art. 14. This should inclu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a common document for the international timetable and work programme as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Garamond"/>
              </a:rPr>
              <a:t>one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part of the timetable / work programme of the MS/FS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a common document for the interim overview of the significant issues as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Garamond"/>
              </a:rPr>
              <a:t>one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part of the interim overview of the significant issues of the MS/FS a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international draft copies of the river basin management plan as base of the public informa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5e5ff"/>
                </a:solidFill>
                <a:latin typeface="Garamond"/>
              </a:rPr>
              <a:t>How to realise the data management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Garamond"/>
              </a:rPr>
              <a:t>texts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of part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Garamond"/>
              </a:rPr>
              <a:t>A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Garamond"/>
              </a:rPr>
              <a:t>B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of the RBMP will hardly include detailed data, but summarized dat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Garamond"/>
              </a:rPr>
              <a:t>Necessary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detailed data will be provided by data templates, which are a part of the RBMP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For drawing up the RBMP the data will be collected in the system Wasserblic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The digital report of the RBMP will be realised using the WISE-syst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7T12:49:08Z</dcterms:created>
  <dc:creator>Administrator</dc:creator>
  <dc:description/>
  <dc:language>en-US</dc:language>
  <cp:lastModifiedBy>Administrator</cp:lastModifiedBy>
  <dcterms:modified xsi:type="dcterms:W3CDTF">2006-01-18T15:50:04Z</dcterms:modified>
  <cp:revision>16</cp:revision>
  <dc:subject/>
  <dc:title>Principles of the </dc:title>
</cp:coreProperties>
</file>