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384804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384804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B3110A-EEE7-4EEA-B5FA-5F4AE8F69D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4804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774662-1F4A-4DF2-907A-2C9489BB9B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4804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81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ktor 12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třídami a výrazně nad tím celke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Třídy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.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d.WE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ek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nákladů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(WE =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Bílý Halštro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t/ha*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kg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)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%)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€/kg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)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&lt;0.06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62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1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I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0.06-0.086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51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,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7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II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0.086-0.2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1024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,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V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(&gt;0.25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540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,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otal/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-36.787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73,7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utno zjistit nezbytnou velikost p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hy, na které budou probíhat opatření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on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v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čního obdělávání půdy, a s tím spojené náklady, aby bylo možno v povodí Bílého Halštrova (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nížit vnosy fosforu 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5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rovány byly tyto strategi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siness as usu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j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 programu je zapojen každý země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ě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 a opatření 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alizuje v povodí v rovnoměrném rozdělení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pecifikace ploch (=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lächenscharf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j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r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och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V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eg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en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spor je uváděn v poměru ke strateg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Business as us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upeň napojení na ČOV v bilanční oblast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6 (Gera):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ěstování meziplodin je obtížné prosadit, protože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zapadá do zdejších běžný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osevních po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pů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a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to moc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přine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innost pásů břehové vegetace je v pořádku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elké odběry vody pro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hemic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ý průmysl v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öhlen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a elektrárnu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ppendorf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běry podzemních vod jsou účinnější než odběry povrchových vod, protože odběry povrchových vod se pojí také s odběrem fosforu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usíku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edpokl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patření lze dále rozděli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j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 k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sová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í rela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ákladů a účinků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suzován je pouze jeden redukční cí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6CECA-BEF0-4E7A-8325-4C8C401436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CBF8-442F-4E6B-A975-2A5F3087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1DEC-5CC3-4C15-97C6-82EC1E5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D0AE-ED50-4E0E-95FA-C8B4DF9AB5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4956-F7A8-4D8B-A334-8A7F47FD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ADF2-8E9F-4920-A8F0-E2B98B52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6C71-5DFD-448E-8D1F-15D8CCDF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0CB5-F444-4CDC-BCE3-C4C9409D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9600" y="-360"/>
            <a:ext cx="68040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C876-A4F7-493D-BB64-64889A9F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AEF7-8FC2-4122-9965-28DB5702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149D-F771-4FE1-BCF2-694C54AB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E51A-AB04-4941-A03F-3ED6E5DE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08640"/>
            <a:ext cx="9144000" cy="58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7400" indent="-261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3656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09600" y="-360"/>
            <a:ext cx="680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74004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32560" y="6489720"/>
            <a:ext cx="1597320" cy="225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85720" y="6400800"/>
            <a:ext cx="2613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UFZ-Umweltforschungszen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Leipzig-Halle Gmb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in der Helmholtz-Gemeinsch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8280" y="637236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674200" y="473040"/>
            <a:ext cx="469800" cy="469800"/>
          </a:xfrm>
          <a:prstGeom prst="rect">
            <a:avLst/>
          </a:prstGeom>
          <a:solidFill>
            <a:srgbClr val="2a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205840" y="4680"/>
            <a:ext cx="469800" cy="470160"/>
          </a:xfrm>
          <a:prstGeom prst="rect">
            <a:avLst/>
          </a:prstGeom>
          <a:solidFill>
            <a:srgbClr val="d5e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492760" y="114480"/>
            <a:ext cx="6764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E48C-0E83-4042-AF53-B59C14043E8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2a7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041640" y="455760"/>
            <a:ext cx="3100320" cy="5833440"/>
            <a:chOff x="3041640" y="455760"/>
            <a:chExt cx="3100320" cy="5833440"/>
          </a:xfrm>
        </p:grpSpPr>
        <p:grpSp>
          <p:nvGrpSpPr>
            <p:cNvPr id="56" name=""/>
            <p:cNvGrpSpPr/>
            <p:nvPr/>
          </p:nvGrpSpPr>
          <p:grpSpPr>
            <a:xfrm>
              <a:off x="3041640" y="455760"/>
              <a:ext cx="2857320" cy="5812920"/>
              <a:chOff x="3041640" y="455760"/>
              <a:chExt cx="2857320" cy="58129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3041640" y="455760"/>
                <a:ext cx="2857320" cy="5812920"/>
                <a:chOff x="3041640" y="455760"/>
                <a:chExt cx="2857320" cy="5812920"/>
              </a:xfrm>
            </p:grpSpPr>
            <p:pic>
              <p:nvPicPr>
                <p:cNvPr id="58" name="" descr=""/>
                <p:cNvPicPr/>
                <p:nvPr/>
              </p:nvPicPr>
              <p:blipFill>
                <a:blip r:embed="rId1"/>
                <a:srcRect l="5670" t="4008" r="25534" b="0"/>
                <a:stretch/>
              </p:blipFill>
              <p:spPr>
                <a:xfrm>
                  <a:off x="3041640" y="472320"/>
                  <a:ext cx="2857320" cy="579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4262400" y="455760"/>
                  <a:ext cx="92520" cy="28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4341960" y="665280"/>
                <a:ext cx="43200" cy="7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106440" y="457200"/>
              <a:ext cx="3035520" cy="5832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1372"/>
                  </a:srgbClr>
                </a:gs>
                <a:gs pos="100000">
                  <a:srgbClr val="ffffff">
                    <a:alpha val="7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38120" y="981000"/>
            <a:ext cx="82296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a7e28"/>
                </a:solidFill>
                <a:latin typeface="Tahoma"/>
              </a:rPr>
              <a:t>Projekt BMBF (březen 2002 - říjen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a7e28"/>
                </a:solidFill>
                <a:latin typeface="Tahoma"/>
              </a:rPr>
              <a:t>Výběr opatření </a:t>
            </a:r>
            <a:br>
              <a:rPr sz="2800"/>
            </a:br>
            <a:r>
              <a:rPr b="1" lang="cs-CZ" sz="2800" spc="-1" strike="noStrike">
                <a:solidFill>
                  <a:srgbClr val="2a7e28"/>
                </a:solidFill>
                <a:latin typeface="Tahoma"/>
              </a:rPr>
              <a:t>podle Rámcové směrnice ES o vodách</a:t>
            </a:r>
            <a:r>
              <a:rPr b="1" lang="cs-CZ" sz="2400" spc="-1" strike="noStrike">
                <a:solidFill>
                  <a:srgbClr val="2a7e2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a7e28"/>
                </a:solidFill>
                <a:latin typeface="Tahoma"/>
              </a:rPr>
              <a:t>Vývoj metodiky na příkladu vnosů živin </a:t>
            </a:r>
            <a:br>
              <a:rPr sz="2400"/>
            </a:br>
            <a:r>
              <a:rPr b="0" lang="cs-CZ" sz="2400" spc="-1" strike="noStrike">
                <a:solidFill>
                  <a:srgbClr val="2a7e28"/>
                </a:solidFill>
                <a:latin typeface="Tahoma"/>
              </a:rPr>
              <a:t>v povodí Bílého Halštrova (Weiße El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7e28"/>
                </a:solidFill>
                <a:latin typeface="Tahoma"/>
              </a:rPr>
              <a:t>Bernd Kla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7e28"/>
                </a:solidFill>
                <a:latin typeface="Tahoma"/>
              </a:rPr>
              <a:t>Oddělení ek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87880" y="0"/>
            <a:ext cx="215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5f5f5f"/>
                </a:solidFill>
                <a:latin typeface="Arial"/>
              </a:rPr>
              <a:t>18. </a:t>
            </a:r>
            <a:r>
              <a:rPr b="1" lang="cs-CZ" sz="900" spc="-1" strike="noStrike">
                <a:solidFill>
                  <a:srgbClr val="5f5f5f"/>
                </a:solidFill>
                <a:latin typeface="Arial"/>
              </a:rPr>
              <a:t>ledna</a:t>
            </a:r>
            <a:r>
              <a:rPr b="1" lang="de-DE" sz="900" spc="-1" strike="noStrike">
                <a:solidFill>
                  <a:srgbClr val="5f5f5f"/>
                </a:solidFill>
                <a:latin typeface="Arial"/>
              </a:rPr>
              <a:t>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77920" y="5097600"/>
            <a:ext cx="6989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k lze zohledňovat efektivnost nákladů při výběru opatření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o je nezbytné odsouhlasit v rámci přeshraniční spoluprá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Tahoma"/>
              </a:rPr>
              <a:t>3. </a:t>
            </a: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fáz</a:t>
            </a:r>
            <a:r>
              <a:rPr b="1" lang="de-DE" sz="2400" spc="-1" strike="noStrike">
                <a:solidFill>
                  <a:srgbClr val="008000"/>
                </a:solidFill>
                <a:latin typeface="Tahoma"/>
              </a:rPr>
              <a:t>e: </a:t>
            </a: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Porovnání souborů opatření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5280" y="1027080"/>
            <a:ext cx="7845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ýchozí bod: Matrice účinků souborů opatření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74680" y="2216160"/>
            <a:ext cx="1311120" cy="100332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6920" y="1625760"/>
          <a:ext cx="8583480" cy="3814560"/>
        </p:xfrm>
        <a:graphic>
          <a:graphicData uri="http://schemas.openxmlformats.org/drawingml/2006/table">
            <a:tbl>
              <a:tblPr/>
              <a:tblGrid>
                <a:gridCol w="1488960"/>
                <a:gridCol w="914400"/>
                <a:gridCol w="947880"/>
                <a:gridCol w="847800"/>
                <a:gridCol w="1188720"/>
                <a:gridCol w="987480"/>
                <a:gridCol w="1139760"/>
                <a:gridCol w="1068480"/>
              </a:tblGrid>
              <a:tr h="57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bor opatření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ivy na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„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rý stav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-klady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ší vlivy, 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o-vatelnost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jistota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átkový odnos dusíku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átkový odnos fosforu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€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ečnost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had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roda a krajina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had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ova-telnost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br>
                        <a:rPr sz="1400"/>
                      </a:b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tan</a:t>
                      </a: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had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jistota dosažení cíl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had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 cí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de-DE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Mat</a:t>
            </a:r>
            <a:r>
              <a:rPr b="1" lang="de-DE" sz="2400" spc="-1" strike="noStrike">
                <a:solidFill>
                  <a:srgbClr val="008000"/>
                </a:solidFill>
                <a:latin typeface="Tahoma"/>
              </a:rPr>
              <a:t>r</a:t>
            </a: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ice účinků jednotlivých opatření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30080" y="1347840"/>
          <a:ext cx="7961400" cy="4503600"/>
        </p:xfrm>
        <a:graphic>
          <a:graphicData uri="http://schemas.openxmlformats.org/drawingml/2006/table">
            <a:tbl>
              <a:tblPr/>
              <a:tblGrid>
                <a:gridCol w="2254320"/>
                <a:gridCol w="960480"/>
                <a:gridCol w="811440"/>
                <a:gridCol w="1179360"/>
                <a:gridCol w="1326960"/>
                <a:gridCol w="142884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notlivá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ivy na 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„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rý stav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lady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ktivnost nákladů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snížení fosf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ova-telnost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átkový odnos dusíku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/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átkový odnos fosforu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/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€/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. €/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ova-telnost</a:t>
                      </a: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br>
                        <a:rPr sz="1400"/>
                      </a:b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tan</a:t>
                      </a: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had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 c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epšení vybavenosti Č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žn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%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logi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 zeměděls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ció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ční obdělávání pů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části se již praktiku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taliz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ció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kční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ál 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32880" y="828720"/>
            <a:ext cx="7845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íklad: Bilanční oblast 6 (Gera)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Shrnutí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7520" y="953640"/>
            <a:ext cx="84423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26000" indent="-48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Problémy k rozhodování je možno posuzovat samostatně (na úrovni států, spolkových zemí, bilančních oblastí, vodních útvarů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98360" indent="-3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lze však vyloučit, že by mohly být přehlédnuty potenciály úspo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26000" indent="-48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Pro efektivnost opatření je důležitý jejich desig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26000" indent="-48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Efektivnost nákladů jako jediné výběrové kritérium je nedostačující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26000" indent="-48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Další úkoly: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Metoda výběru musí být rozpracována tak, aby umožňovala praktické postupové schém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9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Vedle analýzy nákladů a účinků a multikriteriální analýzy musí toto schéma dále obsahovat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98360" indent="-3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rověření důvodů pro udělení výjimk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98360" indent="-3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Jak se bude postupovat u výjimečných případů: Jakým způsobem se bude provádět výběr opatření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5320" y="76320"/>
            <a:ext cx="7427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Výsledky první charakterizace útvarů povrchových vod</a:t>
            </a:r>
            <a:r>
              <a:rPr b="1" lang="de-DE" sz="32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30542" t="3808" r="5901" b="0"/>
          <a:stretch/>
        </p:blipFill>
        <p:spPr>
          <a:xfrm>
            <a:off x="5635800" y="620640"/>
            <a:ext cx="2528640" cy="5580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3880" y="1550880"/>
            <a:ext cx="450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osažení cíle dobrého ekologického a chemického sta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ravděpodob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ejas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epravděpodob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7320" y="2362320"/>
            <a:ext cx="3938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7320" y="2679840"/>
            <a:ext cx="393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7320" y="2997360"/>
            <a:ext cx="393840" cy="0"/>
          </a:xfrm>
          <a:prstGeom prst="line">
            <a:avLst/>
          </a:prstGeom>
          <a:ln w="28440">
            <a:solidFill>
              <a:srgbClr val="fc2a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8680" y="3541680"/>
            <a:ext cx="450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Úkol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Výběr nákladově nejefektivnější kombinace opatření k dosažení dobrého stavu.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Efektivnost nákladů znamená: Výběr takového opatření, které umožní dosáhnout dobrého stavu při nejmenších nákladech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9240" y="-360"/>
            <a:ext cx="71247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Dílčí úkol: Prostorová konkretizace cílů</a:t>
            </a:r>
            <a:r>
              <a:rPr b="1" lang="de-DE" sz="2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6080" y="1541160"/>
            <a:ext cx="5457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Přístup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Redukční cíle vztažené k bilančnímu prostoru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633240" y="2287440"/>
            <a:ext cx="3641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Řadu vodních útvarů nelze bilanc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1160" indent="-113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ca 40 měrných profilů jakosti v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1160" indent="-113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137 útvarů povrchových v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33927" t="3117" r="33562" b="2844"/>
          <a:stretch/>
        </p:blipFill>
        <p:spPr>
          <a:xfrm>
            <a:off x="5578560" y="644400"/>
            <a:ext cx="2660400" cy="5573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36480" y="3683160"/>
            <a:ext cx="3654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Vymezení bilančních oblas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eskupování útvarů povrchových vod do skupin po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37520" indent="-82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umístění měrných profilů jakosti v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7520" indent="-82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hydr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3960" y="871560"/>
            <a:ext cx="52945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1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Bilanční oblasti jako koncepce k potlačení vazby problémů, o kterých bude nutno rozhodn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600" indent="-2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tanovit individuální redukční cíl pro každou bilanční obla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600" indent="-2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Bilanční oblast A je subjekt situovaný výše na toku.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Proto lze redukční cíl dosáhnout nezávisle na subjektech situovaných níže po to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600" indent="-291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Bilanční oblast B vychází z předpokladu: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Dobrý stav ve výše položené bilanční oblasti  A byl již dosaž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Výběr opatření pro každou bilanční oblast probíhá nezávisle na ostatních bilančních oblas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stup lze využít i pro oddělení vazby rozhodování na úrovni států a spolkových zemí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třeba odsouhlasení při udělování výjim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ředpoklad: ve výše položených bilančních oblastech nedošlo k překročení plnění plánovaných c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10880"/>
            <a:ext cx="7947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Postup při konkretizaci prostorových cílů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934240" y="5468760"/>
            <a:ext cx="2326680" cy="702360"/>
            <a:chOff x="5934240" y="5468760"/>
            <a:chExt cx="2326680" cy="702360"/>
          </a:xfrm>
        </p:grpSpPr>
        <p:sp>
          <p:nvSpPr>
            <p:cNvPr id="80" name=""/>
            <p:cNvSpPr/>
            <p:nvPr/>
          </p:nvSpPr>
          <p:spPr>
            <a:xfrm>
              <a:off x="5934240" y="5681520"/>
              <a:ext cx="206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00800" y="5468760"/>
              <a:ext cx="1860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měrný profil jakosti vod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835600" y="5037120"/>
            <a:ext cx="2662200" cy="462600"/>
            <a:chOff x="5835600" y="5037120"/>
            <a:chExt cx="2662200" cy="462600"/>
          </a:xfrm>
        </p:grpSpPr>
        <p:sp>
          <p:nvSpPr>
            <p:cNvPr id="83" name=""/>
            <p:cNvSpPr/>
            <p:nvPr/>
          </p:nvSpPr>
          <p:spPr>
            <a:xfrm>
              <a:off x="6761160" y="5037120"/>
              <a:ext cx="1736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bilanční oblas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35600" y="5162400"/>
              <a:ext cx="89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, B,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118200" y="1301760"/>
            <a:ext cx="1784160" cy="3600000"/>
            <a:chOff x="6118200" y="1301760"/>
            <a:chExt cx="1784160" cy="3600000"/>
          </a:xfrm>
        </p:grpSpPr>
        <p:sp>
          <p:nvSpPr>
            <p:cNvPr id="86" name=""/>
            <p:cNvSpPr/>
            <p:nvPr/>
          </p:nvSpPr>
          <p:spPr>
            <a:xfrm>
              <a:off x="6118200" y="3462120"/>
              <a:ext cx="1784160" cy="1079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18200" y="2381040"/>
              <a:ext cx="1784160" cy="1079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18200" y="1301760"/>
              <a:ext cx="1784160" cy="1079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10120" y="1422360"/>
              <a:ext cx="693360" cy="3479400"/>
            </a:xfrm>
            <a:custGeom>
              <a:avLst/>
              <a:gdLst/>
              <a:ahLst/>
              <a:rect l="l" t="t" r="r" b="b"/>
              <a:pathLst>
                <a:path w="462" h="2677">
                  <a:moveTo>
                    <a:pt x="333" y="0"/>
                  </a:moveTo>
                  <a:cubicBezTo>
                    <a:pt x="166" y="287"/>
                    <a:pt x="0" y="575"/>
                    <a:pt x="15" y="908"/>
                  </a:cubicBezTo>
                  <a:cubicBezTo>
                    <a:pt x="30" y="1241"/>
                    <a:pt x="386" y="1701"/>
                    <a:pt x="424" y="1996"/>
                  </a:cubicBezTo>
                  <a:cubicBezTo>
                    <a:pt x="462" y="2291"/>
                    <a:pt x="352" y="2484"/>
                    <a:pt x="242" y="2677"/>
                  </a:cubicBezTo>
                </a:path>
              </a:pathLst>
            </a:custGeom>
            <a:noFill/>
            <a:ln w="7632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47440" y="1481040"/>
              <a:ext cx="6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91640" y="2562120"/>
              <a:ext cx="6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3640" y="3641400"/>
              <a:ext cx="6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4320" y="2141280"/>
              <a:ext cx="2048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57720" y="3162240"/>
              <a:ext cx="206280" cy="18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99000" y="4302000"/>
              <a:ext cx="206280" cy="182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91920" y="4133520"/>
              <a:ext cx="6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88280" y="1877760"/>
              <a:ext cx="61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38040" y="2981160"/>
              <a:ext cx="61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600" y="33480"/>
            <a:ext cx="86328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Efektivnost nákladů: </a:t>
            </a:r>
            <a:br>
              <a:rPr sz="2400"/>
            </a:b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příklad – konzervační obdělávání půdy</a:t>
            </a:r>
            <a:r>
              <a:rPr b="0" lang="de-DE" sz="16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19720" y="776160"/>
            <a:ext cx="3824280" cy="547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105760" y="4319640"/>
            <a:ext cx="86364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k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21800" y="4591080"/>
            <a:ext cx="550440" cy="896400"/>
            <a:chOff x="7921800" y="4591080"/>
            <a:chExt cx="550440" cy="896400"/>
          </a:xfrm>
        </p:grpSpPr>
        <p:sp>
          <p:nvSpPr>
            <p:cNvPr id="103" name=""/>
            <p:cNvSpPr/>
            <p:nvPr/>
          </p:nvSpPr>
          <p:spPr>
            <a:xfrm>
              <a:off x="8049240" y="4591080"/>
              <a:ext cx="27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12880" y="4822920"/>
              <a:ext cx="45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21800" y="4992480"/>
              <a:ext cx="45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1800" y="5211000"/>
              <a:ext cx="55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04920" y="828720"/>
            <a:ext cx="496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dělení ploch do tříd podle vhodnosti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konzervační obdělávání pů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" y="3363840"/>
            <a:ext cx="59850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rovnání strategi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centrace na plochy zařazené do kategorie IV (zaměřeno na vyspecifikovanou plochu) versus rovnoměrné rozděle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zbytné náklady ke snížení vnosů fosforu o 50 %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povodí Bílého Halštro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00400" y="1452600"/>
            <a:ext cx="1024200" cy="1982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4440" y="4954680"/>
          <a:ext cx="3924360" cy="1190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4954680"/>
                    <a:ext cx="39243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06440" y="1523880"/>
          <a:ext cx="4711680" cy="1841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440" y="1523880"/>
                    <a:ext cx="471168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Náš postup při výběru opatření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7520" y="953640"/>
            <a:ext cx="844236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Rozdělení procesu výběru do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fází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33560" indent="-5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1. fáze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cs-CZ" sz="1600" spc="-1" strike="noStrike">
                <a:solidFill>
                  <a:srgbClr val="000000"/>
                </a:solidFill>
                <a:latin typeface="Tahoma"/>
              </a:rPr>
              <a:t>Identifikace a/nebo vývoj (jednotlivých) opatření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210240" indent="-33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předběžný výběr slibných opatření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133560" indent="-5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2. fáze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cs-CZ" sz="1600" spc="-1" strike="noStrike">
                <a:solidFill>
                  <a:srgbClr val="000000"/>
                </a:solidFill>
                <a:latin typeface="Tahoma"/>
              </a:rPr>
              <a:t>Vytvořit z jednotlivých opatření kombinace několika opatř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210240" indent="-33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kombinace opatření povede k dosažení dobrého stavu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210240" indent="-33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důležitým kritériem efektivnost nákladů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210240" indent="-33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identifikovat méně slibné kombinace opatření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133560" indent="-5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3. fáze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cs-CZ" sz="1600" spc="-1" strike="noStrike">
                <a:solidFill>
                  <a:srgbClr val="000000"/>
                </a:solidFill>
                <a:latin typeface="Tahoma"/>
              </a:rPr>
              <a:t>Porovnání kombinací opatření (souborů opatření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210240" indent="-33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zohlednění dalších výběrových kritérií, jako např. realizovatelnost opatření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210240" indent="-33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v případě potřeby využít metody multikriteriální analýz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210240" indent="-33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definitivní rozhodnutí ze strany rozhodujících slož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131320" y="0"/>
            <a:ext cx="1012680" cy="11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55800"/>
            <a:ext cx="811548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1. fáze: Předběžný výběr opatření</a:t>
            </a:r>
            <a:r>
              <a:rPr b="1" lang="de-DE" sz="2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42800"/>
          <a:ext cx="9144000" cy="6739200"/>
        </p:xfrm>
        <a:graphic>
          <a:graphicData uri="http://schemas.openxmlformats.org/drawingml/2006/table">
            <a:tbl>
              <a:tblPr/>
              <a:tblGrid>
                <a:gridCol w="781200"/>
                <a:gridCol w="1197000"/>
                <a:gridCol w="1928520"/>
                <a:gridCol w="2482920"/>
                <a:gridCol w="2754360"/>
              </a:tblGrid>
              <a:tr h="428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droje znečištění a vli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atření ve vazbě na životní prostřed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atření ve vazbě na a</a:t>
                      </a: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t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é</a:t>
                      </a: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(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íklady</a:t>
                      </a: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dové zdr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unální čistírny odpadních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lepšení stupně vybavenosti čistír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lepšení účinnosti čištění </a:t>
                      </a:r>
                      <a:br>
                        <a:rPr sz="1100"/>
                      </a:b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 velikostních tříd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-III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d legislativně stanovené lim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ik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chn.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ndard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+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půrných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gram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výšení kapacit pro odlehčení srážkových vo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av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ešťových zdrží k retenci  srážkových vod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 jednotné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anali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kromé vypouštění odpadních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avba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nzifikace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 de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tr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á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ích Č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ošné zdr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užití zemědělských plo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nížení hnojení půdy dusíkatými hnoji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íl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kologic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é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zemědělství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nížení podílu kvalitní pše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chod z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konven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ních na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tegr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ané osevní postu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ogram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a podporu e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ologic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é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 zemědělství, modifikace správné odborné praxe, modifikace agrárních environmentálních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gram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ů, zavedení úplat za používání hnoj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ěstování meziplod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půrný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ogr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on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rvační obdělávání pů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oš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ikace agrárních environmentálních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gram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žší stavy dobyt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r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é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měna účelu plo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/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valé úh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tu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á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í podíl podl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cénáře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RAUMIS;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krétní ploch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émie za nevyužívání pozemk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ásy břehové veget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ířka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 m; hot spo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ikace agrárních environmentálních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gram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ů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lošný odkup pozemk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r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ogic</a:t>
                      </a: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é vli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stranění jez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šechny je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án rozvoje vodních toků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ošný výkup pozemků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rušení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dnětí) 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o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í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rá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v. úpravy</a:t>
                      </a:r>
                      <a:br>
                        <a:rPr sz="1100"/>
                      </a:b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 tocích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taliz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př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izace programu vodních toků v Sasku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Anhalt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k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běry vo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vrchových v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měna množství odběrů vo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měna, popř. zamítnutí (zrušení) vodoprávního povol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zemních vod</a:t>
                      </a: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měna množství odběrů vo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4032360" y="1112760"/>
            <a:ext cx="3857400" cy="363600"/>
          </a:xfrm>
          <a:prstGeom prst="wedgeRectCallout">
            <a:avLst>
              <a:gd name="adj1" fmla="val -64277"/>
              <a:gd name="adj2" fmla="val 11812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posoudit případ od příp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92640" y="4413240"/>
            <a:ext cx="4132080" cy="363600"/>
          </a:xfrm>
          <a:prstGeom prst="wedgeRectCallout">
            <a:avLst>
              <a:gd name="adj1" fmla="val -67555"/>
              <a:gd name="adj2" fmla="val 20589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ováno na vyb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ých lokalit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320" y="4572000"/>
            <a:ext cx="1919160" cy="617400"/>
          </a:xfrm>
          <a:prstGeom prst="wedgeRectCallout">
            <a:avLst>
              <a:gd name="adj1" fmla="val 55708"/>
              <a:gd name="adj2" fmla="val -3894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aditelnost opatření spor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16560" y="5710320"/>
            <a:ext cx="2500200" cy="363600"/>
          </a:xfrm>
          <a:prstGeom prst="wedgeRectCallout">
            <a:avLst>
              <a:gd name="adj1" fmla="val -86634"/>
              <a:gd name="adj2" fmla="val -4650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ízká účin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35560" y="3236760"/>
            <a:ext cx="2173320" cy="617760"/>
          </a:xfrm>
          <a:prstGeom prst="wedgeRectCallout">
            <a:avLst>
              <a:gd name="adj1" fmla="val -81847"/>
              <a:gd name="adj2" fmla="val 11452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 nyní na nízké úrov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62320" y="6323040"/>
            <a:ext cx="3508560" cy="760320"/>
          </a:xfrm>
          <a:prstGeom prst="wedgeRectCallout">
            <a:avLst>
              <a:gd name="adj1" fmla="val -69412"/>
              <a:gd name="adj2" fmla="val 3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távka po vodě nepružná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tížná realizova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05360" y="1836720"/>
            <a:ext cx="3063600" cy="615960"/>
          </a:xfrm>
          <a:prstGeom prst="wedgeRectCallout">
            <a:avLst>
              <a:gd name="adj1" fmla="val -70518"/>
              <a:gd name="adj2" fmla="val -463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lňující opatření tam, kde je nízké napojení na Č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320" y="3090960"/>
            <a:ext cx="1904760" cy="936360"/>
          </a:xfrm>
          <a:prstGeom prst="wedgeRectCallout">
            <a:avLst>
              <a:gd name="adj1" fmla="val 57416"/>
              <a:gd name="adj2" fmla="val -389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ízká účinnos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alizova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Tahoma"/>
              </a:rPr>
              <a:t>2. </a:t>
            </a: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fáze</a:t>
            </a:r>
            <a:r>
              <a:rPr b="1" lang="de-DE" sz="2400" spc="-1" strike="noStrike">
                <a:solidFill>
                  <a:srgbClr val="008000"/>
                </a:solidFill>
                <a:latin typeface="Tahoma"/>
              </a:rPr>
              <a:t>: </a:t>
            </a: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Tvorba kombinací opatření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5280" y="812880"/>
            <a:ext cx="7845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Výchozí bod: Matrice účinků jednotlivých opatř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(ve vazbě na bilanční oblast)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6920" y="1625760"/>
          <a:ext cx="8583480" cy="3814560"/>
        </p:xfrm>
        <a:graphic>
          <a:graphicData uri="http://schemas.openxmlformats.org/drawingml/2006/table">
            <a:tbl>
              <a:tblPr/>
              <a:tblGrid>
                <a:gridCol w="1488960"/>
                <a:gridCol w="914400"/>
                <a:gridCol w="947880"/>
                <a:gridCol w="847800"/>
                <a:gridCol w="1188720"/>
                <a:gridCol w="1016280"/>
                <a:gridCol w="1110960"/>
                <a:gridCol w="1068480"/>
              </a:tblGrid>
              <a:tr h="57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dnotlivá opatření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ivy na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„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rý stav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-klady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ší vlivy, </a:t>
                      </a:r>
                      <a:br>
                        <a:rPr sz="1400"/>
                      </a:b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o-vatelnost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jistota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átkový odnos dusíku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átkový odnos fosforu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€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ečnost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had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roda a krajina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had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ova-telnost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br>
                        <a:rPr sz="1400"/>
                      </a:b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tan</a:t>
                      </a: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had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jistota dosažení cíl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had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 cí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78422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ahoma"/>
              </a:rPr>
              <a:t>Příklad seskupování podle stavebnicového principu</a:t>
            </a:r>
            <a:endParaRPr b="1" lang="en-US" sz="2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371520" y="1168560"/>
            <a:ext cx="598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50840" y="5222880"/>
            <a:ext cx="17701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Reduk</a:t>
            </a: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ční cí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19000" y="1352520"/>
          <a:ext cx="6196320" cy="1819440"/>
        </p:xfrm>
        <a:graphic>
          <a:graphicData uri="http://schemas.openxmlformats.org/drawingml/2006/table">
            <a:tbl>
              <a:tblPr/>
              <a:tblGrid>
                <a:gridCol w="1252800"/>
                <a:gridCol w="2128680"/>
                <a:gridCol w="2000160"/>
                <a:gridCol w="814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tření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ktiv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ákladů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[€/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k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 [t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řad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i="1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703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51000" y="866880"/>
            <a:ext cx="8793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Cíl: Snížení odnosu znečišťujících látek z  2500 t na 2100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57360" y="3517920"/>
          <a:ext cx="4281480" cy="295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3517920"/>
                    <a:ext cx="428148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flipV="1">
            <a:off x="1351080" y="5556240"/>
            <a:ext cx="36590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11800" y="3701880"/>
            <a:ext cx="32018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Tato idea se používá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ahoma"/>
              </a:rPr>
              <a:t>k tvorbě různých kombinací opatření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2480" y="3810240"/>
            <a:ext cx="393480" cy="21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nížení koncentra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5:49:29Z</dcterms:created>
  <dc:creator>B. Klauser / Marie Matulíková</dc:creator>
  <dc:description/>
  <dc:language>en-US</dc:language>
  <cp:lastModifiedBy>Knotec</cp:lastModifiedBy>
  <dcterms:modified xsi:type="dcterms:W3CDTF">2006-03-01T10:12:03Z</dcterms:modified>
  <cp:revision>131</cp:revision>
  <dc:subject>Příklad Bílý Halštrov - prezentace </dc:subject>
  <dc:title>Výběr opatření podle Rámcové směrnice</dc:title>
</cp:coreProperties>
</file>